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116B-4B35-4847-B62B-D95E31E5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3A97-9B72-4F0E-B9C8-744439D1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4E5E-F1E4-40D2-B97A-3126B31A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56E7-4F57-4FAF-8BE8-5047D39C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AAD1-5C63-4F55-B062-0332B777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9D8F-A6C0-4DA0-BEA3-7F0101B9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0982-5AB7-470C-8F17-102C0A5F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2916-CDAC-4261-AF24-0923B198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BFC1-2CE9-4017-A60B-CBFDC148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FBBA-9EEF-48AF-A046-CA4190F8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2D8A-016A-475E-892D-3EC5BBDF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4D91-04D5-4BB2-8DAE-F50DF985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9D79-D4E1-494D-BB84-5F555625A0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Begin to get ready for 5.4 and 5.5 </a:t>
            </a: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quiz Friday!!!!!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Ink 4"/>
          <p:cNvSpPr/>
          <p:nvPr/>
        </p:nvSpPr>
        <p:spPr>
          <a:xfrm>
            <a:off x="758880" y="1482840"/>
            <a:ext cx="519120" cy="303120"/>
          </a:xfrm>
          <a:custGeom>
            <a:avLst/>
            <a:gdLst/>
            <a:ahLst/>
            <a:rect l="l" t="t" r="r" b="b"/>
            <a:pathLst>
              <a:path w="1440" h="844">
                <a:moveTo>
                  <a:pt x="2530" y="4316"/>
                </a:moveTo>
                <a:cubicBezTo>
                  <a:pt x="2538" y="4333"/>
                  <a:pt x="2547" y="4349"/>
                  <a:pt x="2555" y="4366"/>
                </a:cubicBezTo>
                <a:cubicBezTo>
                  <a:pt x="2514" y="4298"/>
                  <a:pt x="2538" y="4259"/>
                  <a:pt x="2431" y="4242"/>
                </a:cubicBezTo>
                <a:cubicBezTo>
                  <a:pt x="2329" y="4226"/>
                  <a:pt x="2261" y="4294"/>
                  <a:pt x="2183" y="4341"/>
                </a:cubicBezTo>
                <a:cubicBezTo>
                  <a:pt x="2134" y="4371"/>
                  <a:pt x="2060" y="4435"/>
                  <a:pt x="2133" y="4490"/>
                </a:cubicBezTo>
                <a:cubicBezTo>
                  <a:pt x="2208" y="4546"/>
                  <a:pt x="2274" y="4562"/>
                  <a:pt x="2356" y="4614"/>
                </a:cubicBezTo>
                <a:cubicBezTo>
                  <a:pt x="2400" y="4642"/>
                  <a:pt x="2541" y="4705"/>
                  <a:pt x="2555" y="4762"/>
                </a:cubicBezTo>
                <a:cubicBezTo>
                  <a:pt x="2592" y="4909"/>
                  <a:pt x="2477" y="4903"/>
                  <a:pt x="2381" y="4936"/>
                </a:cubicBezTo>
                <a:cubicBezTo>
                  <a:pt x="2301" y="4964"/>
                  <a:pt x="2211" y="4984"/>
                  <a:pt x="2133" y="4936"/>
                </a:cubicBezTo>
                <a:cubicBezTo>
                  <a:pt x="2103" y="4906"/>
                  <a:pt x="2098" y="4892"/>
                  <a:pt x="2133" y="4862"/>
                </a:cubicBezTo>
              </a:path>
              <a:path w="1440" h="844">
                <a:moveTo>
                  <a:pt x="2803" y="4465"/>
                </a:moveTo>
                <a:cubicBezTo>
                  <a:pt x="2828" y="4582"/>
                  <a:pt x="2809" y="4625"/>
                  <a:pt x="2803" y="4738"/>
                </a:cubicBezTo>
                <a:cubicBezTo>
                  <a:pt x="2802" y="4765"/>
                  <a:pt x="2849" y="4921"/>
                  <a:pt x="2853" y="4911"/>
                </a:cubicBezTo>
                <a:cubicBezTo>
                  <a:pt x="2853" y="4886"/>
                  <a:pt x="2853" y="4862"/>
                  <a:pt x="2853" y="4837"/>
                </a:cubicBezTo>
              </a:path>
              <a:path w="1440" h="844">
                <a:moveTo>
                  <a:pt x="2877" y="4118"/>
                </a:moveTo>
                <a:lnTo>
                  <a:pt x="2877" y="4118"/>
                </a:lnTo>
              </a:path>
              <a:path w="1440" h="844">
                <a:moveTo>
                  <a:pt x="3026" y="4638"/>
                </a:moveTo>
                <a:cubicBezTo>
                  <a:pt x="3044" y="4726"/>
                  <a:pt x="3065" y="4803"/>
                  <a:pt x="3076" y="4887"/>
                </a:cubicBezTo>
                <a:cubicBezTo>
                  <a:pt x="3076" y="4774"/>
                  <a:pt x="3088" y="4670"/>
                  <a:pt x="3101" y="4564"/>
                </a:cubicBezTo>
                <a:cubicBezTo>
                  <a:pt x="3112" y="4479"/>
                  <a:pt x="3101" y="4351"/>
                  <a:pt x="3200" y="4316"/>
                </a:cubicBezTo>
                <a:cubicBezTo>
                  <a:pt x="3309" y="4277"/>
                  <a:pt x="3349" y="4422"/>
                  <a:pt x="3373" y="4490"/>
                </a:cubicBezTo>
                <a:cubicBezTo>
                  <a:pt x="3399" y="4566"/>
                  <a:pt x="3416" y="4642"/>
                  <a:pt x="3448" y="4713"/>
                </a:cubicBezTo>
                <a:cubicBezTo>
                  <a:pt x="3459" y="4736"/>
                  <a:pt x="3488" y="4906"/>
                  <a:pt x="3497" y="4911"/>
                </a:cubicBezTo>
                <a:cubicBezTo>
                  <a:pt x="3522" y="4887"/>
                  <a:pt x="3531" y="4879"/>
                  <a:pt x="3547" y="48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Ink 5"/>
          <p:cNvSpPr/>
          <p:nvPr/>
        </p:nvSpPr>
        <p:spPr>
          <a:xfrm>
            <a:off x="1455840" y="1446120"/>
            <a:ext cx="901440" cy="349200"/>
          </a:xfrm>
          <a:custGeom>
            <a:avLst/>
            <a:gdLst/>
            <a:ahLst/>
            <a:rect l="l" t="t" r="r" b="b"/>
            <a:pathLst>
              <a:path w="2506" h="969">
                <a:moveTo>
                  <a:pt x="4043" y="4415"/>
                </a:moveTo>
                <a:cubicBezTo>
                  <a:pt x="4043" y="4536"/>
                  <a:pt x="4024" y="4672"/>
                  <a:pt x="4068" y="4787"/>
                </a:cubicBezTo>
                <a:cubicBezTo>
                  <a:pt x="4098" y="4866"/>
                  <a:pt x="4147" y="4888"/>
                  <a:pt x="4217" y="4837"/>
                </a:cubicBezTo>
                <a:cubicBezTo>
                  <a:pt x="4260" y="4805"/>
                  <a:pt x="4292" y="4759"/>
                  <a:pt x="4316" y="4713"/>
                </a:cubicBezTo>
                <a:cubicBezTo>
                  <a:pt x="4356" y="4638"/>
                  <a:pt x="4362" y="4525"/>
                  <a:pt x="4366" y="4440"/>
                </a:cubicBezTo>
                <a:cubicBezTo>
                  <a:pt x="4366" y="4423"/>
                  <a:pt x="4366" y="4407"/>
                  <a:pt x="4366" y="4390"/>
                </a:cubicBezTo>
                <a:cubicBezTo>
                  <a:pt x="4366" y="4517"/>
                  <a:pt x="4368" y="4649"/>
                  <a:pt x="4390" y="4762"/>
                </a:cubicBezTo>
                <a:cubicBezTo>
                  <a:pt x="4399" y="4809"/>
                  <a:pt x="4409" y="4917"/>
                  <a:pt x="4490" y="4911"/>
                </a:cubicBezTo>
                <a:cubicBezTo>
                  <a:pt x="4498" y="4903"/>
                  <a:pt x="4506" y="4895"/>
                  <a:pt x="4514" y="4887"/>
                </a:cubicBezTo>
              </a:path>
              <a:path w="2506" h="969">
                <a:moveTo>
                  <a:pt x="4713" y="4415"/>
                </a:moveTo>
                <a:cubicBezTo>
                  <a:pt x="4788" y="4394"/>
                  <a:pt x="4862" y="4383"/>
                  <a:pt x="4936" y="4366"/>
                </a:cubicBezTo>
                <a:cubicBezTo>
                  <a:pt x="4944" y="4366"/>
                  <a:pt x="4953" y="4366"/>
                  <a:pt x="4961" y="4366"/>
                </a:cubicBezTo>
              </a:path>
              <a:path w="2506" h="969">
                <a:moveTo>
                  <a:pt x="4787" y="4614"/>
                </a:moveTo>
                <a:cubicBezTo>
                  <a:pt x="4854" y="4632"/>
                  <a:pt x="4888" y="4621"/>
                  <a:pt x="4961" y="4589"/>
                </a:cubicBezTo>
                <a:cubicBezTo>
                  <a:pt x="4978" y="4581"/>
                  <a:pt x="4994" y="4572"/>
                  <a:pt x="5011" y="4564"/>
                </a:cubicBezTo>
              </a:path>
              <a:path w="2506" h="969">
                <a:moveTo>
                  <a:pt x="5432" y="4118"/>
                </a:moveTo>
                <a:cubicBezTo>
                  <a:pt x="5524" y="4089"/>
                  <a:pt x="5635" y="4034"/>
                  <a:pt x="5730" y="4018"/>
                </a:cubicBezTo>
              </a:path>
              <a:path w="2506" h="969">
                <a:moveTo>
                  <a:pt x="5457" y="4068"/>
                </a:moveTo>
                <a:cubicBezTo>
                  <a:pt x="5401" y="4143"/>
                  <a:pt x="5356" y="4155"/>
                  <a:pt x="5407" y="4192"/>
                </a:cubicBezTo>
                <a:cubicBezTo>
                  <a:pt x="5478" y="4235"/>
                  <a:pt x="5549" y="4198"/>
                  <a:pt x="5631" y="4217"/>
                </a:cubicBezTo>
                <a:cubicBezTo>
                  <a:pt x="5700" y="4233"/>
                  <a:pt x="5782" y="4308"/>
                  <a:pt x="5730" y="4390"/>
                </a:cubicBezTo>
                <a:cubicBezTo>
                  <a:pt x="5656" y="4506"/>
                  <a:pt x="5565" y="4543"/>
                  <a:pt x="5432" y="4514"/>
                </a:cubicBezTo>
                <a:cubicBezTo>
                  <a:pt x="5369" y="4500"/>
                  <a:pt x="5423" y="4415"/>
                  <a:pt x="5432" y="4390"/>
                </a:cubicBezTo>
              </a:path>
              <a:path w="2506" h="969">
                <a:moveTo>
                  <a:pt x="5978" y="4018"/>
                </a:moveTo>
                <a:cubicBezTo>
                  <a:pt x="5925" y="4162"/>
                  <a:pt x="5856" y="4297"/>
                  <a:pt x="5804" y="4440"/>
                </a:cubicBezTo>
                <a:cubicBezTo>
                  <a:pt x="5764" y="4549"/>
                  <a:pt x="5725" y="4654"/>
                  <a:pt x="5680" y="4762"/>
                </a:cubicBezTo>
                <a:cubicBezTo>
                  <a:pt x="5669" y="4789"/>
                  <a:pt x="5571" y="4935"/>
                  <a:pt x="5606" y="4961"/>
                </a:cubicBezTo>
                <a:cubicBezTo>
                  <a:pt x="5614" y="4953"/>
                  <a:pt x="5623" y="4944"/>
                  <a:pt x="5631" y="4936"/>
                </a:cubicBezTo>
              </a:path>
              <a:path w="2506" h="969">
                <a:moveTo>
                  <a:pt x="6028" y="4564"/>
                </a:moveTo>
                <a:cubicBezTo>
                  <a:pt x="6007" y="4654"/>
                  <a:pt x="5968" y="4749"/>
                  <a:pt x="5953" y="4837"/>
                </a:cubicBezTo>
                <a:cubicBezTo>
                  <a:pt x="5944" y="4894"/>
                  <a:pt x="5945" y="4964"/>
                  <a:pt x="5978" y="4986"/>
                </a:cubicBezTo>
              </a:path>
              <a:path w="2506" h="969">
                <a:moveTo>
                  <a:pt x="6325" y="4465"/>
                </a:moveTo>
                <a:cubicBezTo>
                  <a:pt x="6436" y="4446"/>
                  <a:pt x="6458" y="4411"/>
                  <a:pt x="6499" y="4465"/>
                </a:cubicBezTo>
                <a:cubicBezTo>
                  <a:pt x="6484" y="4556"/>
                  <a:pt x="6466" y="4596"/>
                  <a:pt x="6400" y="4663"/>
                </a:cubicBezTo>
                <a:cubicBezTo>
                  <a:pt x="6375" y="4688"/>
                  <a:pt x="6367" y="4696"/>
                  <a:pt x="6350" y="4713"/>
                </a:cubicBezTo>
                <a:cubicBezTo>
                  <a:pt x="6418" y="4732"/>
                  <a:pt x="6529" y="4726"/>
                  <a:pt x="6548" y="4812"/>
                </a:cubicBezTo>
                <a:cubicBezTo>
                  <a:pt x="6564" y="4885"/>
                  <a:pt x="6558" y="4966"/>
                  <a:pt x="6474" y="4986"/>
                </a:cubicBezTo>
                <a:cubicBezTo>
                  <a:pt x="6398" y="5004"/>
                  <a:pt x="6351" y="4987"/>
                  <a:pt x="6300" y="49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Ink 6"/>
          <p:cNvSpPr/>
          <p:nvPr/>
        </p:nvSpPr>
        <p:spPr>
          <a:xfrm>
            <a:off x="2724120" y="1374840"/>
            <a:ext cx="1071720" cy="492120"/>
          </a:xfrm>
          <a:custGeom>
            <a:avLst/>
            <a:gdLst/>
            <a:ahLst/>
            <a:rect l="l" t="t" r="r" b="b"/>
            <a:pathLst>
              <a:path w="2978" h="1365">
                <a:moveTo>
                  <a:pt x="9128" y="4539"/>
                </a:moveTo>
                <a:cubicBezTo>
                  <a:pt x="9128" y="4636"/>
                  <a:pt x="9107" y="4717"/>
                  <a:pt x="9103" y="4812"/>
                </a:cubicBezTo>
                <a:cubicBezTo>
                  <a:pt x="9099" y="4915"/>
                  <a:pt x="9106" y="4956"/>
                  <a:pt x="9178" y="5035"/>
                </a:cubicBezTo>
                <a:cubicBezTo>
                  <a:pt x="9233" y="5095"/>
                  <a:pt x="9302" y="5055"/>
                  <a:pt x="9351" y="5011"/>
                </a:cubicBezTo>
                <a:cubicBezTo>
                  <a:pt x="9399" y="4968"/>
                  <a:pt x="9462" y="4891"/>
                  <a:pt x="9500" y="4837"/>
                </a:cubicBezTo>
                <a:cubicBezTo>
                  <a:pt x="9544" y="4775"/>
                  <a:pt x="9528" y="4683"/>
                  <a:pt x="9550" y="4614"/>
                </a:cubicBezTo>
                <a:cubicBezTo>
                  <a:pt x="9558" y="4597"/>
                  <a:pt x="9567" y="4581"/>
                  <a:pt x="9575" y="4564"/>
                </a:cubicBezTo>
                <a:cubicBezTo>
                  <a:pt x="9543" y="4628"/>
                  <a:pt x="9528" y="4709"/>
                  <a:pt x="9525" y="4787"/>
                </a:cubicBezTo>
                <a:cubicBezTo>
                  <a:pt x="9522" y="4863"/>
                  <a:pt x="9516" y="4975"/>
                  <a:pt x="9575" y="5035"/>
                </a:cubicBezTo>
                <a:cubicBezTo>
                  <a:pt x="9612" y="5073"/>
                  <a:pt x="9653" y="5078"/>
                  <a:pt x="9699" y="5085"/>
                </a:cubicBezTo>
              </a:path>
              <a:path w="2978" h="1365">
                <a:moveTo>
                  <a:pt x="7565" y="3994"/>
                </a:moveTo>
                <a:cubicBezTo>
                  <a:pt x="7647" y="3947"/>
                  <a:pt x="7714" y="3931"/>
                  <a:pt x="7813" y="3919"/>
                </a:cubicBezTo>
                <a:cubicBezTo>
                  <a:pt x="7924" y="3906"/>
                  <a:pt x="8008" y="3920"/>
                  <a:pt x="8111" y="3870"/>
                </a:cubicBezTo>
              </a:path>
              <a:path w="2978" h="1365">
                <a:moveTo>
                  <a:pt x="7813" y="3994"/>
                </a:moveTo>
                <a:cubicBezTo>
                  <a:pt x="7813" y="4092"/>
                  <a:pt x="7782" y="4276"/>
                  <a:pt x="7838" y="4366"/>
                </a:cubicBezTo>
                <a:cubicBezTo>
                  <a:pt x="7861" y="4388"/>
                  <a:pt x="7866" y="4396"/>
                  <a:pt x="7888" y="4390"/>
                </a:cubicBezTo>
              </a:path>
              <a:path w="2978" h="1365">
                <a:moveTo>
                  <a:pt x="8012" y="3944"/>
                </a:moveTo>
                <a:cubicBezTo>
                  <a:pt x="8012" y="4082"/>
                  <a:pt x="7985" y="4271"/>
                  <a:pt x="8037" y="4390"/>
                </a:cubicBezTo>
              </a:path>
              <a:path w="2978" h="1365">
                <a:moveTo>
                  <a:pt x="8384" y="3820"/>
                </a:moveTo>
                <a:cubicBezTo>
                  <a:pt x="8384" y="3951"/>
                  <a:pt x="8377" y="4066"/>
                  <a:pt x="8334" y="4192"/>
                </a:cubicBezTo>
                <a:cubicBezTo>
                  <a:pt x="8288" y="4328"/>
                  <a:pt x="8224" y="4449"/>
                  <a:pt x="8186" y="4589"/>
                </a:cubicBezTo>
                <a:cubicBezTo>
                  <a:pt x="8151" y="4718"/>
                  <a:pt x="8076" y="4812"/>
                  <a:pt x="8037" y="4936"/>
                </a:cubicBezTo>
                <a:cubicBezTo>
                  <a:pt x="8037" y="4988"/>
                  <a:pt x="8036" y="5006"/>
                  <a:pt x="8012" y="5035"/>
                </a:cubicBezTo>
              </a:path>
              <a:path w="2978" h="1365">
                <a:moveTo>
                  <a:pt x="8210" y="4713"/>
                </a:moveTo>
                <a:cubicBezTo>
                  <a:pt x="8267" y="4672"/>
                  <a:pt x="8373" y="4570"/>
                  <a:pt x="8458" y="4589"/>
                </a:cubicBezTo>
                <a:cubicBezTo>
                  <a:pt x="8522" y="4603"/>
                  <a:pt x="8573" y="4672"/>
                  <a:pt x="8558" y="4738"/>
                </a:cubicBezTo>
                <a:cubicBezTo>
                  <a:pt x="8541" y="4813"/>
                  <a:pt x="8472" y="4874"/>
                  <a:pt x="8434" y="4936"/>
                </a:cubicBezTo>
                <a:cubicBezTo>
                  <a:pt x="8392" y="5004"/>
                  <a:pt x="8384" y="5029"/>
                  <a:pt x="8384" y="5110"/>
                </a:cubicBezTo>
                <a:cubicBezTo>
                  <a:pt x="8497" y="5110"/>
                  <a:pt x="8543" y="5104"/>
                  <a:pt x="8632" y="5035"/>
                </a:cubicBezTo>
              </a:path>
              <a:path w="2978" h="1365">
                <a:moveTo>
                  <a:pt x="9054" y="4142"/>
                </a:moveTo>
                <a:cubicBezTo>
                  <a:pt x="8978" y="4304"/>
                  <a:pt x="8917" y="4372"/>
                  <a:pt x="8806" y="4514"/>
                </a:cubicBezTo>
                <a:cubicBezTo>
                  <a:pt x="8773" y="4556"/>
                  <a:pt x="8696" y="4609"/>
                  <a:pt x="8682" y="4663"/>
                </a:cubicBezTo>
                <a:cubicBezTo>
                  <a:pt x="8682" y="4680"/>
                  <a:pt x="8682" y="4696"/>
                  <a:pt x="8682" y="4713"/>
                </a:cubicBezTo>
                <a:cubicBezTo>
                  <a:pt x="8773" y="4774"/>
                  <a:pt x="8827" y="4766"/>
                  <a:pt x="8930" y="4787"/>
                </a:cubicBezTo>
                <a:cubicBezTo>
                  <a:pt x="9004" y="4812"/>
                  <a:pt x="9029" y="4821"/>
                  <a:pt x="9079" y="4837"/>
                </a:cubicBezTo>
              </a:path>
              <a:path w="2978" h="1365">
                <a:moveTo>
                  <a:pt x="10542" y="4167"/>
                </a:moveTo>
                <a:cubicBezTo>
                  <a:pt x="10471" y="4248"/>
                  <a:pt x="10406" y="4322"/>
                  <a:pt x="10319" y="4390"/>
                </a:cubicBezTo>
                <a:cubicBezTo>
                  <a:pt x="10226" y="4462"/>
                  <a:pt x="10132" y="4533"/>
                  <a:pt x="10046" y="4614"/>
                </a:cubicBezTo>
                <a:cubicBezTo>
                  <a:pt x="10001" y="4656"/>
                  <a:pt x="9925" y="4714"/>
                  <a:pt x="9947" y="4787"/>
                </a:cubicBezTo>
                <a:cubicBezTo>
                  <a:pt x="9962" y="4837"/>
                  <a:pt x="10057" y="4868"/>
                  <a:pt x="10096" y="4887"/>
                </a:cubicBezTo>
                <a:cubicBezTo>
                  <a:pt x="10187" y="4932"/>
                  <a:pt x="10254" y="4942"/>
                  <a:pt x="10319" y="5011"/>
                </a:cubicBezTo>
                <a:cubicBezTo>
                  <a:pt x="10374" y="5069"/>
                  <a:pt x="10435" y="5108"/>
                  <a:pt x="10492" y="5159"/>
                </a:cubicBezTo>
                <a:cubicBezTo>
                  <a:pt x="10500" y="5167"/>
                  <a:pt x="10509" y="5176"/>
                  <a:pt x="10517" y="51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Ink 7"/>
          <p:cNvSpPr/>
          <p:nvPr/>
        </p:nvSpPr>
        <p:spPr>
          <a:xfrm>
            <a:off x="3973680" y="1589040"/>
            <a:ext cx="233280" cy="268200"/>
          </a:xfrm>
          <a:custGeom>
            <a:avLst/>
            <a:gdLst/>
            <a:ahLst/>
            <a:rect l="l" t="t" r="r" b="b"/>
            <a:pathLst>
              <a:path w="646" h="745">
                <a:moveTo>
                  <a:pt x="11038" y="4465"/>
                </a:moveTo>
                <a:cubicBezTo>
                  <a:pt x="11106" y="4397"/>
                  <a:pt x="11167" y="4415"/>
                  <a:pt x="11261" y="4415"/>
                </a:cubicBezTo>
                <a:cubicBezTo>
                  <a:pt x="11393" y="4415"/>
                  <a:pt x="11504" y="4433"/>
                  <a:pt x="11633" y="4415"/>
                </a:cubicBezTo>
                <a:cubicBezTo>
                  <a:pt x="11650" y="4415"/>
                  <a:pt x="11666" y="4415"/>
                  <a:pt x="11683" y="4415"/>
                </a:cubicBezTo>
              </a:path>
              <a:path w="646" h="745">
                <a:moveTo>
                  <a:pt x="11212" y="4564"/>
                </a:moveTo>
                <a:cubicBezTo>
                  <a:pt x="11171" y="4656"/>
                  <a:pt x="11032" y="4869"/>
                  <a:pt x="11063" y="4986"/>
                </a:cubicBezTo>
                <a:cubicBezTo>
                  <a:pt x="11088" y="5078"/>
                  <a:pt x="11091" y="5079"/>
                  <a:pt x="11187" y="5060"/>
                </a:cubicBezTo>
              </a:path>
              <a:path w="646" h="745">
                <a:moveTo>
                  <a:pt x="11460" y="4638"/>
                </a:moveTo>
                <a:cubicBezTo>
                  <a:pt x="11460" y="4798"/>
                  <a:pt x="11434" y="4950"/>
                  <a:pt x="11534" y="5085"/>
                </a:cubicBezTo>
                <a:cubicBezTo>
                  <a:pt x="11576" y="5127"/>
                  <a:pt x="11583" y="5135"/>
                  <a:pt x="11609" y="51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nk 8"/>
          <p:cNvSpPr/>
          <p:nvPr/>
        </p:nvSpPr>
        <p:spPr>
          <a:xfrm>
            <a:off x="1589040" y="2009880"/>
            <a:ext cx="4662360" cy="955440"/>
          </a:xfrm>
          <a:custGeom>
            <a:avLst/>
            <a:gdLst/>
            <a:ahLst/>
            <a:rect l="l" t="t" r="r" b="b"/>
            <a:pathLst>
              <a:path w="12949" h="2655">
                <a:moveTo>
                  <a:pt x="4415" y="6846"/>
                </a:moveTo>
                <a:cubicBezTo>
                  <a:pt x="4466" y="6805"/>
                  <a:pt x="4514" y="6801"/>
                  <a:pt x="4564" y="6772"/>
                </a:cubicBezTo>
              </a:path>
              <a:path w="12949" h="2655">
                <a:moveTo>
                  <a:pt x="4465" y="6970"/>
                </a:moveTo>
                <a:cubicBezTo>
                  <a:pt x="4547" y="7001"/>
                  <a:pt x="4548" y="6995"/>
                  <a:pt x="4638" y="6970"/>
                </a:cubicBezTo>
              </a:path>
              <a:path w="12949" h="2655">
                <a:moveTo>
                  <a:pt x="5383" y="6375"/>
                </a:moveTo>
                <a:cubicBezTo>
                  <a:pt x="5357" y="6451"/>
                  <a:pt x="5358" y="6516"/>
                  <a:pt x="5358" y="6598"/>
                </a:cubicBezTo>
                <a:cubicBezTo>
                  <a:pt x="5358" y="6656"/>
                  <a:pt x="5358" y="6714"/>
                  <a:pt x="5358" y="6772"/>
                </a:cubicBezTo>
              </a:path>
              <a:path w="12949" h="2655">
                <a:moveTo>
                  <a:pt x="5184" y="6648"/>
                </a:moveTo>
                <a:cubicBezTo>
                  <a:pt x="5243" y="6612"/>
                  <a:pt x="5296" y="6647"/>
                  <a:pt x="5358" y="6623"/>
                </a:cubicBezTo>
                <a:cubicBezTo>
                  <a:pt x="5415" y="6601"/>
                  <a:pt x="5432" y="6598"/>
                  <a:pt x="5507" y="6598"/>
                </a:cubicBezTo>
              </a:path>
              <a:path w="12949" h="2655">
                <a:moveTo>
                  <a:pt x="5680" y="6400"/>
                </a:moveTo>
                <a:cubicBezTo>
                  <a:pt x="5764" y="6395"/>
                  <a:pt x="5808" y="6350"/>
                  <a:pt x="5879" y="6424"/>
                </a:cubicBezTo>
                <a:cubicBezTo>
                  <a:pt x="5946" y="6494"/>
                  <a:pt x="5920" y="6588"/>
                  <a:pt x="5928" y="6672"/>
                </a:cubicBezTo>
                <a:cubicBezTo>
                  <a:pt x="5940" y="6795"/>
                  <a:pt x="5953" y="6917"/>
                  <a:pt x="5953" y="7045"/>
                </a:cubicBezTo>
                <a:cubicBezTo>
                  <a:pt x="5953" y="7295"/>
                  <a:pt x="5942" y="7545"/>
                  <a:pt x="5928" y="7789"/>
                </a:cubicBezTo>
                <a:cubicBezTo>
                  <a:pt x="5928" y="7838"/>
                  <a:pt x="5928" y="7855"/>
                  <a:pt x="5928" y="7888"/>
                </a:cubicBezTo>
                <a:cubicBezTo>
                  <a:pt x="5945" y="7802"/>
                  <a:pt x="5954" y="7724"/>
                  <a:pt x="5978" y="7640"/>
                </a:cubicBezTo>
                <a:cubicBezTo>
                  <a:pt x="6027" y="7468"/>
                  <a:pt x="6078" y="7296"/>
                  <a:pt x="6102" y="7119"/>
                </a:cubicBezTo>
                <a:cubicBezTo>
                  <a:pt x="6120" y="6988"/>
                  <a:pt x="6105" y="6853"/>
                  <a:pt x="6127" y="6722"/>
                </a:cubicBezTo>
                <a:cubicBezTo>
                  <a:pt x="6149" y="6590"/>
                  <a:pt x="6154" y="6456"/>
                  <a:pt x="6176" y="6325"/>
                </a:cubicBezTo>
                <a:cubicBezTo>
                  <a:pt x="6194" y="6214"/>
                  <a:pt x="6230" y="6112"/>
                  <a:pt x="6251" y="6003"/>
                </a:cubicBezTo>
                <a:cubicBezTo>
                  <a:pt x="6265" y="5928"/>
                  <a:pt x="6266" y="5854"/>
                  <a:pt x="6276" y="5779"/>
                </a:cubicBezTo>
                <a:cubicBezTo>
                  <a:pt x="6284" y="5718"/>
                  <a:pt x="6312" y="5663"/>
                  <a:pt x="6325" y="5606"/>
                </a:cubicBezTo>
                <a:cubicBezTo>
                  <a:pt x="6407" y="5634"/>
                  <a:pt x="6487" y="5669"/>
                  <a:pt x="6573" y="5680"/>
                </a:cubicBezTo>
                <a:cubicBezTo>
                  <a:pt x="6650" y="5690"/>
                  <a:pt x="6719" y="5700"/>
                  <a:pt x="6796" y="5705"/>
                </a:cubicBezTo>
                <a:cubicBezTo>
                  <a:pt x="6906" y="5712"/>
                  <a:pt x="7010" y="5723"/>
                  <a:pt x="7119" y="5730"/>
                </a:cubicBezTo>
                <a:cubicBezTo>
                  <a:pt x="7309" y="5742"/>
                  <a:pt x="7498" y="5752"/>
                  <a:pt x="7689" y="5755"/>
                </a:cubicBezTo>
                <a:cubicBezTo>
                  <a:pt x="7840" y="5758"/>
                  <a:pt x="7983" y="5779"/>
                  <a:pt x="8136" y="5779"/>
                </a:cubicBezTo>
                <a:cubicBezTo>
                  <a:pt x="8369" y="5779"/>
                  <a:pt x="8606" y="5770"/>
                  <a:pt x="8830" y="5755"/>
                </a:cubicBezTo>
                <a:cubicBezTo>
                  <a:pt x="8899" y="5750"/>
                  <a:pt x="8978" y="5767"/>
                  <a:pt x="9029" y="5705"/>
                </a:cubicBezTo>
                <a:cubicBezTo>
                  <a:pt x="9021" y="5697"/>
                  <a:pt x="9012" y="5688"/>
                  <a:pt x="9004" y="5680"/>
                </a:cubicBezTo>
              </a:path>
              <a:path w="12949" h="2655">
                <a:moveTo>
                  <a:pt x="6747" y="6003"/>
                </a:moveTo>
                <a:cubicBezTo>
                  <a:pt x="6747" y="6205"/>
                  <a:pt x="6520" y="6602"/>
                  <a:pt x="6722" y="6598"/>
                </a:cubicBezTo>
                <a:cubicBezTo>
                  <a:pt x="6730" y="6590"/>
                  <a:pt x="6739" y="6581"/>
                  <a:pt x="6747" y="6573"/>
                </a:cubicBezTo>
              </a:path>
              <a:path w="12949" h="2655">
                <a:moveTo>
                  <a:pt x="7020" y="6325"/>
                </a:moveTo>
                <a:cubicBezTo>
                  <a:pt x="7165" y="6325"/>
                  <a:pt x="7299" y="6327"/>
                  <a:pt x="7441" y="6300"/>
                </a:cubicBezTo>
              </a:path>
              <a:path w="12949" h="2655">
                <a:moveTo>
                  <a:pt x="7739" y="6003"/>
                </a:moveTo>
                <a:cubicBezTo>
                  <a:pt x="7739" y="6084"/>
                  <a:pt x="7727" y="6158"/>
                  <a:pt x="7714" y="6226"/>
                </a:cubicBezTo>
                <a:cubicBezTo>
                  <a:pt x="7714" y="6276"/>
                  <a:pt x="7714" y="6292"/>
                  <a:pt x="7714" y="6325"/>
                </a:cubicBezTo>
              </a:path>
              <a:path w="12949" h="2655">
                <a:moveTo>
                  <a:pt x="7888" y="6003"/>
                </a:moveTo>
                <a:cubicBezTo>
                  <a:pt x="7930" y="5991"/>
                  <a:pt x="8076" y="5937"/>
                  <a:pt x="8037" y="6052"/>
                </a:cubicBezTo>
                <a:cubicBezTo>
                  <a:pt x="8018" y="6108"/>
                  <a:pt x="7963" y="6150"/>
                  <a:pt x="7913" y="6176"/>
                </a:cubicBezTo>
                <a:cubicBezTo>
                  <a:pt x="7896" y="6184"/>
                  <a:pt x="7880" y="6193"/>
                  <a:pt x="7863" y="6201"/>
                </a:cubicBezTo>
                <a:cubicBezTo>
                  <a:pt x="7931" y="6235"/>
                  <a:pt x="8005" y="6226"/>
                  <a:pt x="8086" y="6226"/>
                </a:cubicBezTo>
                <a:cubicBezTo>
                  <a:pt x="8127" y="6226"/>
                  <a:pt x="8169" y="6226"/>
                  <a:pt x="8210" y="6226"/>
                </a:cubicBezTo>
              </a:path>
              <a:path w="12949" h="2655">
                <a:moveTo>
                  <a:pt x="7665" y="6400"/>
                </a:moveTo>
                <a:cubicBezTo>
                  <a:pt x="7822" y="6400"/>
                  <a:pt x="7979" y="6400"/>
                  <a:pt x="8136" y="6400"/>
                </a:cubicBezTo>
              </a:path>
              <a:path w="12949" h="2655">
                <a:moveTo>
                  <a:pt x="7838" y="6573"/>
                </a:moveTo>
                <a:cubicBezTo>
                  <a:pt x="7857" y="6624"/>
                  <a:pt x="7881" y="6702"/>
                  <a:pt x="7888" y="6747"/>
                </a:cubicBezTo>
                <a:cubicBezTo>
                  <a:pt x="7899" y="6821"/>
                  <a:pt x="7854" y="6866"/>
                  <a:pt x="7913" y="6846"/>
                </a:cubicBezTo>
              </a:path>
              <a:path w="12949" h="2655">
                <a:moveTo>
                  <a:pt x="8062" y="6598"/>
                </a:moveTo>
                <a:cubicBezTo>
                  <a:pt x="8120" y="6590"/>
                  <a:pt x="8177" y="6581"/>
                  <a:pt x="8235" y="6573"/>
                </a:cubicBezTo>
                <a:cubicBezTo>
                  <a:pt x="8227" y="6629"/>
                  <a:pt x="8139" y="6698"/>
                  <a:pt x="8136" y="6722"/>
                </a:cubicBezTo>
                <a:cubicBezTo>
                  <a:pt x="8130" y="6769"/>
                  <a:pt x="8229" y="6815"/>
                  <a:pt x="8260" y="6846"/>
                </a:cubicBezTo>
                <a:cubicBezTo>
                  <a:pt x="8285" y="6871"/>
                  <a:pt x="8293" y="6879"/>
                  <a:pt x="8310" y="6896"/>
                </a:cubicBezTo>
                <a:cubicBezTo>
                  <a:pt x="8243" y="6949"/>
                  <a:pt x="8196" y="6945"/>
                  <a:pt x="8111" y="6945"/>
                </a:cubicBezTo>
                <a:cubicBezTo>
                  <a:pt x="8060" y="6945"/>
                  <a:pt x="8042" y="6944"/>
                  <a:pt x="8012" y="6921"/>
                </a:cubicBezTo>
              </a:path>
              <a:path w="12949" h="2655">
                <a:moveTo>
                  <a:pt x="6846" y="6945"/>
                </a:moveTo>
                <a:cubicBezTo>
                  <a:pt x="7274" y="6945"/>
                  <a:pt x="7713" y="6919"/>
                  <a:pt x="8136" y="6970"/>
                </a:cubicBezTo>
                <a:cubicBezTo>
                  <a:pt x="8152" y="6972"/>
                  <a:pt x="8329" y="6970"/>
                  <a:pt x="8260" y="6970"/>
                </a:cubicBezTo>
              </a:path>
              <a:path w="12949" h="2655">
                <a:moveTo>
                  <a:pt x="7342" y="7268"/>
                </a:moveTo>
                <a:cubicBezTo>
                  <a:pt x="7418" y="7239"/>
                  <a:pt x="7511" y="7209"/>
                  <a:pt x="7590" y="7193"/>
                </a:cubicBezTo>
                <a:cubicBezTo>
                  <a:pt x="7641" y="7183"/>
                  <a:pt x="7672" y="7219"/>
                  <a:pt x="7714" y="7243"/>
                </a:cubicBezTo>
                <a:cubicBezTo>
                  <a:pt x="7686" y="7293"/>
                  <a:pt x="7645" y="7321"/>
                  <a:pt x="7615" y="7367"/>
                </a:cubicBezTo>
                <a:cubicBezTo>
                  <a:pt x="7561" y="7450"/>
                  <a:pt x="7518" y="7462"/>
                  <a:pt x="7441" y="7516"/>
                </a:cubicBezTo>
                <a:cubicBezTo>
                  <a:pt x="7378" y="7560"/>
                  <a:pt x="7324" y="7634"/>
                  <a:pt x="7268" y="7689"/>
                </a:cubicBezTo>
                <a:cubicBezTo>
                  <a:pt x="7366" y="7738"/>
                  <a:pt x="7454" y="7739"/>
                  <a:pt x="7565" y="7739"/>
                </a:cubicBezTo>
                <a:cubicBezTo>
                  <a:pt x="7654" y="7739"/>
                  <a:pt x="7765" y="7758"/>
                  <a:pt x="7838" y="7714"/>
                </a:cubicBezTo>
              </a:path>
              <a:path w="12949" h="2655">
                <a:moveTo>
                  <a:pt x="9153" y="6846"/>
                </a:moveTo>
                <a:cubicBezTo>
                  <a:pt x="9261" y="6865"/>
                  <a:pt x="9343" y="6871"/>
                  <a:pt x="9451" y="6871"/>
                </a:cubicBezTo>
              </a:path>
              <a:path w="12949" h="2655">
                <a:moveTo>
                  <a:pt x="9203" y="7045"/>
                </a:moveTo>
                <a:cubicBezTo>
                  <a:pt x="9287" y="7045"/>
                  <a:pt x="9347" y="7030"/>
                  <a:pt x="9426" y="7020"/>
                </a:cubicBezTo>
              </a:path>
              <a:path w="12949" h="2655">
                <a:moveTo>
                  <a:pt x="9897" y="6548"/>
                </a:moveTo>
                <a:cubicBezTo>
                  <a:pt x="9992" y="6552"/>
                  <a:pt x="10081" y="6534"/>
                  <a:pt x="10170" y="6573"/>
                </a:cubicBezTo>
                <a:cubicBezTo>
                  <a:pt x="10283" y="6623"/>
                  <a:pt x="10302" y="6735"/>
                  <a:pt x="10319" y="6846"/>
                </a:cubicBezTo>
                <a:cubicBezTo>
                  <a:pt x="10332" y="6933"/>
                  <a:pt x="10299" y="7012"/>
                  <a:pt x="10294" y="7094"/>
                </a:cubicBezTo>
                <a:cubicBezTo>
                  <a:pt x="10279" y="7349"/>
                  <a:pt x="10285" y="7616"/>
                  <a:pt x="10269" y="7863"/>
                </a:cubicBezTo>
                <a:cubicBezTo>
                  <a:pt x="10264" y="7939"/>
                  <a:pt x="10281" y="8001"/>
                  <a:pt x="10294" y="8062"/>
                </a:cubicBezTo>
                <a:cubicBezTo>
                  <a:pt x="10298" y="7977"/>
                  <a:pt x="10298" y="7895"/>
                  <a:pt x="10319" y="7813"/>
                </a:cubicBezTo>
                <a:cubicBezTo>
                  <a:pt x="10347" y="7703"/>
                  <a:pt x="10370" y="7601"/>
                  <a:pt x="10393" y="7491"/>
                </a:cubicBezTo>
                <a:cubicBezTo>
                  <a:pt x="10421" y="7359"/>
                  <a:pt x="10421" y="7226"/>
                  <a:pt x="10443" y="7094"/>
                </a:cubicBezTo>
                <a:cubicBezTo>
                  <a:pt x="10471" y="6930"/>
                  <a:pt x="10465" y="6762"/>
                  <a:pt x="10492" y="6598"/>
                </a:cubicBezTo>
                <a:cubicBezTo>
                  <a:pt x="10515" y="6459"/>
                  <a:pt x="10534" y="6316"/>
                  <a:pt x="10542" y="6176"/>
                </a:cubicBezTo>
                <a:cubicBezTo>
                  <a:pt x="10547" y="6092"/>
                  <a:pt x="10561" y="6005"/>
                  <a:pt x="10567" y="5928"/>
                </a:cubicBezTo>
                <a:cubicBezTo>
                  <a:pt x="10571" y="5872"/>
                  <a:pt x="10588" y="5797"/>
                  <a:pt x="10592" y="5755"/>
                </a:cubicBezTo>
                <a:cubicBezTo>
                  <a:pt x="10598" y="5687"/>
                  <a:pt x="10602" y="5643"/>
                  <a:pt x="10616" y="5581"/>
                </a:cubicBezTo>
                <a:cubicBezTo>
                  <a:pt x="10686" y="5614"/>
                  <a:pt x="10707" y="5628"/>
                  <a:pt x="10790" y="5631"/>
                </a:cubicBezTo>
                <a:cubicBezTo>
                  <a:pt x="10895" y="5635"/>
                  <a:pt x="10987" y="5614"/>
                  <a:pt x="11088" y="5606"/>
                </a:cubicBezTo>
                <a:cubicBezTo>
                  <a:pt x="11204" y="5597"/>
                  <a:pt x="11321" y="5591"/>
                  <a:pt x="11435" y="5581"/>
                </a:cubicBezTo>
                <a:cubicBezTo>
                  <a:pt x="11928" y="5539"/>
                  <a:pt x="12435" y="5632"/>
                  <a:pt x="12923" y="5606"/>
                </a:cubicBezTo>
                <a:cubicBezTo>
                  <a:pt x="12981" y="5606"/>
                  <a:pt x="13006" y="5623"/>
                  <a:pt x="12998" y="5581"/>
                </a:cubicBezTo>
              </a:path>
              <a:path w="12949" h="2655">
                <a:moveTo>
                  <a:pt x="10716" y="7069"/>
                </a:moveTo>
                <a:cubicBezTo>
                  <a:pt x="10885" y="7069"/>
                  <a:pt x="11048" y="7067"/>
                  <a:pt x="11212" y="7045"/>
                </a:cubicBezTo>
                <a:cubicBezTo>
                  <a:pt x="11457" y="7013"/>
                  <a:pt x="11741" y="7045"/>
                  <a:pt x="11981" y="7069"/>
                </a:cubicBezTo>
                <a:cubicBezTo>
                  <a:pt x="12108" y="7082"/>
                  <a:pt x="12231" y="7075"/>
                  <a:pt x="12353" y="7094"/>
                </a:cubicBezTo>
                <a:cubicBezTo>
                  <a:pt x="12369" y="7094"/>
                  <a:pt x="12386" y="7094"/>
                  <a:pt x="12402" y="7094"/>
                </a:cubicBezTo>
              </a:path>
              <a:path w="12949" h="2655">
                <a:moveTo>
                  <a:pt x="11485" y="5680"/>
                </a:moveTo>
                <a:cubicBezTo>
                  <a:pt x="11485" y="5821"/>
                  <a:pt x="11485" y="5961"/>
                  <a:pt x="11485" y="6102"/>
                </a:cubicBezTo>
              </a:path>
              <a:path w="12949" h="2655">
                <a:moveTo>
                  <a:pt x="11162" y="6152"/>
                </a:moveTo>
                <a:cubicBezTo>
                  <a:pt x="11264" y="6179"/>
                  <a:pt x="11308" y="6156"/>
                  <a:pt x="11410" y="6152"/>
                </a:cubicBezTo>
                <a:cubicBezTo>
                  <a:pt x="11538" y="6147"/>
                  <a:pt x="11669" y="6161"/>
                  <a:pt x="11782" y="6127"/>
                </a:cubicBezTo>
                <a:cubicBezTo>
                  <a:pt x="11790" y="6127"/>
                  <a:pt x="11799" y="6127"/>
                  <a:pt x="11807" y="6127"/>
                </a:cubicBezTo>
              </a:path>
              <a:path w="12949" h="2655">
                <a:moveTo>
                  <a:pt x="11385" y="6400"/>
                </a:moveTo>
                <a:cubicBezTo>
                  <a:pt x="11385" y="6515"/>
                  <a:pt x="11392" y="6615"/>
                  <a:pt x="11410" y="6722"/>
                </a:cubicBezTo>
                <a:cubicBezTo>
                  <a:pt x="11423" y="6798"/>
                  <a:pt x="11371" y="6848"/>
                  <a:pt x="11410" y="6772"/>
                </a:cubicBezTo>
              </a:path>
              <a:path w="12949" h="2655">
                <a:moveTo>
                  <a:pt x="11609" y="6375"/>
                </a:moveTo>
                <a:cubicBezTo>
                  <a:pt x="11668" y="6339"/>
                  <a:pt x="11711" y="6317"/>
                  <a:pt x="11782" y="6350"/>
                </a:cubicBezTo>
                <a:cubicBezTo>
                  <a:pt x="11842" y="6378"/>
                  <a:pt x="11829" y="6451"/>
                  <a:pt x="11807" y="6499"/>
                </a:cubicBezTo>
                <a:cubicBezTo>
                  <a:pt x="11789" y="6539"/>
                  <a:pt x="11714" y="6567"/>
                  <a:pt x="11683" y="6573"/>
                </a:cubicBezTo>
                <a:cubicBezTo>
                  <a:pt x="11666" y="6573"/>
                  <a:pt x="11650" y="6573"/>
                  <a:pt x="11633" y="6573"/>
                </a:cubicBezTo>
                <a:cubicBezTo>
                  <a:pt x="11702" y="6573"/>
                  <a:pt x="11795" y="6569"/>
                  <a:pt x="11857" y="6598"/>
                </a:cubicBezTo>
                <a:cubicBezTo>
                  <a:pt x="11881" y="6609"/>
                  <a:pt x="11912" y="6653"/>
                  <a:pt x="11931" y="6672"/>
                </a:cubicBezTo>
                <a:cubicBezTo>
                  <a:pt x="11865" y="6765"/>
                  <a:pt x="11825" y="6747"/>
                  <a:pt x="11708" y="6747"/>
                </a:cubicBezTo>
                <a:cubicBezTo>
                  <a:pt x="11659" y="6747"/>
                  <a:pt x="11629" y="6763"/>
                  <a:pt x="11584" y="6772"/>
                </a:cubicBezTo>
              </a:path>
              <a:path w="12949" h="2655">
                <a:moveTo>
                  <a:pt x="11237" y="7317"/>
                </a:moveTo>
                <a:cubicBezTo>
                  <a:pt x="11306" y="7309"/>
                  <a:pt x="11387" y="7271"/>
                  <a:pt x="11460" y="7293"/>
                </a:cubicBezTo>
                <a:cubicBezTo>
                  <a:pt x="11524" y="7312"/>
                  <a:pt x="11555" y="7317"/>
                  <a:pt x="11559" y="7392"/>
                </a:cubicBezTo>
                <a:cubicBezTo>
                  <a:pt x="11564" y="7472"/>
                  <a:pt x="11503" y="7481"/>
                  <a:pt x="11460" y="7541"/>
                </a:cubicBezTo>
                <a:cubicBezTo>
                  <a:pt x="11413" y="7607"/>
                  <a:pt x="11384" y="7651"/>
                  <a:pt x="11311" y="7689"/>
                </a:cubicBezTo>
                <a:cubicBezTo>
                  <a:pt x="11235" y="7729"/>
                  <a:pt x="11223" y="7754"/>
                  <a:pt x="11212" y="7838"/>
                </a:cubicBezTo>
                <a:cubicBezTo>
                  <a:pt x="11280" y="7867"/>
                  <a:pt x="11354" y="7863"/>
                  <a:pt x="11435" y="7863"/>
                </a:cubicBezTo>
                <a:cubicBezTo>
                  <a:pt x="11509" y="7863"/>
                  <a:pt x="11584" y="7863"/>
                  <a:pt x="11658" y="7863"/>
                </a:cubicBezTo>
              </a:path>
              <a:path w="12949" h="2655">
                <a:moveTo>
                  <a:pt x="12725" y="6970"/>
                </a:moveTo>
                <a:cubicBezTo>
                  <a:pt x="12801" y="6950"/>
                  <a:pt x="12879" y="6913"/>
                  <a:pt x="12948" y="6896"/>
                </a:cubicBezTo>
              </a:path>
              <a:path w="12949" h="2655">
                <a:moveTo>
                  <a:pt x="12725" y="7069"/>
                </a:moveTo>
                <a:cubicBezTo>
                  <a:pt x="12796" y="7085"/>
                  <a:pt x="12846" y="7069"/>
                  <a:pt x="12923" y="7069"/>
                </a:cubicBezTo>
              </a:path>
              <a:path w="12949" h="2655">
                <a:moveTo>
                  <a:pt x="13246" y="6722"/>
                </a:moveTo>
                <a:cubicBezTo>
                  <a:pt x="13265" y="6811"/>
                  <a:pt x="13287" y="6900"/>
                  <a:pt x="13295" y="6995"/>
                </a:cubicBezTo>
                <a:cubicBezTo>
                  <a:pt x="13318" y="7279"/>
                  <a:pt x="13300" y="7584"/>
                  <a:pt x="13271" y="7863"/>
                </a:cubicBezTo>
                <a:cubicBezTo>
                  <a:pt x="13261" y="7963"/>
                  <a:pt x="13256" y="8062"/>
                  <a:pt x="13246" y="8161"/>
                </a:cubicBezTo>
                <a:cubicBezTo>
                  <a:pt x="13246" y="8177"/>
                  <a:pt x="13246" y="8194"/>
                  <a:pt x="13246" y="8210"/>
                </a:cubicBezTo>
                <a:cubicBezTo>
                  <a:pt x="13253" y="8138"/>
                  <a:pt x="13250" y="8132"/>
                  <a:pt x="13271" y="8062"/>
                </a:cubicBezTo>
                <a:cubicBezTo>
                  <a:pt x="13299" y="7967"/>
                  <a:pt x="13326" y="7862"/>
                  <a:pt x="13345" y="7764"/>
                </a:cubicBezTo>
                <a:cubicBezTo>
                  <a:pt x="13376" y="7605"/>
                  <a:pt x="13405" y="7451"/>
                  <a:pt x="13444" y="7293"/>
                </a:cubicBezTo>
                <a:cubicBezTo>
                  <a:pt x="13475" y="7170"/>
                  <a:pt x="13471" y="7044"/>
                  <a:pt x="13494" y="6921"/>
                </a:cubicBezTo>
                <a:cubicBezTo>
                  <a:pt x="13517" y="6796"/>
                  <a:pt x="13498" y="6671"/>
                  <a:pt x="13519" y="6548"/>
                </a:cubicBezTo>
                <a:cubicBezTo>
                  <a:pt x="13540" y="6429"/>
                  <a:pt x="13543" y="6325"/>
                  <a:pt x="13543" y="6201"/>
                </a:cubicBezTo>
                <a:cubicBezTo>
                  <a:pt x="13543" y="6134"/>
                  <a:pt x="13520" y="6026"/>
                  <a:pt x="13568" y="5978"/>
                </a:cubicBezTo>
                <a:cubicBezTo>
                  <a:pt x="13620" y="5926"/>
                  <a:pt x="13777" y="5953"/>
                  <a:pt x="13841" y="5953"/>
                </a:cubicBezTo>
                <a:cubicBezTo>
                  <a:pt x="14002" y="5953"/>
                  <a:pt x="14156" y="5942"/>
                  <a:pt x="14312" y="5928"/>
                </a:cubicBezTo>
                <a:cubicBezTo>
                  <a:pt x="14417" y="5918"/>
                  <a:pt x="14533" y="5911"/>
                  <a:pt x="14635" y="5904"/>
                </a:cubicBezTo>
                <a:cubicBezTo>
                  <a:pt x="14752" y="5896"/>
                  <a:pt x="14842" y="5883"/>
                  <a:pt x="14957" y="5879"/>
                </a:cubicBezTo>
                <a:cubicBezTo>
                  <a:pt x="15027" y="5876"/>
                  <a:pt x="15052" y="5868"/>
                  <a:pt x="15106" y="5854"/>
                </a:cubicBezTo>
              </a:path>
              <a:path w="12949" h="2655">
                <a:moveTo>
                  <a:pt x="14213" y="6276"/>
                </a:moveTo>
                <a:cubicBezTo>
                  <a:pt x="14205" y="6392"/>
                  <a:pt x="14195" y="6496"/>
                  <a:pt x="14213" y="6598"/>
                </a:cubicBezTo>
                <a:cubicBezTo>
                  <a:pt x="14229" y="6690"/>
                  <a:pt x="14213" y="6803"/>
                  <a:pt x="14213" y="6896"/>
                </a:cubicBezTo>
              </a:path>
              <a:path w="12949" h="2655">
                <a:moveTo>
                  <a:pt x="13742" y="7144"/>
                </a:moveTo>
                <a:cubicBezTo>
                  <a:pt x="13831" y="7144"/>
                  <a:pt x="13904" y="7131"/>
                  <a:pt x="13990" y="7119"/>
                </a:cubicBezTo>
                <a:cubicBezTo>
                  <a:pt x="14071" y="7108"/>
                  <a:pt x="14161" y="7104"/>
                  <a:pt x="14238" y="7094"/>
                </a:cubicBezTo>
                <a:cubicBezTo>
                  <a:pt x="14285" y="7088"/>
                  <a:pt x="14339" y="7094"/>
                  <a:pt x="14387" y="7094"/>
                </a:cubicBezTo>
              </a:path>
              <a:path w="12949" h="2655">
                <a:moveTo>
                  <a:pt x="13742" y="7392"/>
                </a:moveTo>
                <a:cubicBezTo>
                  <a:pt x="13805" y="7360"/>
                  <a:pt x="13873" y="7328"/>
                  <a:pt x="13940" y="7317"/>
                </a:cubicBezTo>
                <a:cubicBezTo>
                  <a:pt x="13985" y="7309"/>
                  <a:pt x="14072" y="7308"/>
                  <a:pt x="14089" y="7367"/>
                </a:cubicBezTo>
                <a:cubicBezTo>
                  <a:pt x="14110" y="7440"/>
                  <a:pt x="14080" y="7556"/>
                  <a:pt x="14039" y="7615"/>
                </a:cubicBezTo>
                <a:cubicBezTo>
                  <a:pt x="13991" y="7684"/>
                  <a:pt x="13918" y="7746"/>
                  <a:pt x="13866" y="7813"/>
                </a:cubicBezTo>
                <a:cubicBezTo>
                  <a:pt x="13828" y="7863"/>
                  <a:pt x="13795" y="7889"/>
                  <a:pt x="13816" y="7962"/>
                </a:cubicBezTo>
                <a:cubicBezTo>
                  <a:pt x="13847" y="8071"/>
                  <a:pt x="13919" y="8024"/>
                  <a:pt x="13990" y="8012"/>
                </a:cubicBezTo>
                <a:cubicBezTo>
                  <a:pt x="14046" y="8012"/>
                  <a:pt x="14068" y="8007"/>
                  <a:pt x="14089" y="7962"/>
                </a:cubicBezTo>
              </a:path>
              <a:path w="12949" h="2655">
                <a:moveTo>
                  <a:pt x="14238" y="7466"/>
                </a:moveTo>
                <a:cubicBezTo>
                  <a:pt x="14219" y="7537"/>
                  <a:pt x="14132" y="7741"/>
                  <a:pt x="14163" y="7838"/>
                </a:cubicBezTo>
                <a:cubicBezTo>
                  <a:pt x="14182" y="7899"/>
                  <a:pt x="14214" y="7963"/>
                  <a:pt x="14263" y="8012"/>
                </a:cubicBezTo>
                <a:cubicBezTo>
                  <a:pt x="14327" y="8076"/>
                  <a:pt x="14393" y="8065"/>
                  <a:pt x="14461" y="8012"/>
                </a:cubicBezTo>
                <a:cubicBezTo>
                  <a:pt x="14501" y="7980"/>
                  <a:pt x="14568" y="7911"/>
                  <a:pt x="14585" y="7863"/>
                </a:cubicBezTo>
                <a:cubicBezTo>
                  <a:pt x="14623" y="7758"/>
                  <a:pt x="14602" y="7715"/>
                  <a:pt x="14511" y="7689"/>
                </a:cubicBezTo>
                <a:cubicBezTo>
                  <a:pt x="14431" y="7746"/>
                  <a:pt x="14416" y="7787"/>
                  <a:pt x="14412" y="7888"/>
                </a:cubicBezTo>
                <a:cubicBezTo>
                  <a:pt x="14408" y="7991"/>
                  <a:pt x="14430" y="8007"/>
                  <a:pt x="14511" y="8037"/>
                </a:cubicBezTo>
              </a:path>
              <a:path w="12949" h="2655">
                <a:moveTo>
                  <a:pt x="14883" y="7144"/>
                </a:moveTo>
                <a:cubicBezTo>
                  <a:pt x="14960" y="7118"/>
                  <a:pt x="15023" y="7119"/>
                  <a:pt x="15106" y="7119"/>
                </a:cubicBezTo>
              </a:path>
              <a:path w="12949" h="2655">
                <a:moveTo>
                  <a:pt x="14858" y="7293"/>
                </a:moveTo>
                <a:cubicBezTo>
                  <a:pt x="15017" y="7308"/>
                  <a:pt x="14990" y="7326"/>
                  <a:pt x="15106" y="7268"/>
                </a:cubicBezTo>
              </a:path>
              <a:path w="12949" h="2655">
                <a:moveTo>
                  <a:pt x="15949" y="6127"/>
                </a:moveTo>
                <a:cubicBezTo>
                  <a:pt x="15926" y="6197"/>
                  <a:pt x="15912" y="6278"/>
                  <a:pt x="15900" y="6350"/>
                </a:cubicBezTo>
                <a:cubicBezTo>
                  <a:pt x="15881" y="6463"/>
                  <a:pt x="15892" y="6587"/>
                  <a:pt x="15875" y="6697"/>
                </a:cubicBezTo>
                <a:cubicBezTo>
                  <a:pt x="15865" y="6762"/>
                  <a:pt x="15867" y="6815"/>
                  <a:pt x="15850" y="6871"/>
                </a:cubicBezTo>
                <a:cubicBezTo>
                  <a:pt x="15850" y="6879"/>
                  <a:pt x="15850" y="6888"/>
                  <a:pt x="15850" y="6896"/>
                </a:cubicBezTo>
              </a:path>
              <a:path w="12949" h="2655">
                <a:moveTo>
                  <a:pt x="15478" y="7045"/>
                </a:moveTo>
                <a:cubicBezTo>
                  <a:pt x="15584" y="7045"/>
                  <a:pt x="15672" y="7025"/>
                  <a:pt x="15776" y="7020"/>
                </a:cubicBezTo>
                <a:cubicBezTo>
                  <a:pt x="15926" y="7013"/>
                  <a:pt x="16138" y="7066"/>
                  <a:pt x="16272" y="7045"/>
                </a:cubicBezTo>
                <a:cubicBezTo>
                  <a:pt x="16280" y="7037"/>
                  <a:pt x="16289" y="7028"/>
                  <a:pt x="16297" y="7020"/>
                </a:cubicBezTo>
              </a:path>
              <a:path w="12949" h="2655">
                <a:moveTo>
                  <a:pt x="15354" y="7739"/>
                </a:moveTo>
                <a:cubicBezTo>
                  <a:pt x="15354" y="7813"/>
                  <a:pt x="15354" y="8203"/>
                  <a:pt x="15354" y="8111"/>
                </a:cubicBezTo>
                <a:cubicBezTo>
                  <a:pt x="15354" y="7959"/>
                  <a:pt x="15289" y="7596"/>
                  <a:pt x="15379" y="7466"/>
                </a:cubicBezTo>
                <a:cubicBezTo>
                  <a:pt x="15410" y="7422"/>
                  <a:pt x="15510" y="7397"/>
                  <a:pt x="15553" y="7367"/>
                </a:cubicBezTo>
                <a:cubicBezTo>
                  <a:pt x="15599" y="7335"/>
                  <a:pt x="15693" y="7324"/>
                  <a:pt x="15751" y="7317"/>
                </a:cubicBezTo>
                <a:cubicBezTo>
                  <a:pt x="15814" y="7309"/>
                  <a:pt x="15885" y="7317"/>
                  <a:pt x="15949" y="7317"/>
                </a:cubicBezTo>
              </a:path>
              <a:path w="12949" h="2655">
                <a:moveTo>
                  <a:pt x="15553" y="7640"/>
                </a:moveTo>
                <a:cubicBezTo>
                  <a:pt x="15635" y="7598"/>
                  <a:pt x="15709" y="7546"/>
                  <a:pt x="15801" y="7541"/>
                </a:cubicBezTo>
                <a:cubicBezTo>
                  <a:pt x="15899" y="7536"/>
                  <a:pt x="15883" y="7600"/>
                  <a:pt x="15850" y="7665"/>
                </a:cubicBezTo>
                <a:cubicBezTo>
                  <a:pt x="15823" y="7718"/>
                  <a:pt x="15788" y="7791"/>
                  <a:pt x="15751" y="7838"/>
                </a:cubicBezTo>
                <a:cubicBezTo>
                  <a:pt x="15725" y="7872"/>
                  <a:pt x="15639" y="7944"/>
                  <a:pt x="15627" y="7987"/>
                </a:cubicBezTo>
                <a:cubicBezTo>
                  <a:pt x="15604" y="8066"/>
                  <a:pt x="15663" y="8107"/>
                  <a:pt x="15726" y="8111"/>
                </a:cubicBezTo>
                <a:cubicBezTo>
                  <a:pt x="15793" y="8111"/>
                  <a:pt x="15827" y="8107"/>
                  <a:pt x="15875" y="8086"/>
                </a:cubicBezTo>
              </a:path>
              <a:path w="12949" h="2655">
                <a:moveTo>
                  <a:pt x="15974" y="7615"/>
                </a:moveTo>
                <a:cubicBezTo>
                  <a:pt x="15956" y="7709"/>
                  <a:pt x="15899" y="7862"/>
                  <a:pt x="15925" y="7962"/>
                </a:cubicBezTo>
                <a:cubicBezTo>
                  <a:pt x="15948" y="8052"/>
                  <a:pt x="16008" y="8094"/>
                  <a:pt x="16098" y="8111"/>
                </a:cubicBezTo>
                <a:cubicBezTo>
                  <a:pt x="16160" y="8123"/>
                  <a:pt x="16253" y="8074"/>
                  <a:pt x="16297" y="8037"/>
                </a:cubicBezTo>
                <a:cubicBezTo>
                  <a:pt x="16341" y="8001"/>
                  <a:pt x="16367" y="7918"/>
                  <a:pt x="16346" y="7863"/>
                </a:cubicBezTo>
                <a:cubicBezTo>
                  <a:pt x="16318" y="7790"/>
                  <a:pt x="16248" y="7815"/>
                  <a:pt x="16197" y="7838"/>
                </a:cubicBezTo>
                <a:cubicBezTo>
                  <a:pt x="16125" y="7870"/>
                  <a:pt x="16089" y="7935"/>
                  <a:pt x="16073" y="8012"/>
                </a:cubicBezTo>
                <a:cubicBezTo>
                  <a:pt x="16073" y="8029"/>
                  <a:pt x="16073" y="8045"/>
                  <a:pt x="16073" y="8062"/>
                </a:cubicBezTo>
              </a:path>
              <a:path w="12949" h="2655">
                <a:moveTo>
                  <a:pt x="16297" y="6796"/>
                </a:moveTo>
                <a:cubicBezTo>
                  <a:pt x="16297" y="6821"/>
                  <a:pt x="16297" y="6846"/>
                  <a:pt x="16297" y="6871"/>
                </a:cubicBezTo>
                <a:cubicBezTo>
                  <a:pt x="16297" y="6774"/>
                  <a:pt x="16309" y="6691"/>
                  <a:pt x="16321" y="6598"/>
                </a:cubicBezTo>
                <a:cubicBezTo>
                  <a:pt x="16332" y="6517"/>
                  <a:pt x="16323" y="6428"/>
                  <a:pt x="16346" y="6350"/>
                </a:cubicBezTo>
                <a:cubicBezTo>
                  <a:pt x="16364" y="6291"/>
                  <a:pt x="16406" y="6221"/>
                  <a:pt x="16446" y="6176"/>
                </a:cubicBezTo>
                <a:cubicBezTo>
                  <a:pt x="16499" y="6117"/>
                  <a:pt x="16519" y="6089"/>
                  <a:pt x="16594" y="6052"/>
                </a:cubicBezTo>
                <a:cubicBezTo>
                  <a:pt x="16649" y="6025"/>
                  <a:pt x="16710" y="6006"/>
                  <a:pt x="16768" y="6003"/>
                </a:cubicBezTo>
                <a:cubicBezTo>
                  <a:pt x="16785" y="6003"/>
                  <a:pt x="16801" y="6003"/>
                  <a:pt x="16818" y="6003"/>
                </a:cubicBezTo>
              </a:path>
              <a:path w="12949" h="2655">
                <a:moveTo>
                  <a:pt x="16470" y="6300"/>
                </a:moveTo>
                <a:cubicBezTo>
                  <a:pt x="16533" y="6277"/>
                  <a:pt x="16587" y="6255"/>
                  <a:pt x="16644" y="6300"/>
                </a:cubicBezTo>
                <a:cubicBezTo>
                  <a:pt x="16695" y="6340"/>
                  <a:pt x="16671" y="6426"/>
                  <a:pt x="16644" y="6474"/>
                </a:cubicBezTo>
                <a:cubicBezTo>
                  <a:pt x="16597" y="6557"/>
                  <a:pt x="16539" y="6585"/>
                  <a:pt x="16495" y="6672"/>
                </a:cubicBezTo>
                <a:cubicBezTo>
                  <a:pt x="16464" y="6733"/>
                  <a:pt x="16421" y="6759"/>
                  <a:pt x="16470" y="6821"/>
                </a:cubicBezTo>
                <a:cubicBezTo>
                  <a:pt x="16509" y="6871"/>
                  <a:pt x="16597" y="6850"/>
                  <a:pt x="16644" y="6821"/>
                </a:cubicBezTo>
                <a:cubicBezTo>
                  <a:pt x="16652" y="6813"/>
                  <a:pt x="16661" y="6804"/>
                  <a:pt x="16669" y="6796"/>
                </a:cubicBezTo>
              </a:path>
              <a:path w="12949" h="2655">
                <a:moveTo>
                  <a:pt x="16842" y="6375"/>
                </a:moveTo>
                <a:cubicBezTo>
                  <a:pt x="16810" y="6441"/>
                  <a:pt x="16736" y="6538"/>
                  <a:pt x="16718" y="6598"/>
                </a:cubicBezTo>
                <a:cubicBezTo>
                  <a:pt x="16705" y="6643"/>
                  <a:pt x="16708" y="6775"/>
                  <a:pt x="16768" y="6796"/>
                </a:cubicBezTo>
                <a:cubicBezTo>
                  <a:pt x="16838" y="6820"/>
                  <a:pt x="16915" y="6793"/>
                  <a:pt x="16966" y="6747"/>
                </a:cubicBezTo>
                <a:cubicBezTo>
                  <a:pt x="17002" y="6714"/>
                  <a:pt x="17016" y="6690"/>
                  <a:pt x="17041" y="6648"/>
                </a:cubicBezTo>
                <a:cubicBezTo>
                  <a:pt x="16935" y="6661"/>
                  <a:pt x="16960" y="6689"/>
                  <a:pt x="16892" y="6747"/>
                </a:cubicBezTo>
                <a:cubicBezTo>
                  <a:pt x="16805" y="6821"/>
                  <a:pt x="16772" y="6888"/>
                  <a:pt x="16718" y="6995"/>
                </a:cubicBezTo>
              </a:path>
              <a:path w="12949" h="2655">
                <a:moveTo>
                  <a:pt x="16446" y="7193"/>
                </a:moveTo>
                <a:cubicBezTo>
                  <a:pt x="16566" y="7178"/>
                  <a:pt x="16669" y="7193"/>
                  <a:pt x="16793" y="7193"/>
                </a:cubicBezTo>
                <a:cubicBezTo>
                  <a:pt x="16911" y="7193"/>
                  <a:pt x="17065" y="7217"/>
                  <a:pt x="17165" y="7169"/>
                </a:cubicBezTo>
              </a:path>
              <a:path w="12949" h="2655">
                <a:moveTo>
                  <a:pt x="16694" y="7466"/>
                </a:moveTo>
                <a:cubicBezTo>
                  <a:pt x="16673" y="7570"/>
                  <a:pt x="16669" y="7658"/>
                  <a:pt x="16669" y="7764"/>
                </a:cubicBezTo>
                <a:cubicBezTo>
                  <a:pt x="16669" y="7828"/>
                  <a:pt x="16666" y="7854"/>
                  <a:pt x="16644" y="7913"/>
                </a:cubicBezTo>
                <a:cubicBezTo>
                  <a:pt x="16618" y="7836"/>
                  <a:pt x="16619" y="7771"/>
                  <a:pt x="16619" y="7689"/>
                </a:cubicBezTo>
                <a:cubicBezTo>
                  <a:pt x="16619" y="7587"/>
                  <a:pt x="16623" y="7551"/>
                  <a:pt x="16669" y="7466"/>
                </a:cubicBezTo>
                <a:cubicBezTo>
                  <a:pt x="16721" y="7369"/>
                  <a:pt x="16768" y="7346"/>
                  <a:pt x="16867" y="7317"/>
                </a:cubicBezTo>
                <a:cubicBezTo>
                  <a:pt x="16892" y="7309"/>
                  <a:pt x="16917" y="7301"/>
                  <a:pt x="16942" y="7293"/>
                </a:cubicBezTo>
              </a:path>
              <a:path w="12949" h="2655">
                <a:moveTo>
                  <a:pt x="16867" y="7516"/>
                </a:moveTo>
                <a:cubicBezTo>
                  <a:pt x="16932" y="7523"/>
                  <a:pt x="17057" y="7522"/>
                  <a:pt x="17041" y="7615"/>
                </a:cubicBezTo>
                <a:cubicBezTo>
                  <a:pt x="17031" y="7671"/>
                  <a:pt x="16950" y="7727"/>
                  <a:pt x="16917" y="7764"/>
                </a:cubicBezTo>
                <a:cubicBezTo>
                  <a:pt x="16909" y="7773"/>
                  <a:pt x="16792" y="7870"/>
                  <a:pt x="16793" y="7888"/>
                </a:cubicBezTo>
                <a:cubicBezTo>
                  <a:pt x="16800" y="7980"/>
                  <a:pt x="16904" y="8000"/>
                  <a:pt x="16966" y="7962"/>
                </a:cubicBezTo>
                <a:cubicBezTo>
                  <a:pt x="16983" y="7946"/>
                  <a:pt x="16999" y="7929"/>
                  <a:pt x="17016" y="7913"/>
                </a:cubicBezTo>
              </a:path>
              <a:path w="12949" h="2655">
                <a:moveTo>
                  <a:pt x="17165" y="7565"/>
                </a:moveTo>
                <a:cubicBezTo>
                  <a:pt x="17095" y="7663"/>
                  <a:pt x="17015" y="7756"/>
                  <a:pt x="17041" y="7888"/>
                </a:cubicBezTo>
                <a:cubicBezTo>
                  <a:pt x="17055" y="7959"/>
                  <a:pt x="17116" y="7969"/>
                  <a:pt x="17165" y="7987"/>
                </a:cubicBezTo>
                <a:cubicBezTo>
                  <a:pt x="17257" y="8020"/>
                  <a:pt x="17281" y="7981"/>
                  <a:pt x="17338" y="7913"/>
                </a:cubicBezTo>
                <a:cubicBezTo>
                  <a:pt x="17366" y="7885"/>
                  <a:pt x="17375" y="7871"/>
                  <a:pt x="17363" y="7838"/>
                </a:cubicBezTo>
                <a:cubicBezTo>
                  <a:pt x="17286" y="7859"/>
                  <a:pt x="17228" y="7865"/>
                  <a:pt x="17165" y="7913"/>
                </a:cubicBezTo>
                <a:cubicBezTo>
                  <a:pt x="17157" y="7921"/>
                  <a:pt x="17148" y="7930"/>
                  <a:pt x="17140" y="79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Ink 9"/>
          <p:cNvSpPr/>
          <p:nvPr/>
        </p:nvSpPr>
        <p:spPr>
          <a:xfrm>
            <a:off x="490680" y="2438280"/>
            <a:ext cx="509400" cy="312840"/>
          </a:xfrm>
          <a:custGeom>
            <a:avLst/>
            <a:gdLst/>
            <a:ahLst/>
            <a:rect l="l" t="t" r="r" b="b"/>
            <a:pathLst>
              <a:path w="1415" h="869">
                <a:moveTo>
                  <a:pt x="1761" y="7020"/>
                </a:moveTo>
                <a:cubicBezTo>
                  <a:pt x="1809" y="7068"/>
                  <a:pt x="1736" y="6974"/>
                  <a:pt x="1687" y="6970"/>
                </a:cubicBezTo>
                <a:cubicBezTo>
                  <a:pt x="1571" y="6959"/>
                  <a:pt x="1619" y="7009"/>
                  <a:pt x="1538" y="7045"/>
                </a:cubicBezTo>
                <a:cubicBezTo>
                  <a:pt x="1530" y="7045"/>
                  <a:pt x="1521" y="7045"/>
                  <a:pt x="1513" y="7045"/>
                </a:cubicBezTo>
                <a:cubicBezTo>
                  <a:pt x="1524" y="7118"/>
                  <a:pt x="1543" y="7133"/>
                  <a:pt x="1612" y="7169"/>
                </a:cubicBezTo>
                <a:cubicBezTo>
                  <a:pt x="1701" y="7215"/>
                  <a:pt x="1754" y="7261"/>
                  <a:pt x="1836" y="7317"/>
                </a:cubicBezTo>
                <a:cubicBezTo>
                  <a:pt x="1908" y="7367"/>
                  <a:pt x="1961" y="7448"/>
                  <a:pt x="1860" y="7516"/>
                </a:cubicBezTo>
                <a:cubicBezTo>
                  <a:pt x="1803" y="7555"/>
                  <a:pt x="1677" y="7562"/>
                  <a:pt x="1612" y="7565"/>
                </a:cubicBezTo>
                <a:cubicBezTo>
                  <a:pt x="1556" y="7568"/>
                  <a:pt x="1492" y="7540"/>
                  <a:pt x="1439" y="7516"/>
                </a:cubicBezTo>
                <a:cubicBezTo>
                  <a:pt x="1369" y="7485"/>
                  <a:pt x="1374" y="7485"/>
                  <a:pt x="1364" y="7417"/>
                </a:cubicBezTo>
              </a:path>
              <a:path w="1415" h="869">
                <a:moveTo>
                  <a:pt x="2108" y="7119"/>
                </a:moveTo>
                <a:cubicBezTo>
                  <a:pt x="2108" y="7233"/>
                  <a:pt x="2118" y="7331"/>
                  <a:pt x="2133" y="7441"/>
                </a:cubicBezTo>
                <a:cubicBezTo>
                  <a:pt x="2139" y="7482"/>
                  <a:pt x="2133" y="7668"/>
                  <a:pt x="2133" y="7441"/>
                </a:cubicBezTo>
              </a:path>
              <a:path w="1415" h="869">
                <a:moveTo>
                  <a:pt x="2133" y="6821"/>
                </a:moveTo>
                <a:cubicBezTo>
                  <a:pt x="2133" y="6805"/>
                  <a:pt x="2133" y="6788"/>
                  <a:pt x="2133" y="6772"/>
                </a:cubicBezTo>
              </a:path>
              <a:path w="1415" h="869">
                <a:moveTo>
                  <a:pt x="2356" y="7342"/>
                </a:moveTo>
                <a:cubicBezTo>
                  <a:pt x="2356" y="7441"/>
                  <a:pt x="2356" y="7458"/>
                  <a:pt x="2356" y="7516"/>
                </a:cubicBezTo>
                <a:cubicBezTo>
                  <a:pt x="2327" y="7425"/>
                  <a:pt x="2351" y="7382"/>
                  <a:pt x="2356" y="7293"/>
                </a:cubicBezTo>
                <a:cubicBezTo>
                  <a:pt x="2359" y="7231"/>
                  <a:pt x="2379" y="7135"/>
                  <a:pt x="2431" y="7094"/>
                </a:cubicBezTo>
                <a:cubicBezTo>
                  <a:pt x="2503" y="7037"/>
                  <a:pt x="2544" y="7083"/>
                  <a:pt x="2604" y="7119"/>
                </a:cubicBezTo>
                <a:cubicBezTo>
                  <a:pt x="2694" y="7173"/>
                  <a:pt x="2674" y="7198"/>
                  <a:pt x="2704" y="7293"/>
                </a:cubicBezTo>
                <a:cubicBezTo>
                  <a:pt x="2730" y="7374"/>
                  <a:pt x="2731" y="7460"/>
                  <a:pt x="2753" y="7541"/>
                </a:cubicBezTo>
                <a:cubicBezTo>
                  <a:pt x="2777" y="7589"/>
                  <a:pt x="2786" y="7603"/>
                  <a:pt x="2778" y="76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Ink 10"/>
          <p:cNvSpPr/>
          <p:nvPr/>
        </p:nvSpPr>
        <p:spPr>
          <a:xfrm>
            <a:off x="1170000" y="2241720"/>
            <a:ext cx="268200" cy="527040"/>
          </a:xfrm>
          <a:custGeom>
            <a:avLst/>
            <a:gdLst/>
            <a:ahLst/>
            <a:rect l="l" t="t" r="r" b="b"/>
            <a:pathLst>
              <a:path w="746" h="1464">
                <a:moveTo>
                  <a:pt x="3522" y="6226"/>
                </a:moveTo>
                <a:cubicBezTo>
                  <a:pt x="3503" y="6334"/>
                  <a:pt x="3497" y="6416"/>
                  <a:pt x="3497" y="6524"/>
                </a:cubicBezTo>
                <a:cubicBezTo>
                  <a:pt x="3497" y="6597"/>
                  <a:pt x="3523" y="6697"/>
                  <a:pt x="3621" y="6697"/>
                </a:cubicBezTo>
                <a:cubicBezTo>
                  <a:pt x="3661" y="6697"/>
                  <a:pt x="3693" y="6593"/>
                  <a:pt x="3721" y="6573"/>
                </a:cubicBezTo>
                <a:cubicBezTo>
                  <a:pt x="3797" y="6518"/>
                  <a:pt x="3797" y="6486"/>
                  <a:pt x="3820" y="6400"/>
                </a:cubicBezTo>
                <a:cubicBezTo>
                  <a:pt x="3838" y="6330"/>
                  <a:pt x="3845" y="6296"/>
                  <a:pt x="3845" y="6226"/>
                </a:cubicBezTo>
                <a:cubicBezTo>
                  <a:pt x="3811" y="6260"/>
                  <a:pt x="3820" y="6332"/>
                  <a:pt x="3820" y="6400"/>
                </a:cubicBezTo>
                <a:cubicBezTo>
                  <a:pt x="3820" y="6502"/>
                  <a:pt x="3854" y="6531"/>
                  <a:pt x="3870" y="6623"/>
                </a:cubicBezTo>
                <a:cubicBezTo>
                  <a:pt x="3880" y="6681"/>
                  <a:pt x="3906" y="6721"/>
                  <a:pt x="3919" y="6772"/>
                </a:cubicBezTo>
              </a:path>
              <a:path w="746" h="1464">
                <a:moveTo>
                  <a:pt x="3249" y="6896"/>
                </a:moveTo>
                <a:cubicBezTo>
                  <a:pt x="3340" y="6923"/>
                  <a:pt x="3425" y="6921"/>
                  <a:pt x="3522" y="6921"/>
                </a:cubicBezTo>
                <a:cubicBezTo>
                  <a:pt x="3643" y="6921"/>
                  <a:pt x="3900" y="6879"/>
                  <a:pt x="3969" y="6945"/>
                </a:cubicBezTo>
              </a:path>
              <a:path w="746" h="1464">
                <a:moveTo>
                  <a:pt x="3547" y="7193"/>
                </a:moveTo>
                <a:cubicBezTo>
                  <a:pt x="3634" y="7193"/>
                  <a:pt x="3709" y="7173"/>
                  <a:pt x="3795" y="7169"/>
                </a:cubicBezTo>
                <a:cubicBezTo>
                  <a:pt x="3862" y="7166"/>
                  <a:pt x="3896" y="7191"/>
                  <a:pt x="3870" y="7243"/>
                </a:cubicBezTo>
                <a:cubicBezTo>
                  <a:pt x="3834" y="7316"/>
                  <a:pt x="3787" y="7415"/>
                  <a:pt x="3721" y="7466"/>
                </a:cubicBezTo>
                <a:cubicBezTo>
                  <a:pt x="3647" y="7522"/>
                  <a:pt x="3656" y="7544"/>
                  <a:pt x="3621" y="7615"/>
                </a:cubicBezTo>
                <a:cubicBezTo>
                  <a:pt x="3608" y="7641"/>
                  <a:pt x="3568" y="7669"/>
                  <a:pt x="3547" y="7689"/>
                </a:cubicBezTo>
                <a:cubicBezTo>
                  <a:pt x="3659" y="7689"/>
                  <a:pt x="3772" y="7679"/>
                  <a:pt x="3870" y="7665"/>
                </a:cubicBezTo>
                <a:cubicBezTo>
                  <a:pt x="3927" y="7657"/>
                  <a:pt x="4002" y="7665"/>
                  <a:pt x="3944" y="76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Ink 11"/>
          <p:cNvSpPr/>
          <p:nvPr/>
        </p:nvSpPr>
        <p:spPr>
          <a:xfrm>
            <a:off x="6680160" y="3009960"/>
            <a:ext cx="169920" cy="152280"/>
          </a:xfrm>
          <a:custGeom>
            <a:avLst/>
            <a:gdLst/>
            <a:ahLst/>
            <a:rect l="l" t="t" r="r" b="b"/>
            <a:pathLst>
              <a:path w="472" h="423">
                <a:moveTo>
                  <a:pt x="18554" y="8409"/>
                </a:moveTo>
                <a:cubicBezTo>
                  <a:pt x="18554" y="8510"/>
                  <a:pt x="18563" y="8589"/>
                  <a:pt x="18579" y="8682"/>
                </a:cubicBezTo>
                <a:cubicBezTo>
                  <a:pt x="18592" y="8760"/>
                  <a:pt x="18637" y="8856"/>
                  <a:pt x="18728" y="8756"/>
                </a:cubicBezTo>
                <a:cubicBezTo>
                  <a:pt x="18786" y="8692"/>
                  <a:pt x="18757" y="8628"/>
                  <a:pt x="18777" y="8558"/>
                </a:cubicBezTo>
                <a:cubicBezTo>
                  <a:pt x="18797" y="8486"/>
                  <a:pt x="18802" y="8437"/>
                  <a:pt x="18802" y="8359"/>
                </a:cubicBezTo>
                <a:cubicBezTo>
                  <a:pt x="18802" y="8423"/>
                  <a:pt x="18784" y="8528"/>
                  <a:pt x="18827" y="8582"/>
                </a:cubicBezTo>
                <a:cubicBezTo>
                  <a:pt x="18873" y="8639"/>
                  <a:pt x="18961" y="8659"/>
                  <a:pt x="19025" y="86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Ink 12"/>
          <p:cNvSpPr/>
          <p:nvPr/>
        </p:nvSpPr>
        <p:spPr>
          <a:xfrm>
            <a:off x="7170840" y="3303720"/>
            <a:ext cx="258840" cy="206280"/>
          </a:xfrm>
          <a:custGeom>
            <a:avLst/>
            <a:gdLst/>
            <a:ahLst/>
            <a:rect l="l" t="t" r="r" b="b"/>
            <a:pathLst>
              <a:path w="721" h="571">
                <a:moveTo>
                  <a:pt x="19918" y="9178"/>
                </a:moveTo>
                <a:cubicBezTo>
                  <a:pt x="19918" y="9275"/>
                  <a:pt x="19935" y="9397"/>
                  <a:pt x="19943" y="9475"/>
                </a:cubicBezTo>
                <a:cubicBezTo>
                  <a:pt x="19952" y="9563"/>
                  <a:pt x="19943" y="9659"/>
                  <a:pt x="19943" y="9748"/>
                </a:cubicBezTo>
              </a:path>
              <a:path w="721" h="571">
                <a:moveTo>
                  <a:pt x="20166" y="9277"/>
                </a:moveTo>
                <a:cubicBezTo>
                  <a:pt x="20234" y="9267"/>
                  <a:pt x="20381" y="9242"/>
                  <a:pt x="20414" y="9351"/>
                </a:cubicBezTo>
                <a:cubicBezTo>
                  <a:pt x="20440" y="9439"/>
                  <a:pt x="20332" y="9494"/>
                  <a:pt x="20290" y="9550"/>
                </a:cubicBezTo>
                <a:cubicBezTo>
                  <a:pt x="20258" y="9592"/>
                  <a:pt x="20209" y="9657"/>
                  <a:pt x="20265" y="9699"/>
                </a:cubicBezTo>
                <a:cubicBezTo>
                  <a:pt x="20361" y="9772"/>
                  <a:pt x="20530" y="9721"/>
                  <a:pt x="20638" y="96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Ink 13"/>
          <p:cNvSpPr/>
          <p:nvPr/>
        </p:nvSpPr>
        <p:spPr>
          <a:xfrm>
            <a:off x="1677960" y="3357720"/>
            <a:ext cx="5199120" cy="1116000"/>
          </a:xfrm>
          <a:custGeom>
            <a:avLst/>
            <a:gdLst/>
            <a:ahLst/>
            <a:rect l="l" t="t" r="r" b="b"/>
            <a:pathLst>
              <a:path w="14438" h="3101">
                <a:moveTo>
                  <a:pt x="4663" y="10641"/>
                </a:moveTo>
                <a:cubicBezTo>
                  <a:pt x="4806" y="10663"/>
                  <a:pt x="4805" y="10651"/>
                  <a:pt x="4936" y="10567"/>
                </a:cubicBezTo>
              </a:path>
              <a:path w="14438" h="3101">
                <a:moveTo>
                  <a:pt x="4738" y="10840"/>
                </a:moveTo>
                <a:cubicBezTo>
                  <a:pt x="4795" y="10833"/>
                  <a:pt x="4877" y="10792"/>
                  <a:pt x="4936" y="10815"/>
                </a:cubicBezTo>
                <a:cubicBezTo>
                  <a:pt x="4964" y="10843"/>
                  <a:pt x="4978" y="10852"/>
                  <a:pt x="5011" y="10840"/>
                </a:cubicBezTo>
              </a:path>
              <a:path w="14438" h="3101">
                <a:moveTo>
                  <a:pt x="5383" y="10195"/>
                </a:moveTo>
                <a:cubicBezTo>
                  <a:pt x="5383" y="10311"/>
                  <a:pt x="5383" y="10426"/>
                  <a:pt x="5383" y="10542"/>
                </a:cubicBezTo>
              </a:path>
              <a:path w="14438" h="3101">
                <a:moveTo>
                  <a:pt x="5259" y="10443"/>
                </a:moveTo>
                <a:cubicBezTo>
                  <a:pt x="5336" y="10433"/>
                  <a:pt x="5400" y="10418"/>
                  <a:pt x="5482" y="10418"/>
                </a:cubicBezTo>
              </a:path>
              <a:path w="14438" h="3101">
                <a:moveTo>
                  <a:pt x="5655" y="10319"/>
                </a:moveTo>
                <a:cubicBezTo>
                  <a:pt x="5661" y="10406"/>
                  <a:pt x="5677" y="10478"/>
                  <a:pt x="5680" y="10567"/>
                </a:cubicBezTo>
                <a:cubicBezTo>
                  <a:pt x="5686" y="10758"/>
                  <a:pt x="5700" y="10947"/>
                  <a:pt x="5705" y="11137"/>
                </a:cubicBezTo>
                <a:cubicBezTo>
                  <a:pt x="5710" y="11313"/>
                  <a:pt x="5768" y="11657"/>
                  <a:pt x="5730" y="11807"/>
                </a:cubicBezTo>
                <a:cubicBezTo>
                  <a:pt x="5722" y="11799"/>
                  <a:pt x="5713" y="11790"/>
                  <a:pt x="5705" y="11782"/>
                </a:cubicBezTo>
                <a:cubicBezTo>
                  <a:pt x="5722" y="11679"/>
                  <a:pt x="5715" y="11567"/>
                  <a:pt x="5730" y="11460"/>
                </a:cubicBezTo>
                <a:cubicBezTo>
                  <a:pt x="5748" y="11333"/>
                  <a:pt x="5755" y="11218"/>
                  <a:pt x="5755" y="11088"/>
                </a:cubicBezTo>
                <a:cubicBezTo>
                  <a:pt x="5755" y="10870"/>
                  <a:pt x="5762" y="10657"/>
                  <a:pt x="5779" y="10443"/>
                </a:cubicBezTo>
                <a:cubicBezTo>
                  <a:pt x="5802" y="10145"/>
                  <a:pt x="5782" y="9808"/>
                  <a:pt x="5755" y="9525"/>
                </a:cubicBezTo>
                <a:cubicBezTo>
                  <a:pt x="5747" y="9446"/>
                  <a:pt x="5766" y="9399"/>
                  <a:pt x="5779" y="9327"/>
                </a:cubicBezTo>
                <a:cubicBezTo>
                  <a:pt x="5851" y="9338"/>
                  <a:pt x="5931" y="9337"/>
                  <a:pt x="6003" y="9351"/>
                </a:cubicBezTo>
                <a:cubicBezTo>
                  <a:pt x="6099" y="9370"/>
                  <a:pt x="6176" y="9376"/>
                  <a:pt x="6276" y="9376"/>
                </a:cubicBezTo>
                <a:cubicBezTo>
                  <a:pt x="6401" y="9376"/>
                  <a:pt x="6520" y="9401"/>
                  <a:pt x="6648" y="9401"/>
                </a:cubicBezTo>
                <a:cubicBezTo>
                  <a:pt x="6760" y="9401"/>
                  <a:pt x="6861" y="9423"/>
                  <a:pt x="6970" y="9426"/>
                </a:cubicBezTo>
                <a:cubicBezTo>
                  <a:pt x="7077" y="9429"/>
                  <a:pt x="7185" y="9426"/>
                  <a:pt x="7293" y="9426"/>
                </a:cubicBezTo>
              </a:path>
              <a:path w="14438" h="3101">
                <a:moveTo>
                  <a:pt x="6127" y="9798"/>
                </a:moveTo>
                <a:cubicBezTo>
                  <a:pt x="6127" y="9937"/>
                  <a:pt x="6127" y="10415"/>
                  <a:pt x="6127" y="10393"/>
                </a:cubicBezTo>
              </a:path>
              <a:path w="14438" h="3101">
                <a:moveTo>
                  <a:pt x="6499" y="9798"/>
                </a:moveTo>
                <a:cubicBezTo>
                  <a:pt x="6533" y="9923"/>
                  <a:pt x="6474" y="9942"/>
                  <a:pt x="6499" y="10071"/>
                </a:cubicBezTo>
                <a:cubicBezTo>
                  <a:pt x="6510" y="10127"/>
                  <a:pt x="6535" y="10205"/>
                  <a:pt x="6548" y="10269"/>
                </a:cubicBezTo>
                <a:cubicBezTo>
                  <a:pt x="6548" y="10277"/>
                  <a:pt x="6548" y="10286"/>
                  <a:pt x="6548" y="10294"/>
                </a:cubicBezTo>
              </a:path>
              <a:path w="14438" h="3101">
                <a:moveTo>
                  <a:pt x="6350" y="9996"/>
                </a:moveTo>
                <a:cubicBezTo>
                  <a:pt x="6472" y="9996"/>
                  <a:pt x="6543" y="10006"/>
                  <a:pt x="6648" y="9971"/>
                </a:cubicBezTo>
              </a:path>
              <a:path w="14438" h="3101">
                <a:moveTo>
                  <a:pt x="6896" y="9674"/>
                </a:moveTo>
                <a:cubicBezTo>
                  <a:pt x="6876" y="9762"/>
                  <a:pt x="6847" y="9879"/>
                  <a:pt x="6871" y="9971"/>
                </a:cubicBezTo>
                <a:cubicBezTo>
                  <a:pt x="6895" y="10019"/>
                  <a:pt x="6903" y="10034"/>
                  <a:pt x="6896" y="10071"/>
                </a:cubicBezTo>
              </a:path>
              <a:path w="14438" h="3101">
                <a:moveTo>
                  <a:pt x="6970" y="9723"/>
                </a:moveTo>
                <a:cubicBezTo>
                  <a:pt x="7046" y="9700"/>
                  <a:pt x="7175" y="9669"/>
                  <a:pt x="7169" y="9748"/>
                </a:cubicBezTo>
                <a:cubicBezTo>
                  <a:pt x="7163" y="9833"/>
                  <a:pt x="7099" y="9873"/>
                  <a:pt x="7045" y="9922"/>
                </a:cubicBezTo>
                <a:cubicBezTo>
                  <a:pt x="7020" y="9947"/>
                  <a:pt x="7012" y="9955"/>
                  <a:pt x="6995" y="9971"/>
                </a:cubicBezTo>
                <a:cubicBezTo>
                  <a:pt x="7058" y="10034"/>
                  <a:pt x="7105" y="10021"/>
                  <a:pt x="7193" y="10021"/>
                </a:cubicBezTo>
                <a:cubicBezTo>
                  <a:pt x="7243" y="10021"/>
                  <a:pt x="7260" y="10021"/>
                  <a:pt x="7293" y="10021"/>
                </a:cubicBezTo>
              </a:path>
              <a:path w="14438" h="3101">
                <a:moveTo>
                  <a:pt x="6896" y="10145"/>
                </a:moveTo>
                <a:cubicBezTo>
                  <a:pt x="7036" y="10170"/>
                  <a:pt x="7155" y="10186"/>
                  <a:pt x="7293" y="10170"/>
                </a:cubicBezTo>
              </a:path>
              <a:path w="14438" h="3101">
                <a:moveTo>
                  <a:pt x="7094" y="10418"/>
                </a:moveTo>
                <a:cubicBezTo>
                  <a:pt x="7098" y="10495"/>
                  <a:pt x="7085" y="10652"/>
                  <a:pt x="7144" y="10691"/>
                </a:cubicBezTo>
              </a:path>
              <a:path w="14438" h="3101">
                <a:moveTo>
                  <a:pt x="7268" y="10393"/>
                </a:moveTo>
                <a:cubicBezTo>
                  <a:pt x="7336" y="10367"/>
                  <a:pt x="7458" y="10347"/>
                  <a:pt x="7441" y="10468"/>
                </a:cubicBezTo>
                <a:cubicBezTo>
                  <a:pt x="7431" y="10540"/>
                  <a:pt x="7350" y="10560"/>
                  <a:pt x="7293" y="10567"/>
                </a:cubicBezTo>
                <a:cubicBezTo>
                  <a:pt x="7369" y="10629"/>
                  <a:pt x="7435" y="10612"/>
                  <a:pt x="7466" y="10716"/>
                </a:cubicBezTo>
                <a:cubicBezTo>
                  <a:pt x="7496" y="10816"/>
                  <a:pt x="7410" y="10837"/>
                  <a:pt x="7342" y="10840"/>
                </a:cubicBezTo>
                <a:cubicBezTo>
                  <a:pt x="7326" y="10840"/>
                  <a:pt x="7309" y="10840"/>
                  <a:pt x="7293" y="10840"/>
                </a:cubicBezTo>
              </a:path>
              <a:path w="14438" h="3101">
                <a:moveTo>
                  <a:pt x="6127" y="10716"/>
                </a:moveTo>
                <a:cubicBezTo>
                  <a:pt x="6216" y="10740"/>
                  <a:pt x="6286" y="10726"/>
                  <a:pt x="6375" y="10740"/>
                </a:cubicBezTo>
                <a:cubicBezTo>
                  <a:pt x="6506" y="10761"/>
                  <a:pt x="6640" y="10779"/>
                  <a:pt x="6772" y="10790"/>
                </a:cubicBezTo>
                <a:cubicBezTo>
                  <a:pt x="6924" y="10802"/>
                  <a:pt x="7062" y="10815"/>
                  <a:pt x="7218" y="10815"/>
                </a:cubicBezTo>
                <a:cubicBezTo>
                  <a:pt x="7296" y="10815"/>
                  <a:pt x="7323" y="10856"/>
                  <a:pt x="7392" y="10815"/>
                </a:cubicBezTo>
              </a:path>
              <a:path w="14438" h="3101">
                <a:moveTo>
                  <a:pt x="6697" y="11212"/>
                </a:moveTo>
                <a:cubicBezTo>
                  <a:pt x="6737" y="11203"/>
                  <a:pt x="6880" y="11148"/>
                  <a:pt x="6921" y="11162"/>
                </a:cubicBezTo>
                <a:cubicBezTo>
                  <a:pt x="6962" y="11176"/>
                  <a:pt x="7044" y="11190"/>
                  <a:pt x="7020" y="11261"/>
                </a:cubicBezTo>
                <a:cubicBezTo>
                  <a:pt x="6999" y="11322"/>
                  <a:pt x="6940" y="11371"/>
                  <a:pt x="6896" y="11410"/>
                </a:cubicBezTo>
                <a:cubicBezTo>
                  <a:pt x="6835" y="11464"/>
                  <a:pt x="6808" y="11512"/>
                  <a:pt x="6772" y="11584"/>
                </a:cubicBezTo>
                <a:cubicBezTo>
                  <a:pt x="6746" y="11635"/>
                  <a:pt x="6676" y="11692"/>
                  <a:pt x="6697" y="11757"/>
                </a:cubicBezTo>
                <a:cubicBezTo>
                  <a:pt x="6720" y="11827"/>
                  <a:pt x="6783" y="11914"/>
                  <a:pt x="6846" y="11956"/>
                </a:cubicBezTo>
                <a:cubicBezTo>
                  <a:pt x="6901" y="11993"/>
                  <a:pt x="6978" y="12023"/>
                  <a:pt x="7045" y="12005"/>
                </a:cubicBezTo>
                <a:cubicBezTo>
                  <a:pt x="7061" y="11997"/>
                  <a:pt x="7078" y="11989"/>
                  <a:pt x="7094" y="11981"/>
                </a:cubicBezTo>
              </a:path>
              <a:path w="14438" h="3101">
                <a:moveTo>
                  <a:pt x="7813" y="10988"/>
                </a:moveTo>
                <a:cubicBezTo>
                  <a:pt x="7881" y="10970"/>
                  <a:pt x="7918" y="10964"/>
                  <a:pt x="7987" y="10964"/>
                </a:cubicBezTo>
              </a:path>
              <a:path w="14438" h="3101">
                <a:moveTo>
                  <a:pt x="7813" y="11162"/>
                </a:moveTo>
                <a:cubicBezTo>
                  <a:pt x="7910" y="11183"/>
                  <a:pt x="7976" y="11209"/>
                  <a:pt x="8062" y="11187"/>
                </a:cubicBezTo>
                <a:cubicBezTo>
                  <a:pt x="8095" y="11179"/>
                  <a:pt x="8128" y="11170"/>
                  <a:pt x="8161" y="11162"/>
                </a:cubicBezTo>
              </a:path>
              <a:path w="14438" h="3101">
                <a:moveTo>
                  <a:pt x="8186" y="10418"/>
                </a:moveTo>
                <a:cubicBezTo>
                  <a:pt x="8227" y="10435"/>
                  <a:pt x="8297" y="10455"/>
                  <a:pt x="8334" y="10492"/>
                </a:cubicBezTo>
                <a:cubicBezTo>
                  <a:pt x="8390" y="10548"/>
                  <a:pt x="8380" y="10592"/>
                  <a:pt x="8384" y="10666"/>
                </a:cubicBezTo>
                <a:cubicBezTo>
                  <a:pt x="8388" y="10750"/>
                  <a:pt x="8403" y="10837"/>
                  <a:pt x="8409" y="10914"/>
                </a:cubicBezTo>
                <a:cubicBezTo>
                  <a:pt x="8420" y="11059"/>
                  <a:pt x="8384" y="11212"/>
                  <a:pt x="8384" y="11361"/>
                </a:cubicBezTo>
                <a:cubicBezTo>
                  <a:pt x="8384" y="11660"/>
                  <a:pt x="8390" y="11961"/>
                  <a:pt x="8409" y="12254"/>
                </a:cubicBezTo>
                <a:cubicBezTo>
                  <a:pt x="8413" y="12311"/>
                  <a:pt x="8406" y="12370"/>
                  <a:pt x="8409" y="12427"/>
                </a:cubicBezTo>
                <a:cubicBezTo>
                  <a:pt x="8438" y="12308"/>
                  <a:pt x="8468" y="12202"/>
                  <a:pt x="8483" y="12080"/>
                </a:cubicBezTo>
                <a:cubicBezTo>
                  <a:pt x="8499" y="11952"/>
                  <a:pt x="8512" y="11812"/>
                  <a:pt x="8533" y="11683"/>
                </a:cubicBezTo>
                <a:cubicBezTo>
                  <a:pt x="8564" y="11496"/>
                  <a:pt x="8577" y="11302"/>
                  <a:pt x="8582" y="11112"/>
                </a:cubicBezTo>
                <a:cubicBezTo>
                  <a:pt x="8586" y="10961"/>
                  <a:pt x="8620" y="10816"/>
                  <a:pt x="8632" y="10666"/>
                </a:cubicBezTo>
                <a:cubicBezTo>
                  <a:pt x="8642" y="10533"/>
                  <a:pt x="8674" y="10400"/>
                  <a:pt x="8682" y="10269"/>
                </a:cubicBezTo>
                <a:cubicBezTo>
                  <a:pt x="8690" y="10127"/>
                  <a:pt x="8665" y="10006"/>
                  <a:pt x="8657" y="9872"/>
                </a:cubicBezTo>
                <a:cubicBezTo>
                  <a:pt x="8652" y="9780"/>
                  <a:pt x="8638" y="9684"/>
                  <a:pt x="8632" y="9599"/>
                </a:cubicBezTo>
                <a:cubicBezTo>
                  <a:pt x="8625" y="9503"/>
                  <a:pt x="8612" y="9466"/>
                  <a:pt x="8706" y="9451"/>
                </a:cubicBezTo>
                <a:cubicBezTo>
                  <a:pt x="8811" y="9434"/>
                  <a:pt x="8906" y="9467"/>
                  <a:pt x="9004" y="9475"/>
                </a:cubicBezTo>
                <a:cubicBezTo>
                  <a:pt x="9230" y="9492"/>
                  <a:pt x="9456" y="9503"/>
                  <a:pt x="9674" y="9525"/>
                </a:cubicBezTo>
                <a:cubicBezTo>
                  <a:pt x="9871" y="9545"/>
                  <a:pt x="10610" y="9396"/>
                  <a:pt x="10765" y="9550"/>
                </a:cubicBezTo>
                <a:cubicBezTo>
                  <a:pt x="10765" y="9566"/>
                  <a:pt x="10765" y="9583"/>
                  <a:pt x="10765" y="9599"/>
                </a:cubicBezTo>
              </a:path>
              <a:path w="14438" h="3101">
                <a:moveTo>
                  <a:pt x="9327" y="9748"/>
                </a:moveTo>
                <a:cubicBezTo>
                  <a:pt x="9366" y="9724"/>
                  <a:pt x="9448" y="9703"/>
                  <a:pt x="9500" y="9723"/>
                </a:cubicBezTo>
                <a:cubicBezTo>
                  <a:pt x="9563" y="9748"/>
                  <a:pt x="9550" y="9820"/>
                  <a:pt x="9550" y="9872"/>
                </a:cubicBezTo>
                <a:cubicBezTo>
                  <a:pt x="9550" y="9950"/>
                  <a:pt x="9514" y="9982"/>
                  <a:pt x="9475" y="10046"/>
                </a:cubicBezTo>
                <a:cubicBezTo>
                  <a:pt x="9438" y="10108"/>
                  <a:pt x="9387" y="10120"/>
                  <a:pt x="9327" y="10096"/>
                </a:cubicBezTo>
                <a:cubicBezTo>
                  <a:pt x="9327" y="10036"/>
                  <a:pt x="9327" y="9997"/>
                  <a:pt x="9351" y="9947"/>
                </a:cubicBezTo>
                <a:cubicBezTo>
                  <a:pt x="9420" y="9985"/>
                  <a:pt x="9484" y="10031"/>
                  <a:pt x="9550" y="10071"/>
                </a:cubicBezTo>
                <a:cubicBezTo>
                  <a:pt x="9590" y="10091"/>
                  <a:pt x="9596" y="10100"/>
                  <a:pt x="9624" y="10096"/>
                </a:cubicBezTo>
              </a:path>
              <a:path w="14438" h="3101">
                <a:moveTo>
                  <a:pt x="9773" y="9699"/>
                </a:moveTo>
                <a:cubicBezTo>
                  <a:pt x="9839" y="9715"/>
                  <a:pt x="9879" y="9723"/>
                  <a:pt x="9947" y="9723"/>
                </a:cubicBezTo>
              </a:path>
              <a:path w="14438" h="3101">
                <a:moveTo>
                  <a:pt x="9723" y="9748"/>
                </a:moveTo>
                <a:cubicBezTo>
                  <a:pt x="9707" y="9781"/>
                  <a:pt x="9690" y="9814"/>
                  <a:pt x="9674" y="9847"/>
                </a:cubicBezTo>
                <a:cubicBezTo>
                  <a:pt x="9731" y="9893"/>
                  <a:pt x="9777" y="9922"/>
                  <a:pt x="9847" y="9947"/>
                </a:cubicBezTo>
                <a:cubicBezTo>
                  <a:pt x="9912" y="9970"/>
                  <a:pt x="9999" y="10002"/>
                  <a:pt x="9971" y="10096"/>
                </a:cubicBezTo>
                <a:cubicBezTo>
                  <a:pt x="9950" y="10167"/>
                  <a:pt x="9823" y="10145"/>
                  <a:pt x="9773" y="10145"/>
                </a:cubicBezTo>
                <a:cubicBezTo>
                  <a:pt x="9720" y="10145"/>
                  <a:pt x="9717" y="10131"/>
                  <a:pt x="9674" y="10120"/>
                </a:cubicBezTo>
              </a:path>
              <a:path w="14438" h="3101">
                <a:moveTo>
                  <a:pt x="9351" y="10195"/>
                </a:moveTo>
                <a:cubicBezTo>
                  <a:pt x="9520" y="10195"/>
                  <a:pt x="9683" y="10199"/>
                  <a:pt x="9847" y="10170"/>
                </a:cubicBezTo>
                <a:cubicBezTo>
                  <a:pt x="9855" y="10170"/>
                  <a:pt x="9864" y="10170"/>
                  <a:pt x="9872" y="10170"/>
                </a:cubicBezTo>
              </a:path>
              <a:path w="14438" h="3101">
                <a:moveTo>
                  <a:pt x="9525" y="10368"/>
                </a:moveTo>
                <a:cubicBezTo>
                  <a:pt x="9525" y="10474"/>
                  <a:pt x="9532" y="10576"/>
                  <a:pt x="9550" y="10666"/>
                </a:cubicBezTo>
                <a:cubicBezTo>
                  <a:pt x="9555" y="10692"/>
                  <a:pt x="9542" y="10831"/>
                  <a:pt x="9575" y="10765"/>
                </a:cubicBezTo>
              </a:path>
              <a:path w="14438" h="3101">
                <a:moveTo>
                  <a:pt x="9649" y="10492"/>
                </a:moveTo>
                <a:cubicBezTo>
                  <a:pt x="9708" y="10461"/>
                  <a:pt x="9797" y="10389"/>
                  <a:pt x="9872" y="10418"/>
                </a:cubicBezTo>
                <a:cubicBezTo>
                  <a:pt x="9934" y="10442"/>
                  <a:pt x="9930" y="10501"/>
                  <a:pt x="9897" y="10542"/>
                </a:cubicBezTo>
                <a:cubicBezTo>
                  <a:pt x="9867" y="10579"/>
                  <a:pt x="9839" y="10593"/>
                  <a:pt x="9798" y="10616"/>
                </a:cubicBezTo>
                <a:cubicBezTo>
                  <a:pt x="9847" y="10645"/>
                  <a:pt x="9877" y="10646"/>
                  <a:pt x="9922" y="10691"/>
                </a:cubicBezTo>
                <a:cubicBezTo>
                  <a:pt x="9967" y="10736"/>
                  <a:pt x="9954" y="10812"/>
                  <a:pt x="9922" y="10864"/>
                </a:cubicBezTo>
                <a:cubicBezTo>
                  <a:pt x="9881" y="10930"/>
                  <a:pt x="9867" y="10903"/>
                  <a:pt x="9798" y="10889"/>
                </a:cubicBezTo>
              </a:path>
              <a:path w="14438" h="3101">
                <a:moveTo>
                  <a:pt x="9302" y="10864"/>
                </a:moveTo>
                <a:cubicBezTo>
                  <a:pt x="9456" y="10885"/>
                  <a:pt x="9595" y="10914"/>
                  <a:pt x="9748" y="10914"/>
                </a:cubicBezTo>
                <a:cubicBezTo>
                  <a:pt x="9857" y="10914"/>
                  <a:pt x="9961" y="10889"/>
                  <a:pt x="10071" y="10889"/>
                </a:cubicBezTo>
                <a:cubicBezTo>
                  <a:pt x="10087" y="10889"/>
                  <a:pt x="10104" y="10889"/>
                  <a:pt x="10120" y="10889"/>
                </a:cubicBezTo>
              </a:path>
              <a:path w="14438" h="3101">
                <a:moveTo>
                  <a:pt x="9674" y="11286"/>
                </a:moveTo>
                <a:cubicBezTo>
                  <a:pt x="9743" y="11246"/>
                  <a:pt x="9765" y="11237"/>
                  <a:pt x="9847" y="11237"/>
                </a:cubicBezTo>
                <a:cubicBezTo>
                  <a:pt x="9926" y="11237"/>
                  <a:pt x="9935" y="11288"/>
                  <a:pt x="9947" y="11361"/>
                </a:cubicBezTo>
                <a:cubicBezTo>
                  <a:pt x="9959" y="11434"/>
                  <a:pt x="9922" y="11564"/>
                  <a:pt x="9897" y="11633"/>
                </a:cubicBezTo>
                <a:cubicBezTo>
                  <a:pt x="9870" y="11707"/>
                  <a:pt x="9840" y="11789"/>
                  <a:pt x="9798" y="11857"/>
                </a:cubicBezTo>
                <a:cubicBezTo>
                  <a:pt x="9753" y="11930"/>
                  <a:pt x="9712" y="12024"/>
                  <a:pt x="9624" y="12055"/>
                </a:cubicBezTo>
                <a:cubicBezTo>
                  <a:pt x="9580" y="12055"/>
                  <a:pt x="9566" y="12058"/>
                  <a:pt x="9550" y="12030"/>
                </a:cubicBezTo>
                <a:cubicBezTo>
                  <a:pt x="9572" y="11952"/>
                  <a:pt x="9616" y="11930"/>
                  <a:pt x="9699" y="11981"/>
                </a:cubicBezTo>
                <a:cubicBezTo>
                  <a:pt x="9763" y="12020"/>
                  <a:pt x="9804" y="12099"/>
                  <a:pt x="9847" y="12154"/>
                </a:cubicBezTo>
                <a:cubicBezTo>
                  <a:pt x="9893" y="12213"/>
                  <a:pt x="9913" y="12194"/>
                  <a:pt x="9971" y="12179"/>
                </a:cubicBezTo>
              </a:path>
              <a:path w="14438" h="3101">
                <a:moveTo>
                  <a:pt x="10840" y="10964"/>
                </a:moveTo>
                <a:cubicBezTo>
                  <a:pt x="10939" y="10947"/>
                  <a:pt x="11023" y="10927"/>
                  <a:pt x="11112" y="10914"/>
                </a:cubicBezTo>
              </a:path>
              <a:path w="14438" h="3101">
                <a:moveTo>
                  <a:pt x="10864" y="11137"/>
                </a:moveTo>
                <a:cubicBezTo>
                  <a:pt x="10969" y="11172"/>
                  <a:pt x="11024" y="11181"/>
                  <a:pt x="11137" y="11187"/>
                </a:cubicBezTo>
              </a:path>
              <a:path w="14438" h="3101">
                <a:moveTo>
                  <a:pt x="11385" y="10666"/>
                </a:moveTo>
                <a:cubicBezTo>
                  <a:pt x="11467" y="10727"/>
                  <a:pt x="11544" y="10748"/>
                  <a:pt x="11584" y="10864"/>
                </a:cubicBezTo>
                <a:cubicBezTo>
                  <a:pt x="11619" y="10967"/>
                  <a:pt x="11609" y="11128"/>
                  <a:pt x="11609" y="11237"/>
                </a:cubicBezTo>
                <a:cubicBezTo>
                  <a:pt x="11609" y="11370"/>
                  <a:pt x="11633" y="11499"/>
                  <a:pt x="11633" y="11633"/>
                </a:cubicBezTo>
                <a:cubicBezTo>
                  <a:pt x="11633" y="11790"/>
                  <a:pt x="11633" y="11948"/>
                  <a:pt x="11633" y="12105"/>
                </a:cubicBezTo>
                <a:cubicBezTo>
                  <a:pt x="11633" y="12039"/>
                  <a:pt x="11633" y="12071"/>
                  <a:pt x="11633" y="12005"/>
                </a:cubicBezTo>
                <a:cubicBezTo>
                  <a:pt x="11633" y="11861"/>
                  <a:pt x="11647" y="11723"/>
                  <a:pt x="11658" y="11584"/>
                </a:cubicBezTo>
                <a:cubicBezTo>
                  <a:pt x="11702" y="11018"/>
                  <a:pt x="11633" y="10432"/>
                  <a:pt x="11683" y="9872"/>
                </a:cubicBezTo>
                <a:cubicBezTo>
                  <a:pt x="11690" y="9792"/>
                  <a:pt x="11678" y="9741"/>
                  <a:pt x="11708" y="9674"/>
                </a:cubicBezTo>
                <a:cubicBezTo>
                  <a:pt x="11757" y="9564"/>
                  <a:pt x="11814" y="9574"/>
                  <a:pt x="11906" y="9550"/>
                </a:cubicBezTo>
                <a:cubicBezTo>
                  <a:pt x="12005" y="9524"/>
                  <a:pt x="12108" y="9549"/>
                  <a:pt x="12204" y="9525"/>
                </a:cubicBezTo>
                <a:cubicBezTo>
                  <a:pt x="12314" y="9498"/>
                  <a:pt x="12427" y="9437"/>
                  <a:pt x="12551" y="9475"/>
                </a:cubicBezTo>
                <a:cubicBezTo>
                  <a:pt x="12652" y="9506"/>
                  <a:pt x="12693" y="9525"/>
                  <a:pt x="12799" y="9525"/>
                </a:cubicBezTo>
              </a:path>
              <a:path w="14438" h="3101">
                <a:moveTo>
                  <a:pt x="12129" y="9996"/>
                </a:moveTo>
                <a:cubicBezTo>
                  <a:pt x="12171" y="9955"/>
                  <a:pt x="12203" y="9926"/>
                  <a:pt x="12254" y="9897"/>
                </a:cubicBezTo>
                <a:cubicBezTo>
                  <a:pt x="12329" y="9988"/>
                  <a:pt x="12328" y="10030"/>
                  <a:pt x="12328" y="10145"/>
                </a:cubicBezTo>
                <a:cubicBezTo>
                  <a:pt x="12328" y="10288"/>
                  <a:pt x="12274" y="10330"/>
                  <a:pt x="12204" y="10443"/>
                </a:cubicBezTo>
                <a:cubicBezTo>
                  <a:pt x="12162" y="10510"/>
                  <a:pt x="12181" y="10506"/>
                  <a:pt x="12105" y="10517"/>
                </a:cubicBezTo>
                <a:cubicBezTo>
                  <a:pt x="12081" y="10447"/>
                  <a:pt x="12057" y="10381"/>
                  <a:pt x="12105" y="10319"/>
                </a:cubicBezTo>
                <a:cubicBezTo>
                  <a:pt x="12129" y="10294"/>
                  <a:pt x="12137" y="10285"/>
                  <a:pt x="12154" y="10269"/>
                </a:cubicBezTo>
                <a:cubicBezTo>
                  <a:pt x="12201" y="10316"/>
                  <a:pt x="12262" y="10340"/>
                  <a:pt x="12303" y="10393"/>
                </a:cubicBezTo>
                <a:cubicBezTo>
                  <a:pt x="12368" y="10478"/>
                  <a:pt x="12356" y="10459"/>
                  <a:pt x="12477" y="10468"/>
                </a:cubicBezTo>
              </a:path>
              <a:path w="14438" h="3101">
                <a:moveTo>
                  <a:pt x="12626" y="9971"/>
                </a:moveTo>
                <a:cubicBezTo>
                  <a:pt x="12719" y="9948"/>
                  <a:pt x="12806" y="9947"/>
                  <a:pt x="12898" y="9922"/>
                </a:cubicBezTo>
              </a:path>
              <a:path w="14438" h="3101">
                <a:moveTo>
                  <a:pt x="12601" y="10046"/>
                </a:moveTo>
                <a:cubicBezTo>
                  <a:pt x="12544" y="10122"/>
                  <a:pt x="12533" y="10127"/>
                  <a:pt x="12601" y="10195"/>
                </a:cubicBezTo>
                <a:cubicBezTo>
                  <a:pt x="12670" y="10264"/>
                  <a:pt x="12786" y="10277"/>
                  <a:pt x="12849" y="10344"/>
                </a:cubicBezTo>
                <a:cubicBezTo>
                  <a:pt x="12898" y="10396"/>
                  <a:pt x="12878" y="10458"/>
                  <a:pt x="12824" y="10492"/>
                </a:cubicBezTo>
                <a:cubicBezTo>
                  <a:pt x="12764" y="10530"/>
                  <a:pt x="12646" y="10532"/>
                  <a:pt x="12576" y="10517"/>
                </a:cubicBezTo>
                <a:cubicBezTo>
                  <a:pt x="12551" y="10509"/>
                  <a:pt x="12527" y="10500"/>
                  <a:pt x="12502" y="10492"/>
                </a:cubicBezTo>
              </a:path>
              <a:path w="14438" h="3101">
                <a:moveTo>
                  <a:pt x="12055" y="10517"/>
                </a:moveTo>
                <a:cubicBezTo>
                  <a:pt x="12256" y="10517"/>
                  <a:pt x="12452" y="10526"/>
                  <a:pt x="12650" y="10542"/>
                </a:cubicBezTo>
                <a:cubicBezTo>
                  <a:pt x="12741" y="10542"/>
                  <a:pt x="12766" y="10542"/>
                  <a:pt x="12824" y="10542"/>
                </a:cubicBezTo>
              </a:path>
              <a:path w="14438" h="3101">
                <a:moveTo>
                  <a:pt x="12204" y="10914"/>
                </a:moveTo>
                <a:cubicBezTo>
                  <a:pt x="12219" y="11021"/>
                  <a:pt x="12241" y="10964"/>
                  <a:pt x="12328" y="10988"/>
                </a:cubicBezTo>
                <a:cubicBezTo>
                  <a:pt x="12434" y="11018"/>
                  <a:pt x="12541" y="11038"/>
                  <a:pt x="12502" y="11162"/>
                </a:cubicBezTo>
                <a:cubicBezTo>
                  <a:pt x="12471" y="11261"/>
                  <a:pt x="12359" y="11347"/>
                  <a:pt x="12303" y="11435"/>
                </a:cubicBezTo>
                <a:cubicBezTo>
                  <a:pt x="12274" y="11481"/>
                  <a:pt x="12211" y="11601"/>
                  <a:pt x="12229" y="11658"/>
                </a:cubicBezTo>
                <a:cubicBezTo>
                  <a:pt x="12249" y="11722"/>
                  <a:pt x="12397" y="11817"/>
                  <a:pt x="12452" y="11832"/>
                </a:cubicBezTo>
                <a:cubicBezTo>
                  <a:pt x="12521" y="11851"/>
                  <a:pt x="12613" y="11831"/>
                  <a:pt x="12675" y="11807"/>
                </a:cubicBezTo>
              </a:path>
              <a:path w="14438" h="3101">
                <a:moveTo>
                  <a:pt x="12824" y="11187"/>
                </a:moveTo>
                <a:cubicBezTo>
                  <a:pt x="12794" y="11268"/>
                  <a:pt x="12760" y="11353"/>
                  <a:pt x="12750" y="11435"/>
                </a:cubicBezTo>
                <a:cubicBezTo>
                  <a:pt x="12743" y="11496"/>
                  <a:pt x="12718" y="11713"/>
                  <a:pt x="12774" y="11757"/>
                </a:cubicBezTo>
                <a:cubicBezTo>
                  <a:pt x="12877" y="11837"/>
                  <a:pt x="12919" y="11824"/>
                  <a:pt x="13022" y="11807"/>
                </a:cubicBezTo>
                <a:cubicBezTo>
                  <a:pt x="13099" y="11794"/>
                  <a:pt x="13152" y="11743"/>
                  <a:pt x="13171" y="11658"/>
                </a:cubicBezTo>
                <a:cubicBezTo>
                  <a:pt x="13171" y="11642"/>
                  <a:pt x="13171" y="11625"/>
                  <a:pt x="13171" y="11609"/>
                </a:cubicBezTo>
                <a:cubicBezTo>
                  <a:pt x="13109" y="11572"/>
                  <a:pt x="13067" y="11579"/>
                  <a:pt x="12998" y="11609"/>
                </a:cubicBezTo>
                <a:cubicBezTo>
                  <a:pt x="12947" y="11631"/>
                  <a:pt x="12825" y="11735"/>
                  <a:pt x="12898" y="11807"/>
                </a:cubicBezTo>
                <a:cubicBezTo>
                  <a:pt x="12985" y="11807"/>
                  <a:pt x="13021" y="11802"/>
                  <a:pt x="13072" y="11757"/>
                </a:cubicBezTo>
              </a:path>
              <a:path w="14438" h="3101">
                <a:moveTo>
                  <a:pt x="13395" y="11088"/>
                </a:moveTo>
                <a:cubicBezTo>
                  <a:pt x="13478" y="11088"/>
                  <a:pt x="13560" y="11088"/>
                  <a:pt x="13643" y="11088"/>
                </a:cubicBezTo>
              </a:path>
              <a:path w="14438" h="3101">
                <a:moveTo>
                  <a:pt x="13469" y="11361"/>
                </a:moveTo>
                <a:cubicBezTo>
                  <a:pt x="13566" y="11387"/>
                  <a:pt x="13621" y="11392"/>
                  <a:pt x="13717" y="11361"/>
                </a:cubicBezTo>
              </a:path>
              <a:path w="14438" h="3101">
                <a:moveTo>
                  <a:pt x="14263" y="10071"/>
                </a:moveTo>
                <a:cubicBezTo>
                  <a:pt x="14332" y="10076"/>
                  <a:pt x="14440" y="10116"/>
                  <a:pt x="14511" y="10096"/>
                </a:cubicBezTo>
                <a:cubicBezTo>
                  <a:pt x="14527" y="10088"/>
                  <a:pt x="14544" y="10079"/>
                  <a:pt x="14560" y="10071"/>
                </a:cubicBezTo>
              </a:path>
              <a:path w="14438" h="3101">
                <a:moveTo>
                  <a:pt x="14213" y="10145"/>
                </a:moveTo>
                <a:cubicBezTo>
                  <a:pt x="14123" y="10242"/>
                  <a:pt x="14103" y="10233"/>
                  <a:pt x="14089" y="10344"/>
                </a:cubicBezTo>
                <a:cubicBezTo>
                  <a:pt x="14143" y="10375"/>
                  <a:pt x="14201" y="10365"/>
                  <a:pt x="14263" y="10344"/>
                </a:cubicBezTo>
                <a:cubicBezTo>
                  <a:pt x="14377" y="10306"/>
                  <a:pt x="14414" y="10363"/>
                  <a:pt x="14486" y="10443"/>
                </a:cubicBezTo>
                <a:cubicBezTo>
                  <a:pt x="14539" y="10502"/>
                  <a:pt x="14604" y="10577"/>
                  <a:pt x="14585" y="10666"/>
                </a:cubicBezTo>
                <a:cubicBezTo>
                  <a:pt x="14569" y="10743"/>
                  <a:pt x="14502" y="10761"/>
                  <a:pt x="14436" y="10765"/>
                </a:cubicBezTo>
                <a:cubicBezTo>
                  <a:pt x="14354" y="10770"/>
                  <a:pt x="14310" y="10751"/>
                  <a:pt x="14238" y="10716"/>
                </a:cubicBezTo>
              </a:path>
              <a:path w="14438" h="3101">
                <a:moveTo>
                  <a:pt x="14064" y="10939"/>
                </a:moveTo>
                <a:cubicBezTo>
                  <a:pt x="14158" y="10970"/>
                  <a:pt x="14240" y="10949"/>
                  <a:pt x="14337" y="10964"/>
                </a:cubicBezTo>
                <a:cubicBezTo>
                  <a:pt x="14452" y="10981"/>
                  <a:pt x="14566" y="11003"/>
                  <a:pt x="14684" y="10988"/>
                </a:cubicBezTo>
                <a:cubicBezTo>
                  <a:pt x="14775" y="10970"/>
                  <a:pt x="14782" y="10962"/>
                  <a:pt x="14833" y="10964"/>
                </a:cubicBezTo>
              </a:path>
              <a:path w="14438" h="3101">
                <a:moveTo>
                  <a:pt x="14238" y="11460"/>
                </a:moveTo>
                <a:cubicBezTo>
                  <a:pt x="14255" y="11646"/>
                  <a:pt x="14284" y="11782"/>
                  <a:pt x="14312" y="11956"/>
                </a:cubicBezTo>
                <a:cubicBezTo>
                  <a:pt x="14319" y="11997"/>
                  <a:pt x="14376" y="12188"/>
                  <a:pt x="14337" y="12080"/>
                </a:cubicBezTo>
                <a:cubicBezTo>
                  <a:pt x="14304" y="11989"/>
                  <a:pt x="14277" y="11900"/>
                  <a:pt x="14263" y="11807"/>
                </a:cubicBezTo>
                <a:cubicBezTo>
                  <a:pt x="14246" y="11697"/>
                  <a:pt x="14238" y="11600"/>
                  <a:pt x="14238" y="11485"/>
                </a:cubicBezTo>
                <a:cubicBezTo>
                  <a:pt x="14238" y="11410"/>
                  <a:pt x="14264" y="11326"/>
                  <a:pt x="14337" y="11286"/>
                </a:cubicBezTo>
                <a:cubicBezTo>
                  <a:pt x="14404" y="11249"/>
                  <a:pt x="14536" y="11245"/>
                  <a:pt x="14610" y="11237"/>
                </a:cubicBezTo>
                <a:cubicBezTo>
                  <a:pt x="14709" y="11226"/>
                  <a:pt x="14786" y="11238"/>
                  <a:pt x="14883" y="11212"/>
                </a:cubicBezTo>
              </a:path>
              <a:path w="14438" h="3101">
                <a:moveTo>
                  <a:pt x="14436" y="11460"/>
                </a:moveTo>
                <a:cubicBezTo>
                  <a:pt x="14517" y="11451"/>
                  <a:pt x="14584" y="11413"/>
                  <a:pt x="14660" y="11460"/>
                </a:cubicBezTo>
                <a:cubicBezTo>
                  <a:pt x="14735" y="11507"/>
                  <a:pt x="14720" y="11589"/>
                  <a:pt x="14684" y="11658"/>
                </a:cubicBezTo>
                <a:cubicBezTo>
                  <a:pt x="14650" y="11723"/>
                  <a:pt x="14562" y="11793"/>
                  <a:pt x="14536" y="11857"/>
                </a:cubicBezTo>
                <a:cubicBezTo>
                  <a:pt x="14500" y="11945"/>
                  <a:pt x="14521" y="11966"/>
                  <a:pt x="14585" y="12030"/>
                </a:cubicBezTo>
                <a:cubicBezTo>
                  <a:pt x="14649" y="12094"/>
                  <a:pt x="14675" y="12083"/>
                  <a:pt x="14759" y="12055"/>
                </a:cubicBezTo>
              </a:path>
              <a:path w="14438" h="3101">
                <a:moveTo>
                  <a:pt x="14932" y="11584"/>
                </a:moveTo>
                <a:cubicBezTo>
                  <a:pt x="14845" y="11634"/>
                  <a:pt x="14838" y="11678"/>
                  <a:pt x="14833" y="11782"/>
                </a:cubicBezTo>
                <a:cubicBezTo>
                  <a:pt x="14827" y="11897"/>
                  <a:pt x="14894" y="11925"/>
                  <a:pt x="14957" y="12005"/>
                </a:cubicBezTo>
                <a:cubicBezTo>
                  <a:pt x="15000" y="12060"/>
                  <a:pt x="15116" y="12198"/>
                  <a:pt x="15205" y="12179"/>
                </a:cubicBezTo>
                <a:cubicBezTo>
                  <a:pt x="15238" y="12162"/>
                  <a:pt x="15271" y="12146"/>
                  <a:pt x="15304" y="12129"/>
                </a:cubicBezTo>
              </a:path>
              <a:path w="14438" h="3101">
                <a:moveTo>
                  <a:pt x="15404" y="11956"/>
                </a:moveTo>
                <a:cubicBezTo>
                  <a:pt x="15249" y="11915"/>
                  <a:pt x="15247" y="11877"/>
                  <a:pt x="15180" y="12005"/>
                </a:cubicBezTo>
                <a:cubicBezTo>
                  <a:pt x="15131" y="12098"/>
                  <a:pt x="15165" y="12179"/>
                  <a:pt x="15180" y="12278"/>
                </a:cubicBezTo>
              </a:path>
              <a:path w="14438" h="3101">
                <a:moveTo>
                  <a:pt x="15602" y="11708"/>
                </a:moveTo>
                <a:cubicBezTo>
                  <a:pt x="15628" y="11802"/>
                  <a:pt x="15640" y="11919"/>
                  <a:pt x="15677" y="12005"/>
                </a:cubicBezTo>
                <a:cubicBezTo>
                  <a:pt x="15710" y="12040"/>
                  <a:pt x="15718" y="12061"/>
                  <a:pt x="15701" y="12105"/>
                </a:cubicBezTo>
                <a:cubicBezTo>
                  <a:pt x="15676" y="11990"/>
                  <a:pt x="15688" y="11916"/>
                  <a:pt x="15701" y="11807"/>
                </a:cubicBezTo>
                <a:cubicBezTo>
                  <a:pt x="15716" y="11682"/>
                  <a:pt x="15681" y="11559"/>
                  <a:pt x="15677" y="11435"/>
                </a:cubicBezTo>
                <a:cubicBezTo>
                  <a:pt x="15675" y="11372"/>
                  <a:pt x="15640" y="11268"/>
                  <a:pt x="15652" y="11212"/>
                </a:cubicBezTo>
                <a:cubicBezTo>
                  <a:pt x="15678" y="11097"/>
                  <a:pt x="15850" y="11137"/>
                  <a:pt x="15925" y="11162"/>
                </a:cubicBezTo>
                <a:cubicBezTo>
                  <a:pt x="15992" y="11184"/>
                  <a:pt x="16053" y="11194"/>
                  <a:pt x="16123" y="11212"/>
                </a:cubicBezTo>
              </a:path>
              <a:path w="14438" h="3101">
                <a:moveTo>
                  <a:pt x="15850" y="11311"/>
                </a:moveTo>
                <a:cubicBezTo>
                  <a:pt x="15932" y="11352"/>
                  <a:pt x="16015" y="11373"/>
                  <a:pt x="16098" y="11410"/>
                </a:cubicBezTo>
                <a:cubicBezTo>
                  <a:pt x="16209" y="11460"/>
                  <a:pt x="16130" y="11549"/>
                  <a:pt x="16073" y="11609"/>
                </a:cubicBezTo>
                <a:cubicBezTo>
                  <a:pt x="15996" y="11691"/>
                  <a:pt x="15905" y="11759"/>
                  <a:pt x="15850" y="11857"/>
                </a:cubicBezTo>
                <a:cubicBezTo>
                  <a:pt x="15809" y="11930"/>
                  <a:pt x="15869" y="12011"/>
                  <a:pt x="15949" y="12030"/>
                </a:cubicBezTo>
                <a:cubicBezTo>
                  <a:pt x="16022" y="12047"/>
                  <a:pt x="16085" y="12008"/>
                  <a:pt x="16148" y="11981"/>
                </a:cubicBezTo>
              </a:path>
              <a:path w="14438" h="3101">
                <a:moveTo>
                  <a:pt x="16297" y="11609"/>
                </a:moveTo>
                <a:cubicBezTo>
                  <a:pt x="16216" y="11677"/>
                  <a:pt x="16172" y="11771"/>
                  <a:pt x="16197" y="11881"/>
                </a:cubicBezTo>
                <a:cubicBezTo>
                  <a:pt x="16216" y="11965"/>
                  <a:pt x="16329" y="12084"/>
                  <a:pt x="16396" y="12129"/>
                </a:cubicBezTo>
                <a:cubicBezTo>
                  <a:pt x="16457" y="12169"/>
                  <a:pt x="16621" y="12171"/>
                  <a:pt x="16669" y="12105"/>
                </a:cubicBezTo>
                <a:cubicBezTo>
                  <a:pt x="16763" y="11978"/>
                  <a:pt x="16602" y="11937"/>
                  <a:pt x="16520" y="11931"/>
                </a:cubicBezTo>
                <a:cubicBezTo>
                  <a:pt x="16447" y="11926"/>
                  <a:pt x="16364" y="11938"/>
                  <a:pt x="16321" y="12005"/>
                </a:cubicBezTo>
                <a:cubicBezTo>
                  <a:pt x="16300" y="12049"/>
                  <a:pt x="16297" y="12061"/>
                  <a:pt x="16272" y="12080"/>
                </a:cubicBezTo>
              </a:path>
              <a:path w="14438" h="3101">
                <a:moveTo>
                  <a:pt x="15230" y="10244"/>
                </a:moveTo>
                <a:cubicBezTo>
                  <a:pt x="15187" y="10316"/>
                  <a:pt x="15205" y="10385"/>
                  <a:pt x="15230" y="10468"/>
                </a:cubicBezTo>
                <a:cubicBezTo>
                  <a:pt x="15249" y="10530"/>
                  <a:pt x="15276" y="10583"/>
                  <a:pt x="15304" y="10641"/>
                </a:cubicBezTo>
                <a:cubicBezTo>
                  <a:pt x="15242" y="10596"/>
                  <a:pt x="15204" y="10532"/>
                  <a:pt x="15156" y="10468"/>
                </a:cubicBezTo>
                <a:cubicBezTo>
                  <a:pt x="15098" y="10390"/>
                  <a:pt x="15027" y="10292"/>
                  <a:pt x="15007" y="10195"/>
                </a:cubicBezTo>
                <a:cubicBezTo>
                  <a:pt x="14992" y="10121"/>
                  <a:pt x="15007" y="10071"/>
                  <a:pt x="15081" y="10046"/>
                </a:cubicBezTo>
                <a:cubicBezTo>
                  <a:pt x="15260" y="9986"/>
                  <a:pt x="15412" y="9975"/>
                  <a:pt x="15602" y="9971"/>
                </a:cubicBezTo>
                <a:cubicBezTo>
                  <a:pt x="15679" y="9969"/>
                  <a:pt x="15715" y="9980"/>
                  <a:pt x="15776" y="10021"/>
                </a:cubicBezTo>
              </a:path>
              <a:path w="14438" h="3101">
                <a:moveTo>
                  <a:pt x="15379" y="10294"/>
                </a:moveTo>
                <a:cubicBezTo>
                  <a:pt x="15469" y="10336"/>
                  <a:pt x="15560" y="10381"/>
                  <a:pt x="15652" y="10418"/>
                </a:cubicBezTo>
                <a:cubicBezTo>
                  <a:pt x="15677" y="10426"/>
                  <a:pt x="15701" y="10435"/>
                  <a:pt x="15726" y="10443"/>
                </a:cubicBezTo>
                <a:cubicBezTo>
                  <a:pt x="15706" y="10523"/>
                  <a:pt x="15663" y="10554"/>
                  <a:pt x="15602" y="10616"/>
                </a:cubicBezTo>
                <a:cubicBezTo>
                  <a:pt x="15561" y="10657"/>
                  <a:pt x="15522" y="10681"/>
                  <a:pt x="15478" y="10716"/>
                </a:cubicBezTo>
                <a:cubicBezTo>
                  <a:pt x="15567" y="10802"/>
                  <a:pt x="15631" y="10758"/>
                  <a:pt x="15751" y="10716"/>
                </a:cubicBezTo>
                <a:cubicBezTo>
                  <a:pt x="15768" y="10708"/>
                  <a:pt x="15784" y="10699"/>
                  <a:pt x="15801" y="10691"/>
                </a:cubicBezTo>
              </a:path>
              <a:path w="14438" h="3101">
                <a:moveTo>
                  <a:pt x="15925" y="10418"/>
                </a:moveTo>
                <a:cubicBezTo>
                  <a:pt x="15837" y="10505"/>
                  <a:pt x="15801" y="10522"/>
                  <a:pt x="15801" y="10641"/>
                </a:cubicBezTo>
                <a:cubicBezTo>
                  <a:pt x="15801" y="10743"/>
                  <a:pt x="15901" y="10741"/>
                  <a:pt x="15974" y="10765"/>
                </a:cubicBezTo>
                <a:cubicBezTo>
                  <a:pt x="16066" y="10796"/>
                  <a:pt x="16190" y="10807"/>
                  <a:pt x="16197" y="10666"/>
                </a:cubicBezTo>
                <a:cubicBezTo>
                  <a:pt x="16189" y="10649"/>
                  <a:pt x="16181" y="10633"/>
                  <a:pt x="16173" y="10616"/>
                </a:cubicBezTo>
                <a:cubicBezTo>
                  <a:pt x="16103" y="10625"/>
                  <a:pt x="16035" y="10649"/>
                  <a:pt x="15974" y="10691"/>
                </a:cubicBezTo>
                <a:cubicBezTo>
                  <a:pt x="15925" y="10725"/>
                  <a:pt x="15944" y="10841"/>
                  <a:pt x="15999" y="10864"/>
                </a:cubicBezTo>
                <a:cubicBezTo>
                  <a:pt x="16016" y="10864"/>
                  <a:pt x="16032" y="10864"/>
                  <a:pt x="16049" y="10864"/>
                </a:cubicBezTo>
              </a:path>
              <a:path w="14438" h="3101">
                <a:moveTo>
                  <a:pt x="16619" y="10914"/>
                </a:moveTo>
                <a:cubicBezTo>
                  <a:pt x="16710" y="10939"/>
                  <a:pt x="16800" y="10964"/>
                  <a:pt x="16892" y="10988"/>
                </a:cubicBezTo>
              </a:path>
              <a:path w="14438" h="3101">
                <a:moveTo>
                  <a:pt x="16669" y="11261"/>
                </a:moveTo>
                <a:cubicBezTo>
                  <a:pt x="16793" y="11261"/>
                  <a:pt x="16818" y="11261"/>
                  <a:pt x="16892" y="11261"/>
                </a:cubicBezTo>
              </a:path>
              <a:path w="14438" h="3101">
                <a:moveTo>
                  <a:pt x="17165" y="10418"/>
                </a:moveTo>
                <a:cubicBezTo>
                  <a:pt x="17203" y="10352"/>
                  <a:pt x="17235" y="10329"/>
                  <a:pt x="17314" y="10319"/>
                </a:cubicBezTo>
                <a:cubicBezTo>
                  <a:pt x="17397" y="10308"/>
                  <a:pt x="17468" y="10336"/>
                  <a:pt x="17537" y="10294"/>
                </a:cubicBezTo>
              </a:path>
              <a:path w="14438" h="3101">
                <a:moveTo>
                  <a:pt x="17214" y="10418"/>
                </a:moveTo>
                <a:cubicBezTo>
                  <a:pt x="17189" y="10443"/>
                  <a:pt x="17165" y="10467"/>
                  <a:pt x="17140" y="10492"/>
                </a:cubicBezTo>
                <a:cubicBezTo>
                  <a:pt x="17191" y="10543"/>
                  <a:pt x="17210" y="10540"/>
                  <a:pt x="17264" y="10567"/>
                </a:cubicBezTo>
                <a:cubicBezTo>
                  <a:pt x="17337" y="10603"/>
                  <a:pt x="17418" y="10601"/>
                  <a:pt x="17487" y="10641"/>
                </a:cubicBezTo>
                <a:cubicBezTo>
                  <a:pt x="17548" y="10676"/>
                  <a:pt x="17575" y="10781"/>
                  <a:pt x="17562" y="10840"/>
                </a:cubicBezTo>
                <a:cubicBezTo>
                  <a:pt x="17542" y="10929"/>
                  <a:pt x="17383" y="10893"/>
                  <a:pt x="17338" y="10889"/>
                </a:cubicBezTo>
                <a:cubicBezTo>
                  <a:pt x="17287" y="10884"/>
                  <a:pt x="17224" y="10863"/>
                  <a:pt x="17190" y="10815"/>
                </a:cubicBezTo>
                <a:cubicBezTo>
                  <a:pt x="17159" y="10772"/>
                  <a:pt x="17165" y="10740"/>
                  <a:pt x="17165" y="10691"/>
                </a:cubicBezTo>
              </a:path>
              <a:path w="14438" h="3101">
                <a:moveTo>
                  <a:pt x="17711" y="10443"/>
                </a:moveTo>
                <a:cubicBezTo>
                  <a:pt x="17736" y="10521"/>
                  <a:pt x="17775" y="10613"/>
                  <a:pt x="17785" y="10691"/>
                </a:cubicBezTo>
                <a:cubicBezTo>
                  <a:pt x="17794" y="10762"/>
                  <a:pt x="17785" y="10842"/>
                  <a:pt x="17785" y="10914"/>
                </a:cubicBezTo>
                <a:cubicBezTo>
                  <a:pt x="17757" y="10830"/>
                  <a:pt x="17760" y="10756"/>
                  <a:pt x="17760" y="10666"/>
                </a:cubicBezTo>
                <a:cubicBezTo>
                  <a:pt x="17760" y="10567"/>
                  <a:pt x="17735" y="10432"/>
                  <a:pt x="17785" y="10344"/>
                </a:cubicBezTo>
                <a:cubicBezTo>
                  <a:pt x="17847" y="10234"/>
                  <a:pt x="17878" y="10230"/>
                  <a:pt x="17983" y="10195"/>
                </a:cubicBezTo>
                <a:cubicBezTo>
                  <a:pt x="18042" y="10175"/>
                  <a:pt x="18068" y="10170"/>
                  <a:pt x="18132" y="10170"/>
                </a:cubicBezTo>
              </a:path>
              <a:path w="14438" h="3101">
                <a:moveTo>
                  <a:pt x="17983" y="10393"/>
                </a:moveTo>
                <a:cubicBezTo>
                  <a:pt x="18038" y="10393"/>
                  <a:pt x="18209" y="10360"/>
                  <a:pt x="18231" y="10443"/>
                </a:cubicBezTo>
                <a:cubicBezTo>
                  <a:pt x="18262" y="10562"/>
                  <a:pt x="18191" y="10622"/>
                  <a:pt x="18132" y="10691"/>
                </a:cubicBezTo>
                <a:cubicBezTo>
                  <a:pt x="18064" y="10772"/>
                  <a:pt x="18033" y="10829"/>
                  <a:pt x="18033" y="10914"/>
                </a:cubicBezTo>
                <a:cubicBezTo>
                  <a:pt x="18100" y="10948"/>
                  <a:pt x="18183" y="10956"/>
                  <a:pt x="18256" y="10914"/>
                </a:cubicBezTo>
                <a:cubicBezTo>
                  <a:pt x="18264" y="10906"/>
                  <a:pt x="18273" y="10897"/>
                  <a:pt x="18281" y="10889"/>
                </a:cubicBezTo>
              </a:path>
              <a:path w="14438" h="3101">
                <a:moveTo>
                  <a:pt x="18430" y="10492"/>
                </a:moveTo>
                <a:cubicBezTo>
                  <a:pt x="18376" y="10584"/>
                  <a:pt x="18315" y="10647"/>
                  <a:pt x="18306" y="10740"/>
                </a:cubicBezTo>
                <a:cubicBezTo>
                  <a:pt x="18300" y="10797"/>
                  <a:pt x="18378" y="10908"/>
                  <a:pt x="18430" y="10939"/>
                </a:cubicBezTo>
                <a:cubicBezTo>
                  <a:pt x="18489" y="10974"/>
                  <a:pt x="18622" y="10994"/>
                  <a:pt x="18678" y="10964"/>
                </a:cubicBezTo>
                <a:cubicBezTo>
                  <a:pt x="18742" y="10930"/>
                  <a:pt x="18786" y="10879"/>
                  <a:pt x="18802" y="10815"/>
                </a:cubicBezTo>
                <a:cubicBezTo>
                  <a:pt x="18738" y="10783"/>
                  <a:pt x="18673" y="10776"/>
                  <a:pt x="18604" y="10815"/>
                </a:cubicBezTo>
                <a:cubicBezTo>
                  <a:pt x="18510" y="10867"/>
                  <a:pt x="18459" y="10893"/>
                  <a:pt x="18430" y="10988"/>
                </a:cubicBezTo>
                <a:cubicBezTo>
                  <a:pt x="18422" y="11013"/>
                  <a:pt x="18413" y="11038"/>
                  <a:pt x="18405" y="11063"/>
                </a:cubicBezTo>
              </a:path>
              <a:path w="14438" h="3101">
                <a:moveTo>
                  <a:pt x="17264" y="11187"/>
                </a:moveTo>
                <a:cubicBezTo>
                  <a:pt x="17478" y="11187"/>
                  <a:pt x="17696" y="11194"/>
                  <a:pt x="17909" y="11212"/>
                </a:cubicBezTo>
                <a:cubicBezTo>
                  <a:pt x="18124" y="11230"/>
                  <a:pt x="18339" y="11248"/>
                  <a:pt x="18554" y="11261"/>
                </a:cubicBezTo>
                <a:cubicBezTo>
                  <a:pt x="18696" y="11269"/>
                  <a:pt x="18833" y="11286"/>
                  <a:pt x="18976" y="11286"/>
                </a:cubicBezTo>
                <a:cubicBezTo>
                  <a:pt x="18968" y="11286"/>
                  <a:pt x="18959" y="11286"/>
                  <a:pt x="18951" y="11286"/>
                </a:cubicBezTo>
              </a:path>
              <a:path w="14438" h="3101">
                <a:moveTo>
                  <a:pt x="17859" y="11509"/>
                </a:moveTo>
                <a:cubicBezTo>
                  <a:pt x="17950" y="11476"/>
                  <a:pt x="18033" y="11464"/>
                  <a:pt x="18132" y="11460"/>
                </a:cubicBezTo>
                <a:cubicBezTo>
                  <a:pt x="18215" y="11457"/>
                  <a:pt x="18260" y="11558"/>
                  <a:pt x="18256" y="11633"/>
                </a:cubicBezTo>
                <a:cubicBezTo>
                  <a:pt x="18251" y="11725"/>
                  <a:pt x="18221" y="11830"/>
                  <a:pt x="18157" y="11906"/>
                </a:cubicBezTo>
                <a:cubicBezTo>
                  <a:pt x="18100" y="11974"/>
                  <a:pt x="17995" y="12096"/>
                  <a:pt x="17909" y="12129"/>
                </a:cubicBezTo>
                <a:cubicBezTo>
                  <a:pt x="17859" y="12129"/>
                  <a:pt x="17843" y="12129"/>
                  <a:pt x="17810" y="12129"/>
                </a:cubicBezTo>
                <a:cubicBezTo>
                  <a:pt x="17816" y="12079"/>
                  <a:pt x="17832" y="11916"/>
                  <a:pt x="17909" y="11906"/>
                </a:cubicBezTo>
                <a:cubicBezTo>
                  <a:pt x="17982" y="11896"/>
                  <a:pt x="18047" y="11989"/>
                  <a:pt x="18083" y="12030"/>
                </a:cubicBezTo>
                <a:cubicBezTo>
                  <a:pt x="18183" y="12144"/>
                  <a:pt x="18231" y="12213"/>
                  <a:pt x="18380" y="12254"/>
                </a:cubicBezTo>
                <a:cubicBezTo>
                  <a:pt x="18432" y="12254"/>
                  <a:pt x="18450" y="12253"/>
                  <a:pt x="18479" y="12229"/>
                </a:cubicBezTo>
              </a:path>
              <a:path w="14438" h="3101">
                <a:moveTo>
                  <a:pt x="18678" y="11633"/>
                </a:moveTo>
                <a:cubicBezTo>
                  <a:pt x="18644" y="11709"/>
                  <a:pt x="18612" y="11798"/>
                  <a:pt x="18604" y="11881"/>
                </a:cubicBezTo>
                <a:cubicBezTo>
                  <a:pt x="18589" y="12037"/>
                  <a:pt x="18674" y="12094"/>
                  <a:pt x="18777" y="12179"/>
                </a:cubicBezTo>
                <a:cubicBezTo>
                  <a:pt x="18841" y="12232"/>
                  <a:pt x="18916" y="12271"/>
                  <a:pt x="19000" y="12229"/>
                </a:cubicBezTo>
                <a:cubicBezTo>
                  <a:pt x="19053" y="12202"/>
                  <a:pt x="19131" y="12154"/>
                  <a:pt x="19100" y="12080"/>
                </a:cubicBezTo>
                <a:cubicBezTo>
                  <a:pt x="19092" y="12072"/>
                  <a:pt x="19083" y="12063"/>
                  <a:pt x="19075" y="12055"/>
                </a:cubicBezTo>
                <a:cubicBezTo>
                  <a:pt x="19014" y="12063"/>
                  <a:pt x="18915" y="12104"/>
                  <a:pt x="18901" y="12179"/>
                </a:cubicBezTo>
                <a:cubicBezTo>
                  <a:pt x="18901" y="12304"/>
                  <a:pt x="18893" y="12332"/>
                  <a:pt x="18926" y="124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Ink 14"/>
          <p:cNvSpPr/>
          <p:nvPr/>
        </p:nvSpPr>
        <p:spPr>
          <a:xfrm>
            <a:off x="482760" y="3670200"/>
            <a:ext cx="561960" cy="330480"/>
          </a:xfrm>
          <a:custGeom>
            <a:avLst/>
            <a:gdLst/>
            <a:ahLst/>
            <a:rect l="l" t="t" r="r" b="b"/>
            <a:pathLst>
              <a:path w="1564" h="918">
                <a:moveTo>
                  <a:pt x="1712" y="10344"/>
                </a:moveTo>
                <a:cubicBezTo>
                  <a:pt x="1720" y="10377"/>
                  <a:pt x="1728" y="10410"/>
                  <a:pt x="1736" y="10443"/>
                </a:cubicBezTo>
                <a:cubicBezTo>
                  <a:pt x="1720" y="10382"/>
                  <a:pt x="1720" y="10285"/>
                  <a:pt x="1662" y="10244"/>
                </a:cubicBezTo>
                <a:cubicBezTo>
                  <a:pt x="1622" y="10216"/>
                  <a:pt x="1548" y="10178"/>
                  <a:pt x="1513" y="10220"/>
                </a:cubicBezTo>
                <a:cubicBezTo>
                  <a:pt x="1459" y="10285"/>
                  <a:pt x="1419" y="10307"/>
                  <a:pt x="1389" y="10393"/>
                </a:cubicBezTo>
                <a:cubicBezTo>
                  <a:pt x="1340" y="10531"/>
                  <a:pt x="1330" y="10605"/>
                  <a:pt x="1364" y="10740"/>
                </a:cubicBezTo>
                <a:cubicBezTo>
                  <a:pt x="1393" y="10857"/>
                  <a:pt x="1453" y="10885"/>
                  <a:pt x="1538" y="10964"/>
                </a:cubicBezTo>
                <a:cubicBezTo>
                  <a:pt x="1592" y="11014"/>
                  <a:pt x="1662" y="10983"/>
                  <a:pt x="1712" y="10939"/>
                </a:cubicBezTo>
                <a:cubicBezTo>
                  <a:pt x="1763" y="10894"/>
                  <a:pt x="1809" y="10859"/>
                  <a:pt x="1860" y="10815"/>
                </a:cubicBezTo>
              </a:path>
              <a:path w="1564" h="918">
                <a:moveTo>
                  <a:pt x="1984" y="10418"/>
                </a:moveTo>
                <a:cubicBezTo>
                  <a:pt x="1949" y="10478"/>
                  <a:pt x="1939" y="10542"/>
                  <a:pt x="1935" y="10616"/>
                </a:cubicBezTo>
                <a:cubicBezTo>
                  <a:pt x="1931" y="10698"/>
                  <a:pt x="1923" y="10789"/>
                  <a:pt x="1960" y="10864"/>
                </a:cubicBezTo>
                <a:cubicBezTo>
                  <a:pt x="2007" y="10961"/>
                  <a:pt x="2059" y="11054"/>
                  <a:pt x="2158" y="11013"/>
                </a:cubicBezTo>
                <a:cubicBezTo>
                  <a:pt x="2240" y="10979"/>
                  <a:pt x="2254" y="10934"/>
                  <a:pt x="2282" y="10864"/>
                </a:cubicBezTo>
                <a:cubicBezTo>
                  <a:pt x="2310" y="10792"/>
                  <a:pt x="2326" y="10673"/>
                  <a:pt x="2307" y="10592"/>
                </a:cubicBezTo>
                <a:cubicBezTo>
                  <a:pt x="2291" y="10526"/>
                  <a:pt x="2260" y="10439"/>
                  <a:pt x="2208" y="10393"/>
                </a:cubicBezTo>
                <a:cubicBezTo>
                  <a:pt x="2148" y="10341"/>
                  <a:pt x="2092" y="10337"/>
                  <a:pt x="2034" y="10344"/>
                </a:cubicBezTo>
                <a:cubicBezTo>
                  <a:pt x="1934" y="10357"/>
                  <a:pt x="1940" y="10402"/>
                  <a:pt x="1960" y="10492"/>
                </a:cubicBezTo>
              </a:path>
              <a:path w="1564" h="918">
                <a:moveTo>
                  <a:pt x="2729" y="10393"/>
                </a:moveTo>
                <a:cubicBezTo>
                  <a:pt x="2654" y="10402"/>
                  <a:pt x="2572" y="10426"/>
                  <a:pt x="2505" y="10468"/>
                </a:cubicBezTo>
                <a:cubicBezTo>
                  <a:pt x="2497" y="10476"/>
                  <a:pt x="2488" y="10484"/>
                  <a:pt x="2480" y="10492"/>
                </a:cubicBezTo>
                <a:cubicBezTo>
                  <a:pt x="2555" y="10582"/>
                  <a:pt x="2615" y="10638"/>
                  <a:pt x="2704" y="10716"/>
                </a:cubicBezTo>
                <a:cubicBezTo>
                  <a:pt x="2767" y="10771"/>
                  <a:pt x="2838" y="10847"/>
                  <a:pt x="2877" y="10914"/>
                </a:cubicBezTo>
                <a:cubicBezTo>
                  <a:pt x="2919" y="10985"/>
                  <a:pt x="2905" y="11010"/>
                  <a:pt x="2853" y="11063"/>
                </a:cubicBezTo>
                <a:cubicBezTo>
                  <a:pt x="2815" y="11102"/>
                  <a:pt x="2711" y="11109"/>
                  <a:pt x="2654" y="11112"/>
                </a:cubicBezTo>
                <a:cubicBezTo>
                  <a:pt x="2508" y="11120"/>
                  <a:pt x="2522" y="11069"/>
                  <a:pt x="2555" y="109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Ink 15"/>
          <p:cNvSpPr/>
          <p:nvPr/>
        </p:nvSpPr>
        <p:spPr>
          <a:xfrm>
            <a:off x="1258920" y="3527280"/>
            <a:ext cx="349200" cy="581040"/>
          </a:xfrm>
          <a:custGeom>
            <a:avLst/>
            <a:gdLst/>
            <a:ahLst/>
            <a:rect l="l" t="t" r="r" b="b"/>
            <a:pathLst>
              <a:path w="969" h="1613">
                <a:moveTo>
                  <a:pt x="3572" y="9872"/>
                </a:moveTo>
                <a:cubicBezTo>
                  <a:pt x="3572" y="9975"/>
                  <a:pt x="3562" y="10072"/>
                  <a:pt x="3597" y="10170"/>
                </a:cubicBezTo>
                <a:cubicBezTo>
                  <a:pt x="3626" y="10250"/>
                  <a:pt x="3672" y="10315"/>
                  <a:pt x="3770" y="10294"/>
                </a:cubicBezTo>
                <a:cubicBezTo>
                  <a:pt x="3855" y="10276"/>
                  <a:pt x="3885" y="10187"/>
                  <a:pt x="3919" y="10120"/>
                </a:cubicBezTo>
                <a:cubicBezTo>
                  <a:pt x="3953" y="10052"/>
                  <a:pt x="3990" y="9997"/>
                  <a:pt x="3994" y="9922"/>
                </a:cubicBezTo>
                <a:cubicBezTo>
                  <a:pt x="3997" y="9862"/>
                  <a:pt x="3979" y="9841"/>
                  <a:pt x="3944" y="9798"/>
                </a:cubicBezTo>
                <a:cubicBezTo>
                  <a:pt x="3890" y="9852"/>
                  <a:pt x="3859" y="9886"/>
                  <a:pt x="3870" y="9971"/>
                </a:cubicBezTo>
                <a:cubicBezTo>
                  <a:pt x="3881" y="10063"/>
                  <a:pt x="3928" y="10139"/>
                  <a:pt x="3969" y="10220"/>
                </a:cubicBezTo>
                <a:cubicBezTo>
                  <a:pt x="3997" y="10276"/>
                  <a:pt x="4011" y="10307"/>
                  <a:pt x="4018" y="10368"/>
                </a:cubicBezTo>
              </a:path>
              <a:path w="969" h="1613">
                <a:moveTo>
                  <a:pt x="3497" y="10542"/>
                </a:moveTo>
                <a:cubicBezTo>
                  <a:pt x="3594" y="10578"/>
                  <a:pt x="3690" y="10567"/>
                  <a:pt x="3795" y="10567"/>
                </a:cubicBezTo>
                <a:cubicBezTo>
                  <a:pt x="3920" y="10567"/>
                  <a:pt x="4040" y="10542"/>
                  <a:pt x="4167" y="10542"/>
                </a:cubicBezTo>
                <a:cubicBezTo>
                  <a:pt x="4208" y="10542"/>
                  <a:pt x="4250" y="10542"/>
                  <a:pt x="4291" y="10542"/>
                </a:cubicBezTo>
              </a:path>
              <a:path w="969" h="1613">
                <a:moveTo>
                  <a:pt x="3845" y="10815"/>
                </a:moveTo>
                <a:cubicBezTo>
                  <a:pt x="3870" y="10890"/>
                  <a:pt x="3931" y="10868"/>
                  <a:pt x="4018" y="10840"/>
                </a:cubicBezTo>
                <a:cubicBezTo>
                  <a:pt x="4058" y="10827"/>
                  <a:pt x="4185" y="10797"/>
                  <a:pt x="4217" y="10840"/>
                </a:cubicBezTo>
                <a:cubicBezTo>
                  <a:pt x="4256" y="10893"/>
                  <a:pt x="4203" y="10998"/>
                  <a:pt x="4167" y="11038"/>
                </a:cubicBezTo>
                <a:cubicBezTo>
                  <a:pt x="4116" y="11095"/>
                  <a:pt x="4063" y="11132"/>
                  <a:pt x="4018" y="11187"/>
                </a:cubicBezTo>
                <a:cubicBezTo>
                  <a:pt x="3988" y="11223"/>
                  <a:pt x="3908" y="11247"/>
                  <a:pt x="3894" y="11286"/>
                </a:cubicBezTo>
                <a:cubicBezTo>
                  <a:pt x="3859" y="11385"/>
                  <a:pt x="3955" y="11407"/>
                  <a:pt x="4018" y="11410"/>
                </a:cubicBezTo>
                <a:cubicBezTo>
                  <a:pt x="4175" y="11418"/>
                  <a:pt x="4597" y="11410"/>
                  <a:pt x="4440" y="114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Ink 16"/>
          <p:cNvSpPr/>
          <p:nvPr/>
        </p:nvSpPr>
        <p:spPr>
          <a:xfrm>
            <a:off x="8170920" y="2544840"/>
            <a:ext cx="14292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22721" y="7094"/>
                </a:moveTo>
                <a:cubicBezTo>
                  <a:pt x="22811" y="7060"/>
                  <a:pt x="22896" y="7069"/>
                  <a:pt x="22994" y="7069"/>
                </a:cubicBezTo>
              </a:path>
              <a:path w="398" h="522">
                <a:moveTo>
                  <a:pt x="22746" y="7094"/>
                </a:moveTo>
                <a:cubicBezTo>
                  <a:pt x="22724" y="7153"/>
                  <a:pt x="22721" y="7179"/>
                  <a:pt x="22721" y="7243"/>
                </a:cubicBezTo>
                <a:cubicBezTo>
                  <a:pt x="22777" y="7235"/>
                  <a:pt x="22832" y="7200"/>
                  <a:pt x="22895" y="7218"/>
                </a:cubicBezTo>
                <a:cubicBezTo>
                  <a:pt x="22944" y="7232"/>
                  <a:pt x="23017" y="7303"/>
                  <a:pt x="23044" y="7342"/>
                </a:cubicBezTo>
                <a:cubicBezTo>
                  <a:pt x="23078" y="7391"/>
                  <a:pt x="23092" y="7484"/>
                  <a:pt x="23068" y="7516"/>
                </a:cubicBezTo>
                <a:cubicBezTo>
                  <a:pt x="22999" y="7608"/>
                  <a:pt x="22914" y="7573"/>
                  <a:pt x="22820" y="7565"/>
                </a:cubicBezTo>
                <a:cubicBezTo>
                  <a:pt x="22763" y="7560"/>
                  <a:pt x="22743" y="7568"/>
                  <a:pt x="22696" y="75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Ink 17"/>
          <p:cNvSpPr/>
          <p:nvPr/>
        </p:nvSpPr>
        <p:spPr>
          <a:xfrm>
            <a:off x="6269040" y="1677960"/>
            <a:ext cx="696960" cy="581040"/>
          </a:xfrm>
          <a:custGeom>
            <a:avLst/>
            <a:gdLst/>
            <a:ahLst/>
            <a:rect l="l" t="t" r="r" b="b"/>
            <a:pathLst>
              <a:path w="1936" h="1614">
                <a:moveTo>
                  <a:pt x="17438" y="5928"/>
                </a:moveTo>
                <a:cubicBezTo>
                  <a:pt x="17506" y="5923"/>
                  <a:pt x="17569" y="5913"/>
                  <a:pt x="17636" y="5904"/>
                </a:cubicBezTo>
              </a:path>
              <a:path w="1936" h="1614">
                <a:moveTo>
                  <a:pt x="17413" y="6226"/>
                </a:moveTo>
                <a:cubicBezTo>
                  <a:pt x="17506" y="6226"/>
                  <a:pt x="17573" y="6206"/>
                  <a:pt x="17661" y="6176"/>
                </a:cubicBezTo>
              </a:path>
              <a:path w="1936" h="1614">
                <a:moveTo>
                  <a:pt x="18008" y="5283"/>
                </a:moveTo>
                <a:cubicBezTo>
                  <a:pt x="18008" y="5382"/>
                  <a:pt x="17987" y="5514"/>
                  <a:pt x="18033" y="5606"/>
                </a:cubicBezTo>
                <a:cubicBezTo>
                  <a:pt x="18041" y="5614"/>
                  <a:pt x="18050" y="5623"/>
                  <a:pt x="18058" y="5631"/>
                </a:cubicBezTo>
                <a:cubicBezTo>
                  <a:pt x="18058" y="5559"/>
                  <a:pt x="18055" y="5494"/>
                  <a:pt x="18033" y="5432"/>
                </a:cubicBezTo>
                <a:cubicBezTo>
                  <a:pt x="18002" y="5346"/>
                  <a:pt x="17973" y="5248"/>
                  <a:pt x="17959" y="5159"/>
                </a:cubicBezTo>
                <a:cubicBezTo>
                  <a:pt x="17949" y="5099"/>
                  <a:pt x="17965" y="5016"/>
                  <a:pt x="17983" y="4961"/>
                </a:cubicBezTo>
                <a:cubicBezTo>
                  <a:pt x="18011" y="4877"/>
                  <a:pt x="18071" y="4885"/>
                  <a:pt x="18132" y="4837"/>
                </a:cubicBezTo>
                <a:cubicBezTo>
                  <a:pt x="18222" y="4766"/>
                  <a:pt x="18250" y="4768"/>
                  <a:pt x="18355" y="4738"/>
                </a:cubicBezTo>
                <a:cubicBezTo>
                  <a:pt x="18425" y="4718"/>
                  <a:pt x="18493" y="4704"/>
                  <a:pt x="18554" y="4663"/>
                </a:cubicBezTo>
              </a:path>
              <a:path w="1936" h="1614">
                <a:moveTo>
                  <a:pt x="18132" y="5035"/>
                </a:moveTo>
                <a:cubicBezTo>
                  <a:pt x="18209" y="4994"/>
                  <a:pt x="18282" y="4995"/>
                  <a:pt x="18355" y="4961"/>
                </a:cubicBezTo>
                <a:cubicBezTo>
                  <a:pt x="18403" y="4938"/>
                  <a:pt x="18393" y="4951"/>
                  <a:pt x="18455" y="4986"/>
                </a:cubicBezTo>
                <a:cubicBezTo>
                  <a:pt x="18394" y="5106"/>
                  <a:pt x="18336" y="5176"/>
                  <a:pt x="18256" y="5283"/>
                </a:cubicBezTo>
                <a:cubicBezTo>
                  <a:pt x="18220" y="5331"/>
                  <a:pt x="18175" y="5384"/>
                  <a:pt x="18207" y="5432"/>
                </a:cubicBezTo>
                <a:cubicBezTo>
                  <a:pt x="18252" y="5498"/>
                  <a:pt x="18380" y="5444"/>
                  <a:pt x="18430" y="5407"/>
                </a:cubicBezTo>
                <a:cubicBezTo>
                  <a:pt x="18446" y="5391"/>
                  <a:pt x="18463" y="5374"/>
                  <a:pt x="18479" y="5358"/>
                </a:cubicBezTo>
              </a:path>
              <a:path w="1936" h="1614">
                <a:moveTo>
                  <a:pt x="18604" y="4787"/>
                </a:moveTo>
                <a:cubicBezTo>
                  <a:pt x="18594" y="4900"/>
                  <a:pt x="18545" y="4996"/>
                  <a:pt x="18529" y="5110"/>
                </a:cubicBezTo>
                <a:cubicBezTo>
                  <a:pt x="18522" y="5162"/>
                  <a:pt x="18549" y="5246"/>
                  <a:pt x="18579" y="5283"/>
                </a:cubicBezTo>
                <a:cubicBezTo>
                  <a:pt x="18613" y="5325"/>
                  <a:pt x="18674" y="5374"/>
                  <a:pt x="18728" y="5383"/>
                </a:cubicBezTo>
                <a:cubicBezTo>
                  <a:pt x="18844" y="5403"/>
                  <a:pt x="18885" y="5351"/>
                  <a:pt x="18926" y="5283"/>
                </a:cubicBezTo>
                <a:cubicBezTo>
                  <a:pt x="18949" y="5243"/>
                  <a:pt x="18971" y="5162"/>
                  <a:pt x="18951" y="5110"/>
                </a:cubicBezTo>
                <a:cubicBezTo>
                  <a:pt x="18925" y="5042"/>
                  <a:pt x="18784" y="5100"/>
                  <a:pt x="18752" y="5135"/>
                </a:cubicBezTo>
                <a:cubicBezTo>
                  <a:pt x="18685" y="5207"/>
                  <a:pt x="18624" y="5285"/>
                  <a:pt x="18604" y="5383"/>
                </a:cubicBezTo>
                <a:cubicBezTo>
                  <a:pt x="18604" y="5432"/>
                  <a:pt x="18604" y="5449"/>
                  <a:pt x="18604" y="5482"/>
                </a:cubicBezTo>
              </a:path>
              <a:path w="1936" h="1614">
                <a:moveTo>
                  <a:pt x="18083" y="5755"/>
                </a:moveTo>
                <a:cubicBezTo>
                  <a:pt x="18240" y="5702"/>
                  <a:pt x="18396" y="5654"/>
                  <a:pt x="18554" y="5606"/>
                </a:cubicBezTo>
                <a:cubicBezTo>
                  <a:pt x="18663" y="5573"/>
                  <a:pt x="18829" y="5493"/>
                  <a:pt x="18926" y="5432"/>
                </a:cubicBezTo>
                <a:cubicBezTo>
                  <a:pt x="18976" y="5400"/>
                  <a:pt x="19061" y="5283"/>
                  <a:pt x="19124" y="5283"/>
                </a:cubicBezTo>
                <a:cubicBezTo>
                  <a:pt x="19124" y="5291"/>
                  <a:pt x="19124" y="5300"/>
                  <a:pt x="19124" y="5308"/>
                </a:cubicBezTo>
              </a:path>
              <a:path w="1936" h="1614">
                <a:moveTo>
                  <a:pt x="18529" y="5854"/>
                </a:moveTo>
                <a:cubicBezTo>
                  <a:pt x="18455" y="5891"/>
                  <a:pt x="18569" y="5796"/>
                  <a:pt x="18579" y="5755"/>
                </a:cubicBezTo>
                <a:cubicBezTo>
                  <a:pt x="18600" y="5667"/>
                  <a:pt x="18607" y="5680"/>
                  <a:pt x="18703" y="5680"/>
                </a:cubicBezTo>
                <a:cubicBezTo>
                  <a:pt x="18822" y="5680"/>
                  <a:pt x="18773" y="5856"/>
                  <a:pt x="18752" y="5928"/>
                </a:cubicBezTo>
                <a:cubicBezTo>
                  <a:pt x="18730" y="6005"/>
                  <a:pt x="18686" y="6080"/>
                  <a:pt x="18653" y="6152"/>
                </a:cubicBezTo>
                <a:cubicBezTo>
                  <a:pt x="18629" y="6205"/>
                  <a:pt x="18594" y="6236"/>
                  <a:pt x="18554" y="6276"/>
                </a:cubicBezTo>
                <a:cubicBezTo>
                  <a:pt x="18533" y="6223"/>
                  <a:pt x="18550" y="6182"/>
                  <a:pt x="18579" y="6127"/>
                </a:cubicBezTo>
                <a:cubicBezTo>
                  <a:pt x="18587" y="6110"/>
                  <a:pt x="18596" y="6094"/>
                  <a:pt x="18604" y="6077"/>
                </a:cubicBezTo>
                <a:cubicBezTo>
                  <a:pt x="18653" y="6102"/>
                  <a:pt x="18724" y="6167"/>
                  <a:pt x="18777" y="6176"/>
                </a:cubicBezTo>
                <a:cubicBezTo>
                  <a:pt x="18845" y="6176"/>
                  <a:pt x="18864" y="6179"/>
                  <a:pt x="18901" y="6152"/>
                </a:cubicBezTo>
              </a:path>
              <a:path w="1936" h="1614">
                <a:moveTo>
                  <a:pt x="18951" y="5556"/>
                </a:moveTo>
                <a:cubicBezTo>
                  <a:pt x="18939" y="5648"/>
                  <a:pt x="18912" y="5732"/>
                  <a:pt x="18901" y="5829"/>
                </a:cubicBezTo>
                <a:cubicBezTo>
                  <a:pt x="18893" y="5901"/>
                  <a:pt x="18903" y="5949"/>
                  <a:pt x="18951" y="6003"/>
                </a:cubicBezTo>
                <a:cubicBezTo>
                  <a:pt x="18990" y="6046"/>
                  <a:pt x="19098" y="6081"/>
                  <a:pt x="19149" y="6077"/>
                </a:cubicBezTo>
                <a:cubicBezTo>
                  <a:pt x="19258" y="6068"/>
                  <a:pt x="19314" y="6040"/>
                  <a:pt x="19348" y="5928"/>
                </a:cubicBezTo>
                <a:cubicBezTo>
                  <a:pt x="19361" y="5887"/>
                  <a:pt x="19353" y="5769"/>
                  <a:pt x="19298" y="5755"/>
                </a:cubicBezTo>
                <a:cubicBezTo>
                  <a:pt x="19213" y="5733"/>
                  <a:pt x="19186" y="5793"/>
                  <a:pt x="19149" y="5854"/>
                </a:cubicBezTo>
                <a:cubicBezTo>
                  <a:pt x="19088" y="5956"/>
                  <a:pt x="19096" y="5975"/>
                  <a:pt x="19149" y="6077"/>
                </a:cubicBezTo>
                <a:cubicBezTo>
                  <a:pt x="19157" y="6094"/>
                  <a:pt x="19166" y="6110"/>
                  <a:pt x="19174" y="61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Ink 18"/>
          <p:cNvSpPr/>
          <p:nvPr/>
        </p:nvSpPr>
        <p:spPr>
          <a:xfrm>
            <a:off x="6946920" y="2268360"/>
            <a:ext cx="152280" cy="214560"/>
          </a:xfrm>
          <a:custGeom>
            <a:avLst/>
            <a:gdLst/>
            <a:ahLst/>
            <a:rect l="l" t="t" r="r" b="b"/>
            <a:pathLst>
              <a:path w="423" h="597">
                <a:moveTo>
                  <a:pt x="19298" y="6524"/>
                </a:moveTo>
                <a:cubicBezTo>
                  <a:pt x="19303" y="6619"/>
                  <a:pt x="19303" y="6728"/>
                  <a:pt x="19323" y="6821"/>
                </a:cubicBezTo>
                <a:cubicBezTo>
                  <a:pt x="19342" y="6879"/>
                  <a:pt x="19369" y="6904"/>
                  <a:pt x="19323" y="6896"/>
                </a:cubicBezTo>
              </a:path>
              <a:path w="423" h="597">
                <a:moveTo>
                  <a:pt x="19496" y="6300"/>
                </a:moveTo>
                <a:cubicBezTo>
                  <a:pt x="19562" y="6314"/>
                  <a:pt x="19733" y="6361"/>
                  <a:pt x="19621" y="6474"/>
                </a:cubicBezTo>
                <a:cubicBezTo>
                  <a:pt x="19577" y="6496"/>
                  <a:pt x="19565" y="6499"/>
                  <a:pt x="19546" y="6524"/>
                </a:cubicBezTo>
                <a:cubicBezTo>
                  <a:pt x="19621" y="6524"/>
                  <a:pt x="19642" y="6521"/>
                  <a:pt x="19695" y="6573"/>
                </a:cubicBezTo>
                <a:cubicBezTo>
                  <a:pt x="19738" y="6616"/>
                  <a:pt x="19730" y="6679"/>
                  <a:pt x="19695" y="6722"/>
                </a:cubicBezTo>
                <a:cubicBezTo>
                  <a:pt x="19646" y="6783"/>
                  <a:pt x="19568" y="6802"/>
                  <a:pt x="19496" y="6821"/>
                </a:cubicBezTo>
                <a:cubicBezTo>
                  <a:pt x="19488" y="6821"/>
                  <a:pt x="19480" y="6821"/>
                  <a:pt x="19472" y="68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Ink 19"/>
          <p:cNvSpPr/>
          <p:nvPr/>
        </p:nvSpPr>
        <p:spPr>
          <a:xfrm>
            <a:off x="544680" y="4919760"/>
            <a:ext cx="4403520" cy="1189080"/>
          </a:xfrm>
          <a:custGeom>
            <a:avLst/>
            <a:gdLst/>
            <a:ahLst/>
            <a:rect l="l" t="t" r="r" b="b"/>
            <a:pathLst>
              <a:path w="12230" h="3300">
                <a:moveTo>
                  <a:pt x="1761" y="13940"/>
                </a:moveTo>
                <a:cubicBezTo>
                  <a:pt x="1745" y="14079"/>
                  <a:pt x="1703" y="14272"/>
                  <a:pt x="1712" y="14412"/>
                </a:cubicBezTo>
                <a:cubicBezTo>
                  <a:pt x="1713" y="14426"/>
                  <a:pt x="1767" y="14650"/>
                  <a:pt x="1736" y="14660"/>
                </a:cubicBezTo>
                <a:cubicBezTo>
                  <a:pt x="1720" y="14652"/>
                  <a:pt x="1703" y="14643"/>
                  <a:pt x="1687" y="14635"/>
                </a:cubicBezTo>
              </a:path>
              <a:path w="12230" h="3300">
                <a:moveTo>
                  <a:pt x="1538" y="14238"/>
                </a:moveTo>
                <a:cubicBezTo>
                  <a:pt x="1516" y="14173"/>
                  <a:pt x="1508" y="14158"/>
                  <a:pt x="1513" y="14114"/>
                </a:cubicBezTo>
                <a:cubicBezTo>
                  <a:pt x="1585" y="14083"/>
                  <a:pt x="1639" y="14094"/>
                  <a:pt x="1712" y="14114"/>
                </a:cubicBezTo>
                <a:cubicBezTo>
                  <a:pt x="1818" y="14143"/>
                  <a:pt x="1967" y="14204"/>
                  <a:pt x="2059" y="14263"/>
                </a:cubicBezTo>
                <a:cubicBezTo>
                  <a:pt x="2084" y="14288"/>
                  <a:pt x="2092" y="14296"/>
                  <a:pt x="2108" y="14312"/>
                </a:cubicBezTo>
                <a:cubicBezTo>
                  <a:pt x="2093" y="14351"/>
                  <a:pt x="2063" y="14445"/>
                  <a:pt x="2009" y="14461"/>
                </a:cubicBezTo>
                <a:cubicBezTo>
                  <a:pt x="1976" y="14470"/>
                  <a:pt x="1896" y="14509"/>
                  <a:pt x="1885" y="14560"/>
                </a:cubicBezTo>
                <a:cubicBezTo>
                  <a:pt x="1863" y="14663"/>
                  <a:pt x="1930" y="14691"/>
                  <a:pt x="2009" y="14660"/>
                </a:cubicBezTo>
                <a:cubicBezTo>
                  <a:pt x="2096" y="14626"/>
                  <a:pt x="2125" y="14543"/>
                  <a:pt x="2158" y="14461"/>
                </a:cubicBezTo>
                <a:cubicBezTo>
                  <a:pt x="2180" y="14396"/>
                  <a:pt x="2188" y="14381"/>
                  <a:pt x="2183" y="14337"/>
                </a:cubicBezTo>
                <a:cubicBezTo>
                  <a:pt x="2202" y="14407"/>
                  <a:pt x="2207" y="14496"/>
                  <a:pt x="2232" y="14560"/>
                </a:cubicBezTo>
                <a:cubicBezTo>
                  <a:pt x="2270" y="14658"/>
                  <a:pt x="2304" y="14722"/>
                  <a:pt x="2406" y="14660"/>
                </a:cubicBezTo>
                <a:cubicBezTo>
                  <a:pt x="2456" y="14630"/>
                  <a:pt x="2443" y="14512"/>
                  <a:pt x="2456" y="14461"/>
                </a:cubicBezTo>
                <a:cubicBezTo>
                  <a:pt x="2477" y="14396"/>
                  <a:pt x="2485" y="14380"/>
                  <a:pt x="2480" y="14337"/>
                </a:cubicBezTo>
                <a:cubicBezTo>
                  <a:pt x="2480" y="14441"/>
                  <a:pt x="2469" y="14539"/>
                  <a:pt x="2505" y="14635"/>
                </a:cubicBezTo>
                <a:cubicBezTo>
                  <a:pt x="2539" y="14584"/>
                  <a:pt x="2590" y="14500"/>
                  <a:pt x="2604" y="14436"/>
                </a:cubicBezTo>
                <a:cubicBezTo>
                  <a:pt x="2626" y="14334"/>
                  <a:pt x="2646" y="14197"/>
                  <a:pt x="2753" y="14139"/>
                </a:cubicBezTo>
                <a:cubicBezTo>
                  <a:pt x="2816" y="14104"/>
                  <a:pt x="2917" y="14213"/>
                  <a:pt x="2927" y="14263"/>
                </a:cubicBezTo>
                <a:cubicBezTo>
                  <a:pt x="2947" y="14360"/>
                  <a:pt x="2952" y="14459"/>
                  <a:pt x="2952" y="14560"/>
                </a:cubicBezTo>
                <a:cubicBezTo>
                  <a:pt x="2952" y="14605"/>
                  <a:pt x="2944" y="14781"/>
                  <a:pt x="2977" y="14808"/>
                </a:cubicBezTo>
                <a:cubicBezTo>
                  <a:pt x="2993" y="14808"/>
                  <a:pt x="3010" y="14808"/>
                  <a:pt x="3026" y="14808"/>
                </a:cubicBezTo>
              </a:path>
              <a:path w="12230" h="3300">
                <a:moveTo>
                  <a:pt x="3373" y="13767"/>
                </a:moveTo>
                <a:cubicBezTo>
                  <a:pt x="3373" y="13902"/>
                  <a:pt x="3365" y="14031"/>
                  <a:pt x="3398" y="14163"/>
                </a:cubicBezTo>
                <a:cubicBezTo>
                  <a:pt x="3421" y="14231"/>
                  <a:pt x="3422" y="14252"/>
                  <a:pt x="3473" y="14263"/>
                </a:cubicBezTo>
                <a:cubicBezTo>
                  <a:pt x="3553" y="14195"/>
                  <a:pt x="3558" y="14178"/>
                  <a:pt x="3597" y="14089"/>
                </a:cubicBezTo>
                <a:cubicBezTo>
                  <a:pt x="3627" y="14020"/>
                  <a:pt x="3618" y="13932"/>
                  <a:pt x="3646" y="13866"/>
                </a:cubicBezTo>
                <a:cubicBezTo>
                  <a:pt x="3661" y="13832"/>
                  <a:pt x="3671" y="13700"/>
                  <a:pt x="3671" y="13816"/>
                </a:cubicBezTo>
                <a:cubicBezTo>
                  <a:pt x="3671" y="13915"/>
                  <a:pt x="3681" y="13997"/>
                  <a:pt x="3696" y="14089"/>
                </a:cubicBezTo>
                <a:cubicBezTo>
                  <a:pt x="3696" y="14147"/>
                  <a:pt x="3696" y="14172"/>
                  <a:pt x="3696" y="14213"/>
                </a:cubicBezTo>
              </a:path>
              <a:path w="12230" h="3300">
                <a:moveTo>
                  <a:pt x="3324" y="14238"/>
                </a:moveTo>
                <a:cubicBezTo>
                  <a:pt x="3389" y="14247"/>
                  <a:pt x="3452" y="14249"/>
                  <a:pt x="3522" y="14263"/>
                </a:cubicBezTo>
                <a:cubicBezTo>
                  <a:pt x="3613" y="14280"/>
                  <a:pt x="3707" y="14299"/>
                  <a:pt x="3795" y="14312"/>
                </a:cubicBezTo>
                <a:cubicBezTo>
                  <a:pt x="3849" y="14320"/>
                  <a:pt x="3915" y="14312"/>
                  <a:pt x="3969" y="14312"/>
                </a:cubicBezTo>
              </a:path>
              <a:path w="12230" h="3300">
                <a:moveTo>
                  <a:pt x="3572" y="14635"/>
                </a:moveTo>
                <a:cubicBezTo>
                  <a:pt x="3636" y="14626"/>
                  <a:pt x="3682" y="14608"/>
                  <a:pt x="3746" y="14585"/>
                </a:cubicBezTo>
                <a:cubicBezTo>
                  <a:pt x="3824" y="14558"/>
                  <a:pt x="3852" y="14551"/>
                  <a:pt x="3919" y="14585"/>
                </a:cubicBezTo>
                <a:cubicBezTo>
                  <a:pt x="3881" y="14623"/>
                  <a:pt x="3841" y="14657"/>
                  <a:pt x="3795" y="14684"/>
                </a:cubicBezTo>
                <a:cubicBezTo>
                  <a:pt x="3730" y="14723"/>
                  <a:pt x="3694" y="14776"/>
                  <a:pt x="3646" y="14833"/>
                </a:cubicBezTo>
                <a:cubicBezTo>
                  <a:pt x="3591" y="14899"/>
                  <a:pt x="3587" y="14928"/>
                  <a:pt x="3646" y="15007"/>
                </a:cubicBezTo>
                <a:cubicBezTo>
                  <a:pt x="3674" y="15044"/>
                  <a:pt x="3822" y="15063"/>
                  <a:pt x="3870" y="15056"/>
                </a:cubicBezTo>
                <a:cubicBezTo>
                  <a:pt x="3931" y="15047"/>
                  <a:pt x="3989" y="15009"/>
                  <a:pt x="4043" y="14982"/>
                </a:cubicBezTo>
              </a:path>
              <a:path w="12230" h="3300">
                <a:moveTo>
                  <a:pt x="4415" y="14412"/>
                </a:moveTo>
                <a:cubicBezTo>
                  <a:pt x="4494" y="14419"/>
                  <a:pt x="4505" y="14414"/>
                  <a:pt x="4564" y="14461"/>
                </a:cubicBezTo>
              </a:path>
              <a:path w="12230" h="3300">
                <a:moveTo>
                  <a:pt x="4316" y="14610"/>
                </a:moveTo>
                <a:cubicBezTo>
                  <a:pt x="4404" y="14592"/>
                  <a:pt x="4461" y="14559"/>
                  <a:pt x="4539" y="14511"/>
                </a:cubicBezTo>
              </a:path>
              <a:path w="12230" h="3300">
                <a:moveTo>
                  <a:pt x="4167" y="14238"/>
                </a:moveTo>
                <a:cubicBezTo>
                  <a:pt x="4240" y="14238"/>
                  <a:pt x="4297" y="14250"/>
                  <a:pt x="4366" y="14263"/>
                </a:cubicBezTo>
                <a:cubicBezTo>
                  <a:pt x="4431" y="14275"/>
                  <a:pt x="4556" y="14283"/>
                  <a:pt x="4614" y="14312"/>
                </a:cubicBezTo>
                <a:cubicBezTo>
                  <a:pt x="4638" y="14337"/>
                  <a:pt x="4646" y="14345"/>
                  <a:pt x="4663" y="14312"/>
                </a:cubicBezTo>
              </a:path>
              <a:path w="12230" h="3300">
                <a:moveTo>
                  <a:pt x="4291" y="14585"/>
                </a:moveTo>
                <a:cubicBezTo>
                  <a:pt x="4347" y="14593"/>
                  <a:pt x="4402" y="14628"/>
                  <a:pt x="4465" y="14610"/>
                </a:cubicBezTo>
                <a:cubicBezTo>
                  <a:pt x="4532" y="14591"/>
                  <a:pt x="4608" y="14631"/>
                  <a:pt x="4638" y="14585"/>
                </a:cubicBezTo>
              </a:path>
              <a:path w="12230" h="3300">
                <a:moveTo>
                  <a:pt x="5259" y="13667"/>
                </a:moveTo>
                <a:cubicBezTo>
                  <a:pt x="5241" y="13806"/>
                  <a:pt x="5234" y="13925"/>
                  <a:pt x="5234" y="14064"/>
                </a:cubicBezTo>
                <a:cubicBezTo>
                  <a:pt x="5234" y="14226"/>
                  <a:pt x="5241" y="14379"/>
                  <a:pt x="5259" y="14536"/>
                </a:cubicBezTo>
                <a:cubicBezTo>
                  <a:pt x="5267" y="14607"/>
                  <a:pt x="5226" y="14751"/>
                  <a:pt x="5283" y="14808"/>
                </a:cubicBezTo>
                <a:cubicBezTo>
                  <a:pt x="5344" y="14808"/>
                  <a:pt x="5366" y="14774"/>
                  <a:pt x="5358" y="14684"/>
                </a:cubicBezTo>
              </a:path>
              <a:path w="12230" h="3300">
                <a:moveTo>
                  <a:pt x="5432" y="14238"/>
                </a:moveTo>
                <a:cubicBezTo>
                  <a:pt x="5492" y="14202"/>
                  <a:pt x="5556" y="14192"/>
                  <a:pt x="5631" y="14188"/>
                </a:cubicBezTo>
                <a:cubicBezTo>
                  <a:pt x="5682" y="14188"/>
                  <a:pt x="5701" y="14187"/>
                  <a:pt x="5730" y="14163"/>
                </a:cubicBezTo>
              </a:path>
              <a:path w="12230" h="3300">
                <a:moveTo>
                  <a:pt x="6028" y="13692"/>
                </a:moveTo>
                <a:cubicBezTo>
                  <a:pt x="6021" y="13831"/>
                  <a:pt x="6010" y="13908"/>
                  <a:pt x="6028" y="14039"/>
                </a:cubicBezTo>
                <a:cubicBezTo>
                  <a:pt x="6039" y="14117"/>
                  <a:pt x="6020" y="14215"/>
                  <a:pt x="6052" y="14288"/>
                </a:cubicBezTo>
                <a:cubicBezTo>
                  <a:pt x="6060" y="14296"/>
                  <a:pt x="6069" y="14304"/>
                  <a:pt x="6077" y="14312"/>
                </a:cubicBezTo>
              </a:path>
              <a:path w="12230" h="3300">
                <a:moveTo>
                  <a:pt x="6176" y="13816"/>
                </a:moveTo>
                <a:cubicBezTo>
                  <a:pt x="6247" y="13716"/>
                  <a:pt x="6262" y="13681"/>
                  <a:pt x="6375" y="13767"/>
                </a:cubicBezTo>
                <a:cubicBezTo>
                  <a:pt x="6462" y="13833"/>
                  <a:pt x="6434" y="13974"/>
                  <a:pt x="6400" y="14064"/>
                </a:cubicBezTo>
                <a:cubicBezTo>
                  <a:pt x="6373" y="14136"/>
                  <a:pt x="6329" y="14184"/>
                  <a:pt x="6276" y="14238"/>
                </a:cubicBezTo>
                <a:cubicBezTo>
                  <a:pt x="6268" y="14246"/>
                  <a:pt x="6259" y="14255"/>
                  <a:pt x="6251" y="14263"/>
                </a:cubicBezTo>
                <a:cubicBezTo>
                  <a:pt x="6223" y="14208"/>
                  <a:pt x="6260" y="14192"/>
                  <a:pt x="6325" y="14188"/>
                </a:cubicBezTo>
                <a:cubicBezTo>
                  <a:pt x="6399" y="14184"/>
                  <a:pt x="6469" y="14213"/>
                  <a:pt x="6548" y="14213"/>
                </a:cubicBezTo>
              </a:path>
              <a:path w="12230" h="3300">
                <a:moveTo>
                  <a:pt x="6052" y="14288"/>
                </a:moveTo>
                <a:cubicBezTo>
                  <a:pt x="6140" y="14288"/>
                  <a:pt x="6215" y="14309"/>
                  <a:pt x="6300" y="14312"/>
                </a:cubicBezTo>
                <a:cubicBezTo>
                  <a:pt x="6396" y="14315"/>
                  <a:pt x="6485" y="14293"/>
                  <a:pt x="6573" y="14263"/>
                </a:cubicBezTo>
              </a:path>
              <a:path w="12230" h="3300">
                <a:moveTo>
                  <a:pt x="6276" y="14461"/>
                </a:moveTo>
                <a:cubicBezTo>
                  <a:pt x="6276" y="14593"/>
                  <a:pt x="6276" y="14726"/>
                  <a:pt x="6276" y="14858"/>
                </a:cubicBezTo>
              </a:path>
              <a:path w="12230" h="3300">
                <a:moveTo>
                  <a:pt x="6499" y="14536"/>
                </a:moveTo>
                <a:cubicBezTo>
                  <a:pt x="6570" y="14520"/>
                  <a:pt x="6648" y="14516"/>
                  <a:pt x="6672" y="14610"/>
                </a:cubicBezTo>
                <a:cubicBezTo>
                  <a:pt x="6690" y="14679"/>
                  <a:pt x="6605" y="14721"/>
                  <a:pt x="6548" y="14734"/>
                </a:cubicBezTo>
                <a:cubicBezTo>
                  <a:pt x="6532" y="14734"/>
                  <a:pt x="6515" y="14734"/>
                  <a:pt x="6499" y="14734"/>
                </a:cubicBezTo>
                <a:cubicBezTo>
                  <a:pt x="6578" y="14789"/>
                  <a:pt x="6649" y="14796"/>
                  <a:pt x="6672" y="14883"/>
                </a:cubicBezTo>
                <a:cubicBezTo>
                  <a:pt x="6683" y="14926"/>
                  <a:pt x="6647" y="15018"/>
                  <a:pt x="6598" y="15032"/>
                </a:cubicBezTo>
                <a:cubicBezTo>
                  <a:pt x="6553" y="15045"/>
                  <a:pt x="6460" y="15025"/>
                  <a:pt x="6424" y="15007"/>
                </a:cubicBezTo>
                <a:cubicBezTo>
                  <a:pt x="6370" y="14979"/>
                  <a:pt x="6320" y="14923"/>
                  <a:pt x="6276" y="14883"/>
                </a:cubicBezTo>
              </a:path>
              <a:path w="12230" h="3300">
                <a:moveTo>
                  <a:pt x="5283" y="15007"/>
                </a:moveTo>
                <a:cubicBezTo>
                  <a:pt x="5490" y="15007"/>
                  <a:pt x="5699" y="15010"/>
                  <a:pt x="5904" y="15032"/>
                </a:cubicBezTo>
                <a:cubicBezTo>
                  <a:pt x="6070" y="15050"/>
                  <a:pt x="6234" y="15089"/>
                  <a:pt x="6400" y="15106"/>
                </a:cubicBezTo>
                <a:cubicBezTo>
                  <a:pt x="6516" y="15118"/>
                  <a:pt x="6636" y="15142"/>
                  <a:pt x="6747" y="15156"/>
                </a:cubicBezTo>
                <a:cubicBezTo>
                  <a:pt x="6850" y="15169"/>
                  <a:pt x="6823" y="15130"/>
                  <a:pt x="6871" y="15081"/>
                </a:cubicBezTo>
              </a:path>
              <a:path w="12230" h="3300">
                <a:moveTo>
                  <a:pt x="5904" y="15354"/>
                </a:moveTo>
                <a:cubicBezTo>
                  <a:pt x="5984" y="15385"/>
                  <a:pt x="6082" y="15379"/>
                  <a:pt x="6176" y="15379"/>
                </a:cubicBezTo>
                <a:cubicBezTo>
                  <a:pt x="6225" y="15379"/>
                  <a:pt x="6255" y="15363"/>
                  <a:pt x="6300" y="15354"/>
                </a:cubicBezTo>
              </a:path>
              <a:path w="12230" h="3300">
                <a:moveTo>
                  <a:pt x="6052" y="15354"/>
                </a:moveTo>
                <a:cubicBezTo>
                  <a:pt x="5980" y="15396"/>
                  <a:pt x="5952" y="15420"/>
                  <a:pt x="6003" y="15503"/>
                </a:cubicBezTo>
                <a:cubicBezTo>
                  <a:pt x="6037" y="15559"/>
                  <a:pt x="6087" y="15626"/>
                  <a:pt x="6127" y="15677"/>
                </a:cubicBezTo>
                <a:cubicBezTo>
                  <a:pt x="6199" y="15768"/>
                  <a:pt x="6211" y="15769"/>
                  <a:pt x="6152" y="15875"/>
                </a:cubicBezTo>
                <a:cubicBezTo>
                  <a:pt x="6102" y="15964"/>
                  <a:pt x="6044" y="15963"/>
                  <a:pt x="5953" y="15925"/>
                </a:cubicBezTo>
                <a:cubicBezTo>
                  <a:pt x="5877" y="15893"/>
                  <a:pt x="5879" y="15849"/>
                  <a:pt x="5879" y="15776"/>
                </a:cubicBezTo>
              </a:path>
              <a:path w="12230" h="3300">
                <a:moveTo>
                  <a:pt x="6400" y="15478"/>
                </a:moveTo>
                <a:cubicBezTo>
                  <a:pt x="6366" y="15535"/>
                  <a:pt x="6341" y="15589"/>
                  <a:pt x="6300" y="15652"/>
                </a:cubicBezTo>
                <a:cubicBezTo>
                  <a:pt x="6232" y="15757"/>
                  <a:pt x="6155" y="15861"/>
                  <a:pt x="6102" y="15974"/>
                </a:cubicBezTo>
                <a:cubicBezTo>
                  <a:pt x="6042" y="16103"/>
                  <a:pt x="5992" y="16231"/>
                  <a:pt x="5904" y="16346"/>
                </a:cubicBezTo>
                <a:cubicBezTo>
                  <a:pt x="5875" y="16384"/>
                  <a:pt x="5872" y="16422"/>
                  <a:pt x="5854" y="16470"/>
                </a:cubicBezTo>
              </a:path>
              <a:path w="12230" h="3300">
                <a:moveTo>
                  <a:pt x="6276" y="16148"/>
                </a:moveTo>
                <a:cubicBezTo>
                  <a:pt x="6246" y="16246"/>
                  <a:pt x="6251" y="16341"/>
                  <a:pt x="6251" y="16446"/>
                </a:cubicBezTo>
                <a:cubicBezTo>
                  <a:pt x="6251" y="16537"/>
                  <a:pt x="6251" y="16627"/>
                  <a:pt x="6251" y="16718"/>
                </a:cubicBezTo>
              </a:path>
              <a:path w="12230" h="3300">
                <a:moveTo>
                  <a:pt x="6424" y="16197"/>
                </a:moveTo>
                <a:cubicBezTo>
                  <a:pt x="6521" y="16211"/>
                  <a:pt x="6554" y="16248"/>
                  <a:pt x="6623" y="16321"/>
                </a:cubicBezTo>
                <a:cubicBezTo>
                  <a:pt x="6668" y="16369"/>
                  <a:pt x="6715" y="16409"/>
                  <a:pt x="6623" y="16421"/>
                </a:cubicBezTo>
                <a:cubicBezTo>
                  <a:pt x="6578" y="16421"/>
                  <a:pt x="6565" y="16424"/>
                  <a:pt x="6548" y="16396"/>
                </a:cubicBezTo>
                <a:cubicBezTo>
                  <a:pt x="6574" y="16464"/>
                  <a:pt x="6588" y="16505"/>
                  <a:pt x="6623" y="16570"/>
                </a:cubicBezTo>
                <a:cubicBezTo>
                  <a:pt x="6648" y="16616"/>
                  <a:pt x="6669" y="16715"/>
                  <a:pt x="6648" y="16768"/>
                </a:cubicBezTo>
                <a:cubicBezTo>
                  <a:pt x="6632" y="16809"/>
                  <a:pt x="6566" y="16881"/>
                  <a:pt x="6524" y="16892"/>
                </a:cubicBezTo>
                <a:cubicBezTo>
                  <a:pt x="6453" y="16911"/>
                  <a:pt x="6410" y="16830"/>
                  <a:pt x="6424" y="16768"/>
                </a:cubicBezTo>
                <a:cubicBezTo>
                  <a:pt x="6432" y="16751"/>
                  <a:pt x="6441" y="16735"/>
                  <a:pt x="6449" y="16718"/>
                </a:cubicBezTo>
              </a:path>
              <a:path w="12230" h="3300">
                <a:moveTo>
                  <a:pt x="7243" y="15007"/>
                </a:moveTo>
                <a:cubicBezTo>
                  <a:pt x="7334" y="15025"/>
                  <a:pt x="7341" y="15034"/>
                  <a:pt x="7392" y="15032"/>
                </a:cubicBezTo>
              </a:path>
              <a:path w="12230" h="3300">
                <a:moveTo>
                  <a:pt x="7317" y="15354"/>
                </a:moveTo>
                <a:cubicBezTo>
                  <a:pt x="7431" y="15400"/>
                  <a:pt x="7461" y="15416"/>
                  <a:pt x="7541" y="15404"/>
                </a:cubicBezTo>
              </a:path>
              <a:path w="12230" h="3300">
                <a:moveTo>
                  <a:pt x="8161" y="13767"/>
                </a:moveTo>
                <a:cubicBezTo>
                  <a:pt x="8179" y="13797"/>
                  <a:pt x="8214" y="13903"/>
                  <a:pt x="8210" y="13940"/>
                </a:cubicBezTo>
                <a:cubicBezTo>
                  <a:pt x="8202" y="14013"/>
                  <a:pt x="8186" y="14083"/>
                  <a:pt x="8186" y="14163"/>
                </a:cubicBezTo>
                <a:cubicBezTo>
                  <a:pt x="8186" y="14241"/>
                  <a:pt x="8173" y="14323"/>
                  <a:pt x="8210" y="14387"/>
                </a:cubicBezTo>
              </a:path>
              <a:path w="12230" h="3300">
                <a:moveTo>
                  <a:pt x="7938" y="14387"/>
                </a:moveTo>
                <a:cubicBezTo>
                  <a:pt x="8074" y="14387"/>
                  <a:pt x="8202" y="14395"/>
                  <a:pt x="8334" y="14412"/>
                </a:cubicBezTo>
                <a:cubicBezTo>
                  <a:pt x="8445" y="14427"/>
                  <a:pt x="8569" y="14412"/>
                  <a:pt x="8682" y="14412"/>
                </a:cubicBezTo>
              </a:path>
              <a:path w="12230" h="3300">
                <a:moveTo>
                  <a:pt x="8161" y="14486"/>
                </a:moveTo>
                <a:cubicBezTo>
                  <a:pt x="8161" y="14629"/>
                  <a:pt x="8170" y="14710"/>
                  <a:pt x="8186" y="14833"/>
                </a:cubicBezTo>
                <a:cubicBezTo>
                  <a:pt x="8186" y="14899"/>
                  <a:pt x="8186" y="14916"/>
                  <a:pt x="8186" y="14957"/>
                </a:cubicBezTo>
              </a:path>
              <a:path w="12230" h="3300">
                <a:moveTo>
                  <a:pt x="8310" y="14660"/>
                </a:moveTo>
                <a:cubicBezTo>
                  <a:pt x="8367" y="14614"/>
                  <a:pt x="8391" y="14611"/>
                  <a:pt x="8458" y="14635"/>
                </a:cubicBezTo>
                <a:cubicBezTo>
                  <a:pt x="8497" y="14649"/>
                  <a:pt x="8591" y="14735"/>
                  <a:pt x="8533" y="14784"/>
                </a:cubicBezTo>
                <a:cubicBezTo>
                  <a:pt x="8493" y="14818"/>
                  <a:pt x="8427" y="14807"/>
                  <a:pt x="8384" y="14833"/>
                </a:cubicBezTo>
                <a:cubicBezTo>
                  <a:pt x="8436" y="14868"/>
                  <a:pt x="8486" y="14886"/>
                  <a:pt x="8533" y="14932"/>
                </a:cubicBezTo>
                <a:cubicBezTo>
                  <a:pt x="8599" y="14998"/>
                  <a:pt x="8583" y="15031"/>
                  <a:pt x="8483" y="15056"/>
                </a:cubicBezTo>
                <a:cubicBezTo>
                  <a:pt x="8424" y="15071"/>
                  <a:pt x="8382" y="15044"/>
                  <a:pt x="8334" y="15032"/>
                </a:cubicBezTo>
              </a:path>
              <a:path w="12230" h="3300">
                <a:moveTo>
                  <a:pt x="8012" y="15056"/>
                </a:moveTo>
                <a:cubicBezTo>
                  <a:pt x="8144" y="15073"/>
                  <a:pt x="8253" y="15081"/>
                  <a:pt x="8384" y="15081"/>
                </a:cubicBezTo>
                <a:cubicBezTo>
                  <a:pt x="8500" y="15081"/>
                  <a:pt x="8594" y="15094"/>
                  <a:pt x="8706" y="15106"/>
                </a:cubicBezTo>
                <a:cubicBezTo>
                  <a:pt x="8825" y="15118"/>
                  <a:pt x="8934" y="15151"/>
                  <a:pt x="9054" y="15156"/>
                </a:cubicBezTo>
                <a:cubicBezTo>
                  <a:pt x="9104" y="15158"/>
                  <a:pt x="9111" y="15170"/>
                  <a:pt x="9153" y="15180"/>
                </a:cubicBezTo>
              </a:path>
              <a:path w="12230" h="3300">
                <a:moveTo>
                  <a:pt x="8434" y="15453"/>
                </a:moveTo>
                <a:cubicBezTo>
                  <a:pt x="8534" y="15468"/>
                  <a:pt x="8609" y="15478"/>
                  <a:pt x="8706" y="15478"/>
                </a:cubicBezTo>
              </a:path>
              <a:path w="12230" h="3300">
                <a:moveTo>
                  <a:pt x="8508" y="15429"/>
                </a:moveTo>
                <a:cubicBezTo>
                  <a:pt x="8468" y="15468"/>
                  <a:pt x="8415" y="15513"/>
                  <a:pt x="8434" y="15577"/>
                </a:cubicBezTo>
                <a:cubicBezTo>
                  <a:pt x="8445" y="15615"/>
                  <a:pt x="8512" y="15666"/>
                  <a:pt x="8533" y="15701"/>
                </a:cubicBezTo>
                <a:cubicBezTo>
                  <a:pt x="8569" y="15760"/>
                  <a:pt x="8661" y="15791"/>
                  <a:pt x="8657" y="15875"/>
                </a:cubicBezTo>
                <a:cubicBezTo>
                  <a:pt x="8652" y="15966"/>
                  <a:pt x="8561" y="15957"/>
                  <a:pt x="8508" y="15925"/>
                </a:cubicBezTo>
                <a:cubicBezTo>
                  <a:pt x="8463" y="15897"/>
                  <a:pt x="8422" y="15838"/>
                  <a:pt x="8384" y="15801"/>
                </a:cubicBezTo>
              </a:path>
              <a:path w="12230" h="3300">
                <a:moveTo>
                  <a:pt x="8235" y="15900"/>
                </a:moveTo>
                <a:cubicBezTo>
                  <a:pt x="8369" y="15944"/>
                  <a:pt x="8489" y="15969"/>
                  <a:pt x="8632" y="15974"/>
                </a:cubicBezTo>
                <a:cubicBezTo>
                  <a:pt x="8712" y="15977"/>
                  <a:pt x="8773" y="15949"/>
                  <a:pt x="8855" y="15949"/>
                </a:cubicBezTo>
                <a:cubicBezTo>
                  <a:pt x="8880" y="15949"/>
                  <a:pt x="8905" y="15949"/>
                  <a:pt x="8930" y="15949"/>
                </a:cubicBezTo>
              </a:path>
              <a:path w="12230" h="3300">
                <a:moveTo>
                  <a:pt x="8558" y="16321"/>
                </a:moveTo>
                <a:cubicBezTo>
                  <a:pt x="8558" y="16453"/>
                  <a:pt x="8563" y="16548"/>
                  <a:pt x="8582" y="16669"/>
                </a:cubicBezTo>
                <a:cubicBezTo>
                  <a:pt x="8582" y="16685"/>
                  <a:pt x="8582" y="16702"/>
                  <a:pt x="8582" y="16718"/>
                </a:cubicBezTo>
              </a:path>
              <a:path w="12230" h="3300">
                <a:moveTo>
                  <a:pt x="8731" y="16321"/>
                </a:moveTo>
                <a:cubicBezTo>
                  <a:pt x="8782" y="16305"/>
                  <a:pt x="8901" y="16316"/>
                  <a:pt x="8930" y="16396"/>
                </a:cubicBezTo>
                <a:cubicBezTo>
                  <a:pt x="8953" y="16457"/>
                  <a:pt x="8903" y="16514"/>
                  <a:pt x="8855" y="16545"/>
                </a:cubicBezTo>
                <a:cubicBezTo>
                  <a:pt x="8807" y="16569"/>
                  <a:pt x="8793" y="16578"/>
                  <a:pt x="8756" y="16570"/>
                </a:cubicBezTo>
                <a:cubicBezTo>
                  <a:pt x="8784" y="16611"/>
                  <a:pt x="8866" y="16680"/>
                  <a:pt x="8880" y="16718"/>
                </a:cubicBezTo>
                <a:cubicBezTo>
                  <a:pt x="8918" y="16826"/>
                  <a:pt x="8879" y="16881"/>
                  <a:pt x="8781" y="16942"/>
                </a:cubicBezTo>
                <a:cubicBezTo>
                  <a:pt x="8731" y="16973"/>
                  <a:pt x="8683" y="16947"/>
                  <a:pt x="8657" y="16892"/>
                </a:cubicBezTo>
                <a:cubicBezTo>
                  <a:pt x="8649" y="16867"/>
                  <a:pt x="8640" y="16843"/>
                  <a:pt x="8632" y="16818"/>
                </a:cubicBezTo>
              </a:path>
              <a:path w="12230" h="3300">
                <a:moveTo>
                  <a:pt x="9401" y="15329"/>
                </a:moveTo>
                <a:cubicBezTo>
                  <a:pt x="9467" y="15329"/>
                  <a:pt x="9533" y="15329"/>
                  <a:pt x="9599" y="15329"/>
                </a:cubicBezTo>
              </a:path>
              <a:path w="12230" h="3300">
                <a:moveTo>
                  <a:pt x="9451" y="15602"/>
                </a:moveTo>
                <a:cubicBezTo>
                  <a:pt x="9534" y="15635"/>
                  <a:pt x="9616" y="15668"/>
                  <a:pt x="9699" y="15701"/>
                </a:cubicBezTo>
              </a:path>
              <a:path w="12230" h="3300">
                <a:moveTo>
                  <a:pt x="10269" y="14288"/>
                </a:moveTo>
                <a:cubicBezTo>
                  <a:pt x="10269" y="14410"/>
                  <a:pt x="10284" y="14512"/>
                  <a:pt x="10294" y="14635"/>
                </a:cubicBezTo>
                <a:cubicBezTo>
                  <a:pt x="10302" y="14737"/>
                  <a:pt x="10333" y="14832"/>
                  <a:pt x="10344" y="14932"/>
                </a:cubicBezTo>
                <a:cubicBezTo>
                  <a:pt x="10344" y="14998"/>
                  <a:pt x="10344" y="15015"/>
                  <a:pt x="10344" y="15056"/>
                </a:cubicBezTo>
              </a:path>
              <a:path w="12230" h="3300">
                <a:moveTo>
                  <a:pt x="10145" y="15205"/>
                </a:moveTo>
                <a:cubicBezTo>
                  <a:pt x="10219" y="15205"/>
                  <a:pt x="10277" y="15221"/>
                  <a:pt x="10344" y="15230"/>
                </a:cubicBezTo>
                <a:cubicBezTo>
                  <a:pt x="10430" y="15241"/>
                  <a:pt x="10562" y="15234"/>
                  <a:pt x="10641" y="15205"/>
                </a:cubicBezTo>
                <a:cubicBezTo>
                  <a:pt x="10664" y="15182"/>
                  <a:pt x="10668" y="15174"/>
                  <a:pt x="10691" y="15180"/>
                </a:cubicBezTo>
              </a:path>
              <a:path w="12230" h="3300">
                <a:moveTo>
                  <a:pt x="10368" y="15553"/>
                </a:moveTo>
                <a:cubicBezTo>
                  <a:pt x="10333" y="15730"/>
                  <a:pt x="10319" y="15850"/>
                  <a:pt x="10319" y="16024"/>
                </a:cubicBezTo>
                <a:cubicBezTo>
                  <a:pt x="10319" y="16087"/>
                  <a:pt x="10327" y="16185"/>
                  <a:pt x="10344" y="16247"/>
                </a:cubicBezTo>
                <a:cubicBezTo>
                  <a:pt x="10352" y="16264"/>
                  <a:pt x="10360" y="16280"/>
                  <a:pt x="10368" y="16297"/>
                </a:cubicBezTo>
              </a:path>
              <a:path w="12230" h="3300">
                <a:moveTo>
                  <a:pt x="10517" y="15602"/>
                </a:moveTo>
                <a:cubicBezTo>
                  <a:pt x="10572" y="15591"/>
                  <a:pt x="10647" y="15570"/>
                  <a:pt x="10691" y="15627"/>
                </a:cubicBezTo>
                <a:cubicBezTo>
                  <a:pt x="10729" y="15676"/>
                  <a:pt x="10771" y="15756"/>
                  <a:pt x="10740" y="15801"/>
                </a:cubicBezTo>
                <a:cubicBezTo>
                  <a:pt x="10708" y="15848"/>
                  <a:pt x="10635" y="15828"/>
                  <a:pt x="10592" y="15850"/>
                </a:cubicBezTo>
                <a:cubicBezTo>
                  <a:pt x="10584" y="15858"/>
                  <a:pt x="10575" y="15867"/>
                  <a:pt x="10567" y="15875"/>
                </a:cubicBezTo>
                <a:cubicBezTo>
                  <a:pt x="10600" y="15908"/>
                  <a:pt x="10633" y="15941"/>
                  <a:pt x="10666" y="15974"/>
                </a:cubicBezTo>
                <a:cubicBezTo>
                  <a:pt x="10708" y="16016"/>
                  <a:pt x="10815" y="16048"/>
                  <a:pt x="10815" y="16123"/>
                </a:cubicBezTo>
                <a:cubicBezTo>
                  <a:pt x="10815" y="16162"/>
                  <a:pt x="10763" y="16218"/>
                  <a:pt x="10740" y="16247"/>
                </a:cubicBezTo>
                <a:cubicBezTo>
                  <a:pt x="10682" y="16213"/>
                  <a:pt x="10650" y="16181"/>
                  <a:pt x="10616" y="16123"/>
                </a:cubicBezTo>
                <a:cubicBezTo>
                  <a:pt x="10588" y="16076"/>
                  <a:pt x="10567" y="16023"/>
                  <a:pt x="10542" y="15974"/>
                </a:cubicBezTo>
              </a:path>
              <a:path w="12230" h="3300">
                <a:moveTo>
                  <a:pt x="11137" y="15230"/>
                </a:moveTo>
                <a:cubicBezTo>
                  <a:pt x="11103" y="15319"/>
                  <a:pt x="11095" y="15353"/>
                  <a:pt x="11187" y="15379"/>
                </a:cubicBezTo>
                <a:cubicBezTo>
                  <a:pt x="11216" y="15339"/>
                  <a:pt x="11242" y="15270"/>
                  <a:pt x="11162" y="15230"/>
                </a:cubicBezTo>
                <a:cubicBezTo>
                  <a:pt x="11074" y="15186"/>
                  <a:pt x="11083" y="15318"/>
                  <a:pt x="11112" y="15354"/>
                </a:cubicBezTo>
                <a:cubicBezTo>
                  <a:pt x="11120" y="15362"/>
                  <a:pt x="11129" y="15371"/>
                  <a:pt x="11137" y="15379"/>
                </a:cubicBezTo>
                <a:cubicBezTo>
                  <a:pt x="11158" y="15367"/>
                  <a:pt x="11268" y="15209"/>
                  <a:pt x="11187" y="15230"/>
                </a:cubicBezTo>
                <a:cubicBezTo>
                  <a:pt x="11179" y="15247"/>
                  <a:pt x="11170" y="15263"/>
                  <a:pt x="11162" y="15280"/>
                </a:cubicBezTo>
              </a:path>
              <a:path w="12230" h="3300">
                <a:moveTo>
                  <a:pt x="11460" y="14288"/>
                </a:moveTo>
                <a:cubicBezTo>
                  <a:pt x="11491" y="14396"/>
                  <a:pt x="11489" y="14478"/>
                  <a:pt x="11509" y="14585"/>
                </a:cubicBezTo>
                <a:cubicBezTo>
                  <a:pt x="11527" y="14684"/>
                  <a:pt x="11572" y="14783"/>
                  <a:pt x="11584" y="14883"/>
                </a:cubicBezTo>
                <a:cubicBezTo>
                  <a:pt x="11592" y="14950"/>
                  <a:pt x="11563" y="15026"/>
                  <a:pt x="11609" y="15056"/>
                </a:cubicBezTo>
              </a:path>
              <a:path w="12230" h="3300">
                <a:moveTo>
                  <a:pt x="11708" y="14387"/>
                </a:moveTo>
                <a:cubicBezTo>
                  <a:pt x="11804" y="14334"/>
                  <a:pt x="11835" y="14320"/>
                  <a:pt x="11931" y="14387"/>
                </a:cubicBezTo>
                <a:cubicBezTo>
                  <a:pt x="11988" y="14427"/>
                  <a:pt x="11946" y="14545"/>
                  <a:pt x="11906" y="14585"/>
                </a:cubicBezTo>
                <a:cubicBezTo>
                  <a:pt x="11861" y="14631"/>
                  <a:pt x="11807" y="14610"/>
                  <a:pt x="11757" y="14660"/>
                </a:cubicBezTo>
                <a:cubicBezTo>
                  <a:pt x="11799" y="14701"/>
                  <a:pt x="11823" y="14738"/>
                  <a:pt x="11857" y="14784"/>
                </a:cubicBezTo>
                <a:cubicBezTo>
                  <a:pt x="11905" y="14849"/>
                  <a:pt x="11882" y="14882"/>
                  <a:pt x="11832" y="14932"/>
                </a:cubicBezTo>
                <a:cubicBezTo>
                  <a:pt x="11782" y="14981"/>
                  <a:pt x="11715" y="14957"/>
                  <a:pt x="11658" y="14932"/>
                </a:cubicBezTo>
                <a:cubicBezTo>
                  <a:pt x="11642" y="14924"/>
                  <a:pt x="11625" y="14916"/>
                  <a:pt x="11609" y="14908"/>
                </a:cubicBezTo>
              </a:path>
              <a:path w="12230" h="3300">
                <a:moveTo>
                  <a:pt x="11509" y="15081"/>
                </a:moveTo>
                <a:cubicBezTo>
                  <a:pt x="11648" y="15096"/>
                  <a:pt x="11769" y="15106"/>
                  <a:pt x="11906" y="15106"/>
                </a:cubicBezTo>
                <a:cubicBezTo>
                  <a:pt x="11972" y="15106"/>
                  <a:pt x="12039" y="15106"/>
                  <a:pt x="12105" y="15106"/>
                </a:cubicBezTo>
              </a:path>
              <a:path w="12230" h="3300">
                <a:moveTo>
                  <a:pt x="11658" y="15379"/>
                </a:moveTo>
                <a:cubicBezTo>
                  <a:pt x="11767" y="15409"/>
                  <a:pt x="11865" y="15404"/>
                  <a:pt x="11981" y="15404"/>
                </a:cubicBezTo>
                <a:cubicBezTo>
                  <a:pt x="11989" y="15404"/>
                  <a:pt x="11997" y="15404"/>
                  <a:pt x="12005" y="15404"/>
                </a:cubicBezTo>
              </a:path>
              <a:path w="12230" h="3300">
                <a:moveTo>
                  <a:pt x="11683" y="15404"/>
                </a:moveTo>
                <a:cubicBezTo>
                  <a:pt x="11655" y="15516"/>
                  <a:pt x="11599" y="15581"/>
                  <a:pt x="11708" y="15652"/>
                </a:cubicBezTo>
                <a:cubicBezTo>
                  <a:pt x="11768" y="15691"/>
                  <a:pt x="11827" y="15727"/>
                  <a:pt x="11881" y="15776"/>
                </a:cubicBezTo>
                <a:cubicBezTo>
                  <a:pt x="11950" y="15839"/>
                  <a:pt x="11930" y="15839"/>
                  <a:pt x="11956" y="15925"/>
                </a:cubicBezTo>
                <a:cubicBezTo>
                  <a:pt x="11990" y="16037"/>
                  <a:pt x="11968" y="16051"/>
                  <a:pt x="11906" y="16148"/>
                </a:cubicBezTo>
                <a:cubicBezTo>
                  <a:pt x="11853" y="16231"/>
                  <a:pt x="11840" y="16258"/>
                  <a:pt x="11733" y="16222"/>
                </a:cubicBezTo>
                <a:cubicBezTo>
                  <a:pt x="11678" y="16204"/>
                  <a:pt x="11648" y="16163"/>
                  <a:pt x="11609" y="16123"/>
                </a:cubicBezTo>
              </a:path>
              <a:path w="12230" h="3300">
                <a:moveTo>
                  <a:pt x="10815" y="15429"/>
                </a:moveTo>
                <a:cubicBezTo>
                  <a:pt x="10760" y="15505"/>
                  <a:pt x="10699" y="15563"/>
                  <a:pt x="10641" y="15627"/>
                </a:cubicBezTo>
                <a:cubicBezTo>
                  <a:pt x="10553" y="15724"/>
                  <a:pt x="10481" y="15791"/>
                  <a:pt x="10418" y="15900"/>
                </a:cubicBezTo>
                <a:cubicBezTo>
                  <a:pt x="10366" y="15990"/>
                  <a:pt x="10302" y="16055"/>
                  <a:pt x="10244" y="16148"/>
                </a:cubicBezTo>
                <a:cubicBezTo>
                  <a:pt x="10236" y="16156"/>
                  <a:pt x="10228" y="16165"/>
                  <a:pt x="10220" y="16173"/>
                </a:cubicBezTo>
              </a:path>
              <a:path w="12230" h="3300">
                <a:moveTo>
                  <a:pt x="12129" y="14188"/>
                </a:moveTo>
                <a:cubicBezTo>
                  <a:pt x="12083" y="14243"/>
                  <a:pt x="12015" y="14308"/>
                  <a:pt x="11956" y="14362"/>
                </a:cubicBezTo>
                <a:cubicBezTo>
                  <a:pt x="11857" y="14452"/>
                  <a:pt x="11821" y="14519"/>
                  <a:pt x="11757" y="14635"/>
                </a:cubicBezTo>
                <a:cubicBezTo>
                  <a:pt x="11701" y="14736"/>
                  <a:pt x="11624" y="14821"/>
                  <a:pt x="11584" y="14932"/>
                </a:cubicBezTo>
                <a:cubicBezTo>
                  <a:pt x="11584" y="14940"/>
                  <a:pt x="11584" y="14949"/>
                  <a:pt x="11584" y="14957"/>
                </a:cubicBezTo>
              </a:path>
              <a:path w="12230" h="3300">
                <a:moveTo>
                  <a:pt x="12353" y="14908"/>
                </a:moveTo>
                <a:cubicBezTo>
                  <a:pt x="12455" y="14955"/>
                  <a:pt x="12516" y="14982"/>
                  <a:pt x="12626" y="14982"/>
                </a:cubicBezTo>
              </a:path>
              <a:path w="12230" h="3300">
                <a:moveTo>
                  <a:pt x="12353" y="15131"/>
                </a:moveTo>
                <a:cubicBezTo>
                  <a:pt x="12468" y="15188"/>
                  <a:pt x="12503" y="15183"/>
                  <a:pt x="12626" y="15156"/>
                </a:cubicBezTo>
                <a:cubicBezTo>
                  <a:pt x="12667" y="15148"/>
                  <a:pt x="12709" y="15139"/>
                  <a:pt x="12750" y="15131"/>
                </a:cubicBezTo>
              </a:path>
              <a:path w="12230" h="3300">
                <a:moveTo>
                  <a:pt x="13171" y="14163"/>
                </a:moveTo>
                <a:cubicBezTo>
                  <a:pt x="13179" y="14147"/>
                  <a:pt x="13188" y="14130"/>
                  <a:pt x="13196" y="14114"/>
                </a:cubicBezTo>
                <a:cubicBezTo>
                  <a:pt x="13196" y="14339"/>
                  <a:pt x="13213" y="14538"/>
                  <a:pt x="13246" y="14759"/>
                </a:cubicBezTo>
                <a:cubicBezTo>
                  <a:pt x="13257" y="14833"/>
                  <a:pt x="13264" y="14954"/>
                  <a:pt x="13246" y="15007"/>
                </a:cubicBezTo>
              </a:path>
              <a:path w="12230" h="3300">
                <a:moveTo>
                  <a:pt x="12973" y="15056"/>
                </a:moveTo>
                <a:cubicBezTo>
                  <a:pt x="13087" y="15064"/>
                  <a:pt x="13183" y="15088"/>
                  <a:pt x="13295" y="15106"/>
                </a:cubicBezTo>
                <a:cubicBezTo>
                  <a:pt x="13423" y="15127"/>
                  <a:pt x="13543" y="15140"/>
                  <a:pt x="13667" y="15106"/>
                </a:cubicBezTo>
                <a:cubicBezTo>
                  <a:pt x="13711" y="15084"/>
                  <a:pt x="13723" y="15081"/>
                  <a:pt x="13742" y="15056"/>
                </a:cubicBezTo>
              </a:path>
              <a:path w="12230" h="3300">
                <a:moveTo>
                  <a:pt x="13320" y="15404"/>
                </a:moveTo>
                <a:cubicBezTo>
                  <a:pt x="13440" y="15404"/>
                  <a:pt x="13511" y="15397"/>
                  <a:pt x="13618" y="15379"/>
                </a:cubicBezTo>
                <a:cubicBezTo>
                  <a:pt x="13634" y="15379"/>
                  <a:pt x="13651" y="15379"/>
                  <a:pt x="13667" y="15379"/>
                </a:cubicBezTo>
              </a:path>
              <a:path w="12230" h="3300">
                <a:moveTo>
                  <a:pt x="13320" y="15404"/>
                </a:moveTo>
                <a:cubicBezTo>
                  <a:pt x="13270" y="15491"/>
                  <a:pt x="13225" y="15539"/>
                  <a:pt x="13271" y="15627"/>
                </a:cubicBezTo>
                <a:cubicBezTo>
                  <a:pt x="13305" y="15692"/>
                  <a:pt x="13320" y="15723"/>
                  <a:pt x="13395" y="15726"/>
                </a:cubicBezTo>
                <a:cubicBezTo>
                  <a:pt x="13484" y="15730"/>
                  <a:pt x="13550" y="15741"/>
                  <a:pt x="13618" y="15801"/>
                </a:cubicBezTo>
                <a:cubicBezTo>
                  <a:pt x="13697" y="15871"/>
                  <a:pt x="13674" y="15937"/>
                  <a:pt x="13667" y="16024"/>
                </a:cubicBezTo>
                <a:cubicBezTo>
                  <a:pt x="13659" y="16126"/>
                  <a:pt x="13631" y="16188"/>
                  <a:pt x="13568" y="16272"/>
                </a:cubicBezTo>
                <a:cubicBezTo>
                  <a:pt x="13560" y="16280"/>
                  <a:pt x="13551" y="16289"/>
                  <a:pt x="13543" y="16297"/>
                </a:cubicBezTo>
                <a:cubicBezTo>
                  <a:pt x="13507" y="16260"/>
                  <a:pt x="13479" y="16172"/>
                  <a:pt x="13444" y="16148"/>
                </a:cubicBezTo>
                <a:cubicBezTo>
                  <a:pt x="13387" y="16129"/>
                  <a:pt x="13380" y="16120"/>
                  <a:pt x="13345" y="161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Ink 20"/>
          <p:cNvSpPr/>
          <p:nvPr/>
        </p:nvSpPr>
        <p:spPr>
          <a:xfrm>
            <a:off x="204840" y="1071720"/>
            <a:ext cx="420480" cy="544320"/>
          </a:xfrm>
          <a:custGeom>
            <a:avLst/>
            <a:gdLst/>
            <a:ahLst/>
            <a:rect l="l" t="t" r="r" b="b"/>
            <a:pathLst>
              <a:path w="1166" h="1514">
                <a:moveTo>
                  <a:pt x="695" y="3125"/>
                </a:moveTo>
                <a:cubicBezTo>
                  <a:pt x="695" y="3195"/>
                  <a:pt x="687" y="3259"/>
                  <a:pt x="670" y="3324"/>
                </a:cubicBezTo>
                <a:cubicBezTo>
                  <a:pt x="651" y="3397"/>
                  <a:pt x="643" y="3478"/>
                  <a:pt x="620" y="3547"/>
                </a:cubicBezTo>
                <a:cubicBezTo>
                  <a:pt x="595" y="3597"/>
                  <a:pt x="587" y="3613"/>
                  <a:pt x="571" y="3646"/>
                </a:cubicBezTo>
                <a:cubicBezTo>
                  <a:pt x="651" y="3695"/>
                  <a:pt x="662" y="3639"/>
                  <a:pt x="744" y="3621"/>
                </a:cubicBezTo>
                <a:cubicBezTo>
                  <a:pt x="804" y="3608"/>
                  <a:pt x="864" y="3612"/>
                  <a:pt x="918" y="3597"/>
                </a:cubicBezTo>
                <a:cubicBezTo>
                  <a:pt x="926" y="3597"/>
                  <a:pt x="935" y="3597"/>
                  <a:pt x="943" y="3597"/>
                </a:cubicBezTo>
              </a:path>
              <a:path w="1166" h="1514">
                <a:moveTo>
                  <a:pt x="1017" y="3249"/>
                </a:moveTo>
                <a:cubicBezTo>
                  <a:pt x="983" y="3349"/>
                  <a:pt x="1006" y="3442"/>
                  <a:pt x="992" y="3547"/>
                </a:cubicBezTo>
                <a:cubicBezTo>
                  <a:pt x="972" y="3699"/>
                  <a:pt x="992" y="3837"/>
                  <a:pt x="992" y="3994"/>
                </a:cubicBezTo>
                <a:cubicBezTo>
                  <a:pt x="992" y="4065"/>
                  <a:pt x="1018" y="4258"/>
                  <a:pt x="992" y="4192"/>
                </a:cubicBezTo>
                <a:cubicBezTo>
                  <a:pt x="992" y="4175"/>
                  <a:pt x="992" y="4159"/>
                  <a:pt x="992" y="4142"/>
                </a:cubicBezTo>
              </a:path>
              <a:path w="1166" h="1514">
                <a:moveTo>
                  <a:pt x="1116" y="3448"/>
                </a:moveTo>
                <a:cubicBezTo>
                  <a:pt x="1163" y="3420"/>
                  <a:pt x="1213" y="3404"/>
                  <a:pt x="1265" y="3373"/>
                </a:cubicBezTo>
                <a:cubicBezTo>
                  <a:pt x="1314" y="3344"/>
                  <a:pt x="1392" y="3309"/>
                  <a:pt x="1439" y="3299"/>
                </a:cubicBezTo>
                <a:cubicBezTo>
                  <a:pt x="1455" y="3299"/>
                  <a:pt x="1472" y="3299"/>
                  <a:pt x="1488" y="3299"/>
                </a:cubicBezTo>
                <a:cubicBezTo>
                  <a:pt x="1478" y="3386"/>
                  <a:pt x="1478" y="3485"/>
                  <a:pt x="1463" y="3572"/>
                </a:cubicBezTo>
                <a:cubicBezTo>
                  <a:pt x="1443" y="3689"/>
                  <a:pt x="1401" y="3801"/>
                  <a:pt x="1389" y="3919"/>
                </a:cubicBezTo>
                <a:cubicBezTo>
                  <a:pt x="1383" y="3982"/>
                  <a:pt x="1375" y="4070"/>
                  <a:pt x="1414" y="4118"/>
                </a:cubicBezTo>
                <a:cubicBezTo>
                  <a:pt x="1442" y="4145"/>
                  <a:pt x="1451" y="4149"/>
                  <a:pt x="1439" y="4093"/>
                </a:cubicBezTo>
              </a:path>
              <a:path w="1166" h="1514">
                <a:moveTo>
                  <a:pt x="1463" y="2977"/>
                </a:moveTo>
                <a:cubicBezTo>
                  <a:pt x="1590" y="3180"/>
                  <a:pt x="1711" y="3333"/>
                  <a:pt x="1736" y="3572"/>
                </a:cubicBezTo>
                <a:cubicBezTo>
                  <a:pt x="1749" y="3691"/>
                  <a:pt x="1755" y="3854"/>
                  <a:pt x="1712" y="3969"/>
                </a:cubicBezTo>
                <a:cubicBezTo>
                  <a:pt x="1660" y="4110"/>
                  <a:pt x="1600" y="4258"/>
                  <a:pt x="1488" y="4366"/>
                </a:cubicBezTo>
                <a:cubicBezTo>
                  <a:pt x="1414" y="4415"/>
                  <a:pt x="1389" y="4432"/>
                  <a:pt x="1364" y="44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Ink 21"/>
          <p:cNvSpPr/>
          <p:nvPr/>
        </p:nvSpPr>
        <p:spPr>
          <a:xfrm>
            <a:off x="6303960" y="1776240"/>
            <a:ext cx="1920960" cy="1536840"/>
          </a:xfrm>
          <a:custGeom>
            <a:avLst/>
            <a:gdLst/>
            <a:ahLst/>
            <a:rect l="l" t="t" r="r" b="b"/>
            <a:pathLst>
              <a:path w="5334" h="4268">
                <a:moveTo>
                  <a:pt x="17611" y="8880"/>
                </a:moveTo>
                <a:cubicBezTo>
                  <a:pt x="17670" y="8816"/>
                  <a:pt x="17717" y="8744"/>
                  <a:pt x="17785" y="8682"/>
                </a:cubicBezTo>
                <a:cubicBezTo>
                  <a:pt x="17867" y="8607"/>
                  <a:pt x="17949" y="8532"/>
                  <a:pt x="18033" y="8458"/>
                </a:cubicBezTo>
                <a:cubicBezTo>
                  <a:pt x="18180" y="8327"/>
                  <a:pt x="18345" y="8227"/>
                  <a:pt x="18504" y="8111"/>
                </a:cubicBezTo>
                <a:cubicBezTo>
                  <a:pt x="18662" y="7996"/>
                  <a:pt x="18794" y="7855"/>
                  <a:pt x="18951" y="7739"/>
                </a:cubicBezTo>
                <a:cubicBezTo>
                  <a:pt x="19136" y="7602"/>
                  <a:pt x="19306" y="7455"/>
                  <a:pt x="19472" y="7293"/>
                </a:cubicBezTo>
                <a:cubicBezTo>
                  <a:pt x="19714" y="7056"/>
                  <a:pt x="19970" y="6824"/>
                  <a:pt x="20241" y="6623"/>
                </a:cubicBezTo>
                <a:cubicBezTo>
                  <a:pt x="20561" y="6386"/>
                  <a:pt x="20857" y="6112"/>
                  <a:pt x="21158" y="5854"/>
                </a:cubicBezTo>
                <a:cubicBezTo>
                  <a:pt x="21319" y="5716"/>
                  <a:pt x="21492" y="5593"/>
                  <a:pt x="21654" y="5457"/>
                </a:cubicBezTo>
                <a:cubicBezTo>
                  <a:pt x="21770" y="5360"/>
                  <a:pt x="21888" y="5244"/>
                  <a:pt x="22002" y="5159"/>
                </a:cubicBezTo>
                <a:cubicBezTo>
                  <a:pt x="22104" y="5083"/>
                  <a:pt x="22218" y="5028"/>
                  <a:pt x="22324" y="4961"/>
                </a:cubicBezTo>
                <a:cubicBezTo>
                  <a:pt x="22332" y="4953"/>
                  <a:pt x="22341" y="4944"/>
                  <a:pt x="22349" y="4936"/>
                </a:cubicBezTo>
                <a:cubicBezTo>
                  <a:pt x="22389" y="5004"/>
                  <a:pt x="22450" y="5002"/>
                  <a:pt x="22473" y="5085"/>
                </a:cubicBezTo>
                <a:cubicBezTo>
                  <a:pt x="22573" y="5438"/>
                  <a:pt x="22497" y="5957"/>
                  <a:pt x="22523" y="6325"/>
                </a:cubicBezTo>
                <a:cubicBezTo>
                  <a:pt x="22542" y="6601"/>
                  <a:pt x="22561" y="6893"/>
                  <a:pt x="22572" y="7169"/>
                </a:cubicBezTo>
                <a:cubicBezTo>
                  <a:pt x="22580" y="7367"/>
                  <a:pt x="22570" y="7567"/>
                  <a:pt x="22597" y="7764"/>
                </a:cubicBezTo>
                <a:cubicBezTo>
                  <a:pt x="22626" y="7975"/>
                  <a:pt x="22663" y="8175"/>
                  <a:pt x="22696" y="8384"/>
                </a:cubicBezTo>
                <a:cubicBezTo>
                  <a:pt x="22719" y="8528"/>
                  <a:pt x="22714" y="8686"/>
                  <a:pt x="22746" y="8830"/>
                </a:cubicBezTo>
                <a:cubicBezTo>
                  <a:pt x="22766" y="8919"/>
                  <a:pt x="22799" y="8987"/>
                  <a:pt x="22820" y="9079"/>
                </a:cubicBezTo>
                <a:cubicBezTo>
                  <a:pt x="22831" y="9129"/>
                  <a:pt x="22833" y="9153"/>
                  <a:pt x="22845" y="9203"/>
                </a:cubicBezTo>
                <a:cubicBezTo>
                  <a:pt x="22696" y="9187"/>
                  <a:pt x="22547" y="9182"/>
                  <a:pt x="22399" y="9153"/>
                </a:cubicBezTo>
                <a:cubicBezTo>
                  <a:pt x="22201" y="9114"/>
                  <a:pt x="22003" y="9064"/>
                  <a:pt x="21803" y="9029"/>
                </a:cubicBezTo>
                <a:cubicBezTo>
                  <a:pt x="21597" y="8993"/>
                  <a:pt x="21390" y="8999"/>
                  <a:pt x="21183" y="8979"/>
                </a:cubicBezTo>
                <a:cubicBezTo>
                  <a:pt x="20951" y="8956"/>
                  <a:pt x="20721" y="8916"/>
                  <a:pt x="20489" y="8905"/>
                </a:cubicBezTo>
                <a:cubicBezTo>
                  <a:pt x="20208" y="8892"/>
                  <a:pt x="19927" y="8880"/>
                  <a:pt x="19645" y="8880"/>
                </a:cubicBezTo>
                <a:cubicBezTo>
                  <a:pt x="19115" y="8880"/>
                  <a:pt x="18583" y="8887"/>
                  <a:pt x="18058" y="8905"/>
                </a:cubicBezTo>
                <a:cubicBezTo>
                  <a:pt x="17946" y="8909"/>
                  <a:pt x="17844" y="8917"/>
                  <a:pt x="17735" y="8930"/>
                </a:cubicBezTo>
                <a:cubicBezTo>
                  <a:pt x="17661" y="8939"/>
                  <a:pt x="17586" y="8940"/>
                  <a:pt x="17512" y="8954"/>
                </a:cubicBezTo>
                <a:cubicBezTo>
                  <a:pt x="17520" y="8954"/>
                  <a:pt x="17529" y="8954"/>
                  <a:pt x="17537" y="89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Write as a product: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cos 90</a:t>
            </a:r>
            <a:r>
              <a:rPr b="0" lang="en-US" sz="4000" spc="-1" strike="noStrike">
                <a:solidFill>
                  <a:srgbClr val="dceaae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 + cos 30</a:t>
            </a:r>
            <a:r>
              <a:rPr b="0" lang="en-US" sz="4000" spc="-1" strike="noStrike">
                <a:solidFill>
                  <a:srgbClr val="dceaae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Solve this equation by fist rewriting it as a product: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Cos 3x + Cos x = 0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ceaae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dceaae"/>
                </a:solidFill>
                <a:latin typeface="Arial"/>
              </a:rPr>
              <a:t>Page 419</a:t>
            </a:r>
            <a:br>
              <a:rPr sz="7500"/>
            </a:br>
            <a:r>
              <a:rPr b="0" lang="en-US" sz="7500" spc="-1" strike="noStrike">
                <a:solidFill>
                  <a:srgbClr val="dceaae"/>
                </a:solidFill>
                <a:latin typeface="Arial"/>
              </a:rPr>
              <a:t>#59-67</a:t>
            </a:r>
            <a:endParaRPr b="0" lang="en-US" sz="7500" spc="-1" strike="noStrike">
              <a:solidFill>
                <a:srgbClr val="dcea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ceaae"/>
                </a:solidFill>
                <a:latin typeface="Arial"/>
              </a:rPr>
              <a:t>Lesson 5.5</a:t>
            </a:r>
            <a:br>
              <a:rPr sz="8500"/>
            </a:br>
            <a:r>
              <a:rPr b="0" lang="en-US" sz="8500" spc="-1" strike="noStrike">
                <a:solidFill>
                  <a:srgbClr val="dceaae"/>
                </a:solidFill>
                <a:latin typeface="Arial"/>
              </a:rPr>
              <a:t>part three</a:t>
            </a:r>
            <a:endParaRPr b="0" lang="en-US" sz="8500" spc="-1" strike="noStrike">
              <a:solidFill>
                <a:srgbClr val="dcea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dceaae"/>
                </a:solidFill>
                <a:latin typeface="Arial"/>
              </a:rPr>
              <a:t>Product-to-Sum</a:t>
            </a:r>
            <a:br>
              <a:rPr sz="6500"/>
            </a:br>
            <a:r>
              <a:rPr b="0" lang="en-US" sz="6500" spc="-1" strike="noStrike">
                <a:solidFill>
                  <a:srgbClr val="dceaae"/>
                </a:solidFill>
                <a:latin typeface="Arial"/>
              </a:rPr>
              <a:t>and</a:t>
            </a:r>
            <a:br>
              <a:rPr sz="6500"/>
            </a:br>
            <a:r>
              <a:rPr b="0" lang="en-US" sz="6500" spc="-1" strike="noStrike">
                <a:solidFill>
                  <a:srgbClr val="dceaae"/>
                </a:solidFill>
                <a:latin typeface="Arial"/>
              </a:rPr>
              <a:t>Sum-to-Product</a:t>
            </a:r>
            <a:br>
              <a:rPr sz="6500"/>
            </a:br>
            <a:r>
              <a:rPr b="0" lang="en-US" sz="6500" spc="-1" strike="noStrike">
                <a:solidFill>
                  <a:srgbClr val="dceaae"/>
                </a:solidFill>
                <a:latin typeface="Arial"/>
              </a:rPr>
              <a:t>Formulas</a:t>
            </a:r>
            <a:endParaRPr b="0" lang="en-US" sz="6500" spc="-1" strike="noStrike">
              <a:solidFill>
                <a:srgbClr val="dcea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Write as a sum or difference: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6 sin 4</a:t>
            </a:r>
            <a:r>
              <a:rPr b="0" lang="el-GR" sz="4000" spc="-1" strike="noStrike">
                <a:solidFill>
                  <a:srgbClr val="dceaae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ceaae"/>
                </a:solidFill>
                <a:latin typeface="Arial"/>
                <a:ea typeface="Arial"/>
              </a:rPr>
              <a:t> sin 3</a:t>
            </a:r>
            <a:r>
              <a:rPr b="0" lang="el-GR" sz="4000" spc="-1" strike="noStrike">
                <a:solidFill>
                  <a:srgbClr val="dceaae"/>
                </a:solidFill>
                <a:latin typeface="Arial"/>
                <a:ea typeface="Arial"/>
              </a:rPr>
              <a:t>Θ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0" name="Ink 5"/>
          <p:cNvSpPr/>
          <p:nvPr/>
        </p:nvSpPr>
        <p:spPr>
          <a:xfrm>
            <a:off x="2670120" y="1428840"/>
            <a:ext cx="446040" cy="36360"/>
          </a:xfrm>
          <a:custGeom>
            <a:avLst/>
            <a:gdLst/>
            <a:ahLst/>
            <a:rect l="l" t="t" r="r" b="b"/>
            <a:pathLst>
              <a:path w="1241" h="100">
                <a:moveTo>
                  <a:pt x="7417" y="4043"/>
                </a:moveTo>
                <a:cubicBezTo>
                  <a:pt x="7492" y="3982"/>
                  <a:pt x="7548" y="4006"/>
                  <a:pt x="7640" y="3994"/>
                </a:cubicBezTo>
                <a:cubicBezTo>
                  <a:pt x="7769" y="3978"/>
                  <a:pt x="7882" y="3969"/>
                  <a:pt x="8012" y="3969"/>
                </a:cubicBezTo>
                <a:cubicBezTo>
                  <a:pt x="8119" y="3969"/>
                  <a:pt x="8227" y="3969"/>
                  <a:pt x="8334" y="3969"/>
                </a:cubicBezTo>
                <a:cubicBezTo>
                  <a:pt x="8078" y="3969"/>
                  <a:pt x="7821" y="3969"/>
                  <a:pt x="7565" y="3969"/>
                </a:cubicBezTo>
                <a:cubicBezTo>
                  <a:pt x="7454" y="3969"/>
                  <a:pt x="7408" y="3969"/>
                  <a:pt x="7541" y="3969"/>
                </a:cubicBezTo>
                <a:cubicBezTo>
                  <a:pt x="7823" y="3969"/>
                  <a:pt x="8104" y="3959"/>
                  <a:pt x="8384" y="3994"/>
                </a:cubicBezTo>
                <a:cubicBezTo>
                  <a:pt x="8590" y="3994"/>
                  <a:pt x="8271" y="3994"/>
                  <a:pt x="8260" y="3994"/>
                </a:cubicBezTo>
                <a:cubicBezTo>
                  <a:pt x="8130" y="3994"/>
                  <a:pt x="8013" y="4002"/>
                  <a:pt x="7888" y="4018"/>
                </a:cubicBezTo>
                <a:cubicBezTo>
                  <a:pt x="7871" y="4018"/>
                  <a:pt x="7855" y="4018"/>
                  <a:pt x="7838" y="4018"/>
                </a:cubicBezTo>
                <a:cubicBezTo>
                  <a:pt x="7751" y="4107"/>
                  <a:pt x="7968" y="4022"/>
                  <a:pt x="8037" y="4018"/>
                </a:cubicBezTo>
                <a:cubicBezTo>
                  <a:pt x="8229" y="4007"/>
                  <a:pt x="8416" y="4043"/>
                  <a:pt x="8607" y="4043"/>
                </a:cubicBezTo>
                <a:cubicBezTo>
                  <a:pt x="8665" y="4043"/>
                  <a:pt x="8674" y="4043"/>
                  <a:pt x="8582" y="4043"/>
                </a:cubicBezTo>
                <a:cubicBezTo>
                  <a:pt x="8340" y="4043"/>
                  <a:pt x="8101" y="4045"/>
                  <a:pt x="7863" y="4068"/>
                </a:cubicBezTo>
                <a:cubicBezTo>
                  <a:pt x="7807" y="4073"/>
                  <a:pt x="7746" y="4068"/>
                  <a:pt x="7689" y="4068"/>
                </a:cubicBezTo>
                <a:cubicBezTo>
                  <a:pt x="7802" y="4051"/>
                  <a:pt x="7928" y="4031"/>
                  <a:pt x="8037" y="4018"/>
                </a:cubicBezTo>
                <a:cubicBezTo>
                  <a:pt x="8037" y="4018"/>
                  <a:pt x="8277" y="4018"/>
                  <a:pt x="8186" y="3994"/>
                </a:cubicBezTo>
                <a:cubicBezTo>
                  <a:pt x="8169" y="3994"/>
                  <a:pt x="8153" y="3994"/>
                  <a:pt x="8136" y="39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Ink 6"/>
          <p:cNvSpPr/>
          <p:nvPr/>
        </p:nvSpPr>
        <p:spPr>
          <a:xfrm>
            <a:off x="4000680" y="1366920"/>
            <a:ext cx="660240" cy="544320"/>
          </a:xfrm>
          <a:custGeom>
            <a:avLst/>
            <a:gdLst/>
            <a:ahLst/>
            <a:rect l="l" t="t" r="r" b="b"/>
            <a:pathLst>
              <a:path w="1837" h="1514">
                <a:moveTo>
                  <a:pt x="11162" y="3795"/>
                </a:moveTo>
                <a:cubicBezTo>
                  <a:pt x="11155" y="3866"/>
                  <a:pt x="11140" y="3922"/>
                  <a:pt x="11137" y="3994"/>
                </a:cubicBezTo>
                <a:cubicBezTo>
                  <a:pt x="11134" y="4064"/>
                  <a:pt x="11112" y="4118"/>
                  <a:pt x="11112" y="4192"/>
                </a:cubicBezTo>
                <a:cubicBezTo>
                  <a:pt x="11112" y="4258"/>
                  <a:pt x="11094" y="4328"/>
                  <a:pt x="11162" y="4366"/>
                </a:cubicBezTo>
                <a:cubicBezTo>
                  <a:pt x="11175" y="4373"/>
                  <a:pt x="11316" y="4347"/>
                  <a:pt x="11336" y="4341"/>
                </a:cubicBezTo>
                <a:cubicBezTo>
                  <a:pt x="11421" y="4317"/>
                  <a:pt x="11520" y="4296"/>
                  <a:pt x="11609" y="4291"/>
                </a:cubicBezTo>
                <a:cubicBezTo>
                  <a:pt x="11734" y="4284"/>
                  <a:pt x="11837" y="4304"/>
                  <a:pt x="11956" y="4316"/>
                </a:cubicBezTo>
                <a:cubicBezTo>
                  <a:pt x="12186" y="4340"/>
                  <a:pt x="12423" y="4315"/>
                  <a:pt x="12650" y="4341"/>
                </a:cubicBezTo>
                <a:cubicBezTo>
                  <a:pt x="12717" y="4349"/>
                  <a:pt x="12853" y="4339"/>
                  <a:pt x="12898" y="4291"/>
                </a:cubicBezTo>
                <a:cubicBezTo>
                  <a:pt x="12901" y="4288"/>
                  <a:pt x="12922" y="4124"/>
                  <a:pt x="12923" y="4118"/>
                </a:cubicBezTo>
                <a:cubicBezTo>
                  <a:pt x="12934" y="4039"/>
                  <a:pt x="12945" y="3970"/>
                  <a:pt x="12948" y="3894"/>
                </a:cubicBezTo>
                <a:cubicBezTo>
                  <a:pt x="12948" y="3850"/>
                  <a:pt x="12951" y="3836"/>
                  <a:pt x="12923" y="3820"/>
                </a:cubicBezTo>
              </a:path>
              <a:path w="1837" h="1514">
                <a:moveTo>
                  <a:pt x="11658" y="4663"/>
                </a:moveTo>
                <a:cubicBezTo>
                  <a:pt x="11692" y="4722"/>
                  <a:pt x="11726" y="4775"/>
                  <a:pt x="11757" y="4837"/>
                </a:cubicBezTo>
                <a:cubicBezTo>
                  <a:pt x="11801" y="4927"/>
                  <a:pt x="11808" y="5003"/>
                  <a:pt x="11881" y="5085"/>
                </a:cubicBezTo>
                <a:cubicBezTo>
                  <a:pt x="11926" y="5135"/>
                  <a:pt x="11961" y="5185"/>
                  <a:pt x="12005" y="5234"/>
                </a:cubicBezTo>
                <a:cubicBezTo>
                  <a:pt x="12059" y="5295"/>
                  <a:pt x="12079" y="5291"/>
                  <a:pt x="12055" y="5209"/>
                </a:cubicBezTo>
              </a:path>
              <a:path w="1837" h="1514">
                <a:moveTo>
                  <a:pt x="12005" y="4713"/>
                </a:moveTo>
                <a:cubicBezTo>
                  <a:pt x="11960" y="4804"/>
                  <a:pt x="11913" y="4865"/>
                  <a:pt x="11857" y="4936"/>
                </a:cubicBezTo>
                <a:cubicBezTo>
                  <a:pt x="11820" y="4983"/>
                  <a:pt x="11788" y="5059"/>
                  <a:pt x="11757" y="5110"/>
                </a:cubicBezTo>
                <a:cubicBezTo>
                  <a:pt x="11719" y="5173"/>
                  <a:pt x="11640" y="5220"/>
                  <a:pt x="11609" y="5283"/>
                </a:cubicBezTo>
                <a:cubicBezTo>
                  <a:pt x="11609" y="5291"/>
                  <a:pt x="11609" y="5300"/>
                  <a:pt x="11609" y="53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Ink 7"/>
          <p:cNvSpPr/>
          <p:nvPr/>
        </p:nvSpPr>
        <p:spPr>
          <a:xfrm>
            <a:off x="5537160" y="1374840"/>
            <a:ext cx="758880" cy="689040"/>
          </a:xfrm>
          <a:custGeom>
            <a:avLst/>
            <a:gdLst/>
            <a:ahLst/>
            <a:rect l="l" t="t" r="r" b="b"/>
            <a:pathLst>
              <a:path w="2109" h="1911">
                <a:moveTo>
                  <a:pt x="15453" y="3820"/>
                </a:moveTo>
                <a:cubicBezTo>
                  <a:pt x="15440" y="3856"/>
                  <a:pt x="15411" y="3909"/>
                  <a:pt x="15404" y="3944"/>
                </a:cubicBezTo>
                <a:cubicBezTo>
                  <a:pt x="15399" y="3973"/>
                  <a:pt x="15351" y="4117"/>
                  <a:pt x="15379" y="4142"/>
                </a:cubicBezTo>
                <a:cubicBezTo>
                  <a:pt x="15426" y="4183"/>
                  <a:pt x="15491" y="4167"/>
                  <a:pt x="15553" y="4167"/>
                </a:cubicBezTo>
                <a:cubicBezTo>
                  <a:pt x="15644" y="4167"/>
                  <a:pt x="15721" y="4189"/>
                  <a:pt x="15801" y="4192"/>
                </a:cubicBezTo>
                <a:cubicBezTo>
                  <a:pt x="16011" y="4200"/>
                  <a:pt x="16216" y="4193"/>
                  <a:pt x="16421" y="4217"/>
                </a:cubicBezTo>
                <a:cubicBezTo>
                  <a:pt x="16516" y="4228"/>
                  <a:pt x="16626" y="4235"/>
                  <a:pt x="16718" y="4242"/>
                </a:cubicBezTo>
                <a:cubicBezTo>
                  <a:pt x="16841" y="4251"/>
                  <a:pt x="16950" y="4276"/>
                  <a:pt x="17066" y="4291"/>
                </a:cubicBezTo>
                <a:cubicBezTo>
                  <a:pt x="17178" y="4305"/>
                  <a:pt x="17300" y="4291"/>
                  <a:pt x="17413" y="4291"/>
                </a:cubicBezTo>
                <a:cubicBezTo>
                  <a:pt x="17413" y="4216"/>
                  <a:pt x="17426" y="4162"/>
                  <a:pt x="17438" y="4093"/>
                </a:cubicBezTo>
                <a:cubicBezTo>
                  <a:pt x="17454" y="4000"/>
                  <a:pt x="17458" y="3908"/>
                  <a:pt x="17487" y="3820"/>
                </a:cubicBezTo>
              </a:path>
              <a:path w="2109" h="1911">
                <a:moveTo>
                  <a:pt x="15801" y="4589"/>
                </a:moveTo>
                <a:cubicBezTo>
                  <a:pt x="15801" y="4714"/>
                  <a:pt x="15776" y="4869"/>
                  <a:pt x="15825" y="4986"/>
                </a:cubicBezTo>
                <a:cubicBezTo>
                  <a:pt x="15853" y="5052"/>
                  <a:pt x="15906" y="5034"/>
                  <a:pt x="15949" y="5011"/>
                </a:cubicBezTo>
                <a:cubicBezTo>
                  <a:pt x="15972" y="4999"/>
                  <a:pt x="16086" y="4910"/>
                  <a:pt x="16098" y="4887"/>
                </a:cubicBezTo>
                <a:cubicBezTo>
                  <a:pt x="16118" y="4846"/>
                  <a:pt x="16163" y="4730"/>
                  <a:pt x="16173" y="4688"/>
                </a:cubicBezTo>
                <a:cubicBezTo>
                  <a:pt x="16185" y="4639"/>
                  <a:pt x="16191" y="4589"/>
                  <a:pt x="16197" y="4539"/>
                </a:cubicBezTo>
                <a:cubicBezTo>
                  <a:pt x="16235" y="4603"/>
                  <a:pt x="16219" y="4687"/>
                  <a:pt x="16197" y="4762"/>
                </a:cubicBezTo>
                <a:cubicBezTo>
                  <a:pt x="16174" y="4841"/>
                  <a:pt x="16173" y="4900"/>
                  <a:pt x="16173" y="4986"/>
                </a:cubicBezTo>
                <a:cubicBezTo>
                  <a:pt x="16173" y="5183"/>
                  <a:pt x="16228" y="5478"/>
                  <a:pt x="16148" y="5655"/>
                </a:cubicBezTo>
                <a:cubicBezTo>
                  <a:pt x="16124" y="5709"/>
                  <a:pt x="16023" y="5727"/>
                  <a:pt x="15974" y="5730"/>
                </a:cubicBezTo>
                <a:cubicBezTo>
                  <a:pt x="15899" y="5734"/>
                  <a:pt x="15843" y="5714"/>
                  <a:pt x="15776" y="5705"/>
                </a:cubicBezTo>
                <a:cubicBezTo>
                  <a:pt x="15714" y="5705"/>
                  <a:pt x="15699" y="5715"/>
                  <a:pt x="15677" y="56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Ink 8"/>
          <p:cNvSpPr/>
          <p:nvPr/>
        </p:nvSpPr>
        <p:spPr>
          <a:xfrm>
            <a:off x="1446120" y="2367000"/>
            <a:ext cx="241560" cy="411120"/>
          </a:xfrm>
          <a:custGeom>
            <a:avLst/>
            <a:gdLst/>
            <a:ahLst/>
            <a:rect l="l" t="t" r="r" b="b"/>
            <a:pathLst>
              <a:path w="671" h="1142">
                <a:moveTo>
                  <a:pt x="4093" y="6573"/>
                </a:moveTo>
                <a:cubicBezTo>
                  <a:pt x="4093" y="6638"/>
                  <a:pt x="4076" y="6696"/>
                  <a:pt x="4068" y="6747"/>
                </a:cubicBezTo>
                <a:cubicBezTo>
                  <a:pt x="4053" y="6844"/>
                  <a:pt x="4043" y="6945"/>
                  <a:pt x="4043" y="7045"/>
                </a:cubicBezTo>
                <a:cubicBezTo>
                  <a:pt x="4043" y="7132"/>
                  <a:pt x="4018" y="7203"/>
                  <a:pt x="4018" y="7293"/>
                </a:cubicBezTo>
                <a:cubicBezTo>
                  <a:pt x="4018" y="7363"/>
                  <a:pt x="4025" y="7474"/>
                  <a:pt x="4043" y="7541"/>
                </a:cubicBezTo>
                <a:cubicBezTo>
                  <a:pt x="4057" y="7595"/>
                  <a:pt x="4138" y="7675"/>
                  <a:pt x="4192" y="7689"/>
                </a:cubicBezTo>
                <a:cubicBezTo>
                  <a:pt x="4282" y="7712"/>
                  <a:pt x="4434" y="7697"/>
                  <a:pt x="4514" y="7665"/>
                </a:cubicBezTo>
                <a:cubicBezTo>
                  <a:pt x="4574" y="7641"/>
                  <a:pt x="4641" y="7576"/>
                  <a:pt x="4663" y="7516"/>
                </a:cubicBezTo>
                <a:cubicBezTo>
                  <a:pt x="4698" y="7418"/>
                  <a:pt x="4704" y="7383"/>
                  <a:pt x="4638" y="7317"/>
                </a:cubicBezTo>
                <a:cubicBezTo>
                  <a:pt x="4592" y="7271"/>
                  <a:pt x="4580" y="7247"/>
                  <a:pt x="4514" y="7243"/>
                </a:cubicBezTo>
                <a:cubicBezTo>
                  <a:pt x="4458" y="7240"/>
                  <a:pt x="4394" y="7270"/>
                  <a:pt x="4341" y="7293"/>
                </a:cubicBezTo>
                <a:cubicBezTo>
                  <a:pt x="4269" y="7324"/>
                  <a:pt x="4208" y="7424"/>
                  <a:pt x="4167" y="7491"/>
                </a:cubicBezTo>
                <a:cubicBezTo>
                  <a:pt x="4133" y="7545"/>
                  <a:pt x="4077" y="7665"/>
                  <a:pt x="4142" y="7714"/>
                </a:cubicBezTo>
                <a:cubicBezTo>
                  <a:pt x="4150" y="7714"/>
                  <a:pt x="4159" y="7714"/>
                  <a:pt x="4167" y="77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Ink 9"/>
          <p:cNvSpPr/>
          <p:nvPr/>
        </p:nvSpPr>
        <p:spPr>
          <a:xfrm>
            <a:off x="1911240" y="2286000"/>
            <a:ext cx="5875560" cy="938160"/>
          </a:xfrm>
          <a:custGeom>
            <a:avLst/>
            <a:gdLst/>
            <a:ahLst/>
            <a:rect l="l" t="t" r="r" b="b"/>
            <a:pathLst>
              <a:path w="16323" h="2605">
                <a:moveTo>
                  <a:pt x="5432" y="7144"/>
                </a:moveTo>
                <a:cubicBezTo>
                  <a:pt x="5411" y="7179"/>
                  <a:pt x="5375" y="7282"/>
                  <a:pt x="5432" y="7317"/>
                </a:cubicBezTo>
                <a:cubicBezTo>
                  <a:pt x="5449" y="7317"/>
                  <a:pt x="5465" y="7317"/>
                  <a:pt x="5482" y="7317"/>
                </a:cubicBezTo>
                <a:cubicBezTo>
                  <a:pt x="5515" y="7285"/>
                  <a:pt x="5576" y="7212"/>
                  <a:pt x="5507" y="7169"/>
                </a:cubicBezTo>
                <a:cubicBezTo>
                  <a:pt x="5428" y="7121"/>
                  <a:pt x="5341" y="7214"/>
                  <a:pt x="5358" y="7293"/>
                </a:cubicBezTo>
                <a:cubicBezTo>
                  <a:pt x="5366" y="7301"/>
                  <a:pt x="5375" y="7309"/>
                  <a:pt x="5383" y="7317"/>
                </a:cubicBezTo>
                <a:cubicBezTo>
                  <a:pt x="5444" y="7309"/>
                  <a:pt x="5439" y="7311"/>
                  <a:pt x="5482" y="7268"/>
                </a:cubicBezTo>
                <a:cubicBezTo>
                  <a:pt x="5428" y="7201"/>
                  <a:pt x="5432" y="7176"/>
                  <a:pt x="5358" y="7243"/>
                </a:cubicBezTo>
                <a:cubicBezTo>
                  <a:pt x="5328" y="7273"/>
                  <a:pt x="5317" y="7287"/>
                  <a:pt x="5308" y="7317"/>
                </a:cubicBezTo>
                <a:cubicBezTo>
                  <a:pt x="5348" y="7341"/>
                  <a:pt x="5430" y="7362"/>
                  <a:pt x="5482" y="7342"/>
                </a:cubicBezTo>
                <a:cubicBezTo>
                  <a:pt x="5521" y="7327"/>
                  <a:pt x="5570" y="7259"/>
                  <a:pt x="5556" y="7218"/>
                </a:cubicBezTo>
                <a:cubicBezTo>
                  <a:pt x="5532" y="7145"/>
                  <a:pt x="5435" y="7218"/>
                  <a:pt x="5407" y="7243"/>
                </a:cubicBezTo>
                <a:cubicBezTo>
                  <a:pt x="5399" y="7251"/>
                  <a:pt x="5391" y="7260"/>
                  <a:pt x="5383" y="7268"/>
                </a:cubicBezTo>
              </a:path>
              <a:path w="16323" h="2605">
                <a:moveTo>
                  <a:pt x="6424" y="6400"/>
                </a:moveTo>
                <a:cubicBezTo>
                  <a:pt x="6424" y="6688"/>
                  <a:pt x="6443" y="6989"/>
                  <a:pt x="6400" y="7268"/>
                </a:cubicBezTo>
                <a:cubicBezTo>
                  <a:pt x="6388" y="7344"/>
                  <a:pt x="6375" y="7413"/>
                  <a:pt x="6375" y="7491"/>
                </a:cubicBezTo>
                <a:cubicBezTo>
                  <a:pt x="6375" y="7508"/>
                  <a:pt x="6375" y="7524"/>
                  <a:pt x="6375" y="7541"/>
                </a:cubicBezTo>
              </a:path>
              <a:path w="16323" h="2605">
                <a:moveTo>
                  <a:pt x="5730" y="7689"/>
                </a:moveTo>
                <a:cubicBezTo>
                  <a:pt x="5812" y="7689"/>
                  <a:pt x="5875" y="7705"/>
                  <a:pt x="5953" y="7714"/>
                </a:cubicBezTo>
                <a:cubicBezTo>
                  <a:pt x="6118" y="7733"/>
                  <a:pt x="6285" y="7718"/>
                  <a:pt x="6449" y="7739"/>
                </a:cubicBezTo>
                <a:cubicBezTo>
                  <a:pt x="6566" y="7754"/>
                  <a:pt x="6684" y="7745"/>
                  <a:pt x="6796" y="7764"/>
                </a:cubicBezTo>
                <a:cubicBezTo>
                  <a:pt x="6838" y="7764"/>
                  <a:pt x="6863" y="7764"/>
                  <a:pt x="6821" y="7764"/>
                </a:cubicBezTo>
              </a:path>
              <a:path w="16323" h="2605">
                <a:moveTo>
                  <a:pt x="6251" y="8062"/>
                </a:moveTo>
                <a:cubicBezTo>
                  <a:pt x="6234" y="8078"/>
                  <a:pt x="6218" y="8095"/>
                  <a:pt x="6201" y="8111"/>
                </a:cubicBezTo>
                <a:cubicBezTo>
                  <a:pt x="6250" y="8063"/>
                  <a:pt x="6290" y="8019"/>
                  <a:pt x="6350" y="7987"/>
                </a:cubicBezTo>
                <a:cubicBezTo>
                  <a:pt x="6409" y="7956"/>
                  <a:pt x="6472" y="7944"/>
                  <a:pt x="6524" y="7987"/>
                </a:cubicBezTo>
                <a:cubicBezTo>
                  <a:pt x="6559" y="8016"/>
                  <a:pt x="6612" y="8066"/>
                  <a:pt x="6623" y="8111"/>
                </a:cubicBezTo>
                <a:cubicBezTo>
                  <a:pt x="6636" y="8167"/>
                  <a:pt x="6665" y="8250"/>
                  <a:pt x="6648" y="8310"/>
                </a:cubicBezTo>
                <a:cubicBezTo>
                  <a:pt x="6619" y="8413"/>
                  <a:pt x="6571" y="8506"/>
                  <a:pt x="6524" y="8607"/>
                </a:cubicBezTo>
                <a:cubicBezTo>
                  <a:pt x="6487" y="8687"/>
                  <a:pt x="6412" y="8745"/>
                  <a:pt x="6350" y="8806"/>
                </a:cubicBezTo>
                <a:cubicBezTo>
                  <a:pt x="6296" y="8860"/>
                  <a:pt x="6226" y="8877"/>
                  <a:pt x="6152" y="8880"/>
                </a:cubicBezTo>
                <a:cubicBezTo>
                  <a:pt x="6075" y="8883"/>
                  <a:pt x="6039" y="8875"/>
                  <a:pt x="5978" y="8830"/>
                </a:cubicBezTo>
                <a:cubicBezTo>
                  <a:pt x="5922" y="8789"/>
                  <a:pt x="5948" y="8728"/>
                  <a:pt x="5953" y="8682"/>
                </a:cubicBezTo>
                <a:cubicBezTo>
                  <a:pt x="5963" y="8600"/>
                  <a:pt x="5992" y="8587"/>
                  <a:pt x="6077" y="8582"/>
                </a:cubicBezTo>
                <a:cubicBezTo>
                  <a:pt x="6142" y="8578"/>
                  <a:pt x="6223" y="8619"/>
                  <a:pt x="6276" y="8657"/>
                </a:cubicBezTo>
                <a:cubicBezTo>
                  <a:pt x="6318" y="8686"/>
                  <a:pt x="6309" y="8761"/>
                  <a:pt x="6350" y="8806"/>
                </a:cubicBezTo>
                <a:cubicBezTo>
                  <a:pt x="6386" y="8845"/>
                  <a:pt x="6393" y="8902"/>
                  <a:pt x="6400" y="8954"/>
                </a:cubicBezTo>
              </a:path>
              <a:path w="16323" h="2605">
                <a:moveTo>
                  <a:pt x="8086" y="6375"/>
                </a:moveTo>
                <a:cubicBezTo>
                  <a:pt x="7996" y="6344"/>
                  <a:pt x="7911" y="6350"/>
                  <a:pt x="7813" y="6350"/>
                </a:cubicBezTo>
                <a:cubicBezTo>
                  <a:pt x="7729" y="6350"/>
                  <a:pt x="7669" y="6369"/>
                  <a:pt x="7590" y="6375"/>
                </a:cubicBezTo>
                <a:cubicBezTo>
                  <a:pt x="7533" y="6380"/>
                  <a:pt x="7464" y="6374"/>
                  <a:pt x="7417" y="6400"/>
                </a:cubicBezTo>
                <a:cubicBezTo>
                  <a:pt x="7358" y="6433"/>
                  <a:pt x="7376" y="6470"/>
                  <a:pt x="7392" y="6524"/>
                </a:cubicBezTo>
                <a:cubicBezTo>
                  <a:pt x="7412" y="6592"/>
                  <a:pt x="7395" y="6644"/>
                  <a:pt x="7392" y="6722"/>
                </a:cubicBezTo>
                <a:cubicBezTo>
                  <a:pt x="7390" y="6789"/>
                  <a:pt x="7384" y="6879"/>
                  <a:pt x="7367" y="6945"/>
                </a:cubicBezTo>
                <a:cubicBezTo>
                  <a:pt x="7342" y="7044"/>
                  <a:pt x="7336" y="7143"/>
                  <a:pt x="7317" y="7243"/>
                </a:cubicBezTo>
                <a:cubicBezTo>
                  <a:pt x="7301" y="7327"/>
                  <a:pt x="7293" y="7402"/>
                  <a:pt x="7293" y="7491"/>
                </a:cubicBezTo>
                <a:cubicBezTo>
                  <a:pt x="7293" y="7604"/>
                  <a:pt x="7271" y="7701"/>
                  <a:pt x="7268" y="7813"/>
                </a:cubicBezTo>
                <a:cubicBezTo>
                  <a:pt x="7265" y="7916"/>
                  <a:pt x="7254" y="8016"/>
                  <a:pt x="7243" y="8111"/>
                </a:cubicBezTo>
                <a:cubicBezTo>
                  <a:pt x="7231" y="8217"/>
                  <a:pt x="7189" y="8761"/>
                  <a:pt x="7268" y="8806"/>
                </a:cubicBezTo>
                <a:cubicBezTo>
                  <a:pt x="7302" y="8825"/>
                  <a:pt x="7453" y="8826"/>
                  <a:pt x="7491" y="8830"/>
                </a:cubicBezTo>
                <a:cubicBezTo>
                  <a:pt x="7561" y="8837"/>
                  <a:pt x="7621" y="8848"/>
                  <a:pt x="7689" y="8855"/>
                </a:cubicBezTo>
                <a:cubicBezTo>
                  <a:pt x="7764" y="8862"/>
                  <a:pt x="7828" y="8864"/>
                  <a:pt x="7863" y="8855"/>
                </a:cubicBezTo>
              </a:path>
              <a:path w="16323" h="2605">
                <a:moveTo>
                  <a:pt x="8062" y="7243"/>
                </a:moveTo>
                <a:cubicBezTo>
                  <a:pt x="8098" y="7304"/>
                  <a:pt x="8071" y="7325"/>
                  <a:pt x="8062" y="7392"/>
                </a:cubicBezTo>
                <a:cubicBezTo>
                  <a:pt x="8028" y="7335"/>
                  <a:pt x="8050" y="7279"/>
                  <a:pt x="8012" y="7218"/>
                </a:cubicBezTo>
                <a:cubicBezTo>
                  <a:pt x="8004" y="7210"/>
                  <a:pt x="7995" y="7201"/>
                  <a:pt x="7987" y="7193"/>
                </a:cubicBezTo>
                <a:cubicBezTo>
                  <a:pt x="7917" y="7264"/>
                  <a:pt x="7836" y="7329"/>
                  <a:pt x="7789" y="7417"/>
                </a:cubicBezTo>
                <a:cubicBezTo>
                  <a:pt x="7764" y="7465"/>
                  <a:pt x="7709" y="7563"/>
                  <a:pt x="7714" y="7615"/>
                </a:cubicBezTo>
                <a:cubicBezTo>
                  <a:pt x="7720" y="7685"/>
                  <a:pt x="7749" y="7779"/>
                  <a:pt x="7789" y="7838"/>
                </a:cubicBezTo>
                <a:cubicBezTo>
                  <a:pt x="7840" y="7913"/>
                  <a:pt x="7880" y="7913"/>
                  <a:pt x="7962" y="7913"/>
                </a:cubicBezTo>
                <a:cubicBezTo>
                  <a:pt x="8024" y="7913"/>
                  <a:pt x="8057" y="7891"/>
                  <a:pt x="8111" y="7863"/>
                </a:cubicBezTo>
              </a:path>
              <a:path w="16323" h="2605">
                <a:moveTo>
                  <a:pt x="8334" y="7342"/>
                </a:moveTo>
                <a:cubicBezTo>
                  <a:pt x="8326" y="7419"/>
                  <a:pt x="8310" y="7486"/>
                  <a:pt x="8310" y="7565"/>
                </a:cubicBezTo>
                <a:cubicBezTo>
                  <a:pt x="8310" y="7654"/>
                  <a:pt x="8314" y="7732"/>
                  <a:pt x="8359" y="7813"/>
                </a:cubicBezTo>
                <a:cubicBezTo>
                  <a:pt x="8407" y="7897"/>
                  <a:pt x="8440" y="7888"/>
                  <a:pt x="8533" y="7888"/>
                </a:cubicBezTo>
                <a:cubicBezTo>
                  <a:pt x="8587" y="7888"/>
                  <a:pt x="8626" y="7861"/>
                  <a:pt x="8657" y="7813"/>
                </a:cubicBezTo>
                <a:cubicBezTo>
                  <a:pt x="8716" y="7723"/>
                  <a:pt x="8715" y="7687"/>
                  <a:pt x="8706" y="7590"/>
                </a:cubicBezTo>
                <a:cubicBezTo>
                  <a:pt x="8699" y="7513"/>
                  <a:pt x="8667" y="7483"/>
                  <a:pt x="8632" y="7417"/>
                </a:cubicBezTo>
                <a:cubicBezTo>
                  <a:pt x="8606" y="7368"/>
                  <a:pt x="8570" y="7304"/>
                  <a:pt x="8508" y="7293"/>
                </a:cubicBezTo>
                <a:cubicBezTo>
                  <a:pt x="8389" y="7272"/>
                  <a:pt x="8384" y="7323"/>
                  <a:pt x="8384" y="7417"/>
                </a:cubicBezTo>
              </a:path>
              <a:path w="16323" h="2605">
                <a:moveTo>
                  <a:pt x="9178" y="7317"/>
                </a:moveTo>
                <a:cubicBezTo>
                  <a:pt x="9119" y="7288"/>
                  <a:pt x="9066" y="7295"/>
                  <a:pt x="9004" y="7317"/>
                </a:cubicBezTo>
                <a:cubicBezTo>
                  <a:pt x="8957" y="7333"/>
                  <a:pt x="8885" y="7381"/>
                  <a:pt x="8905" y="7441"/>
                </a:cubicBezTo>
                <a:cubicBezTo>
                  <a:pt x="8930" y="7515"/>
                  <a:pt x="9046" y="7507"/>
                  <a:pt x="9103" y="7541"/>
                </a:cubicBezTo>
                <a:cubicBezTo>
                  <a:pt x="9167" y="7579"/>
                  <a:pt x="9248" y="7669"/>
                  <a:pt x="9252" y="7739"/>
                </a:cubicBezTo>
                <a:cubicBezTo>
                  <a:pt x="9255" y="7794"/>
                  <a:pt x="9201" y="7832"/>
                  <a:pt x="9153" y="7863"/>
                </a:cubicBezTo>
                <a:cubicBezTo>
                  <a:pt x="9093" y="7902"/>
                  <a:pt x="9022" y="7888"/>
                  <a:pt x="8954" y="7888"/>
                </a:cubicBezTo>
                <a:cubicBezTo>
                  <a:pt x="8895" y="7888"/>
                  <a:pt x="8893" y="7888"/>
                  <a:pt x="8880" y="7838"/>
                </a:cubicBezTo>
              </a:path>
              <a:path w="16323" h="2605">
                <a:moveTo>
                  <a:pt x="9847" y="6945"/>
                </a:moveTo>
                <a:cubicBezTo>
                  <a:pt x="9803" y="6990"/>
                  <a:pt x="9771" y="7034"/>
                  <a:pt x="9748" y="7094"/>
                </a:cubicBezTo>
                <a:cubicBezTo>
                  <a:pt x="9722" y="7160"/>
                  <a:pt x="9683" y="7258"/>
                  <a:pt x="9674" y="7317"/>
                </a:cubicBezTo>
                <a:cubicBezTo>
                  <a:pt x="9658" y="7430"/>
                  <a:pt x="9624" y="7523"/>
                  <a:pt x="9624" y="7640"/>
                </a:cubicBezTo>
                <a:cubicBezTo>
                  <a:pt x="9624" y="7720"/>
                  <a:pt x="9661" y="7773"/>
                  <a:pt x="9674" y="7838"/>
                </a:cubicBezTo>
                <a:cubicBezTo>
                  <a:pt x="9687" y="7904"/>
                  <a:pt x="9698" y="7913"/>
                  <a:pt x="9748" y="7962"/>
                </a:cubicBezTo>
              </a:path>
              <a:path w="16323" h="2605">
                <a:moveTo>
                  <a:pt x="10071" y="7243"/>
                </a:moveTo>
                <a:cubicBezTo>
                  <a:pt x="10061" y="7319"/>
                  <a:pt x="10012" y="7368"/>
                  <a:pt x="9996" y="7441"/>
                </a:cubicBezTo>
                <a:cubicBezTo>
                  <a:pt x="9983" y="7500"/>
                  <a:pt x="10041" y="7552"/>
                  <a:pt x="10096" y="7565"/>
                </a:cubicBezTo>
                <a:cubicBezTo>
                  <a:pt x="10164" y="7581"/>
                  <a:pt x="10234" y="7586"/>
                  <a:pt x="10294" y="7565"/>
                </a:cubicBezTo>
                <a:cubicBezTo>
                  <a:pt x="10311" y="7557"/>
                  <a:pt x="10327" y="7549"/>
                  <a:pt x="10344" y="7541"/>
                </a:cubicBezTo>
              </a:path>
              <a:path w="16323" h="2605">
                <a:moveTo>
                  <a:pt x="10319" y="7094"/>
                </a:moveTo>
                <a:cubicBezTo>
                  <a:pt x="10280" y="7172"/>
                  <a:pt x="10294" y="7274"/>
                  <a:pt x="10294" y="7367"/>
                </a:cubicBezTo>
                <a:cubicBezTo>
                  <a:pt x="10294" y="7455"/>
                  <a:pt x="10269" y="7524"/>
                  <a:pt x="10269" y="7615"/>
                </a:cubicBezTo>
                <a:cubicBezTo>
                  <a:pt x="10269" y="7706"/>
                  <a:pt x="10269" y="7797"/>
                  <a:pt x="10269" y="7888"/>
                </a:cubicBezTo>
              </a:path>
              <a:path w="16323" h="2605">
                <a:moveTo>
                  <a:pt x="10691" y="7169"/>
                </a:moveTo>
                <a:cubicBezTo>
                  <a:pt x="10691" y="7250"/>
                  <a:pt x="10678" y="7317"/>
                  <a:pt x="10666" y="7392"/>
                </a:cubicBezTo>
                <a:cubicBezTo>
                  <a:pt x="10654" y="7466"/>
                  <a:pt x="10643" y="7541"/>
                  <a:pt x="10641" y="7615"/>
                </a:cubicBezTo>
                <a:cubicBezTo>
                  <a:pt x="10638" y="7698"/>
                  <a:pt x="10640" y="7787"/>
                  <a:pt x="10666" y="7863"/>
                </a:cubicBezTo>
                <a:cubicBezTo>
                  <a:pt x="10695" y="7951"/>
                  <a:pt x="10749" y="8015"/>
                  <a:pt x="10840" y="7962"/>
                </a:cubicBezTo>
                <a:cubicBezTo>
                  <a:pt x="10865" y="7948"/>
                  <a:pt x="10976" y="7856"/>
                  <a:pt x="10988" y="7838"/>
                </a:cubicBezTo>
                <a:cubicBezTo>
                  <a:pt x="11017" y="7792"/>
                  <a:pt x="11035" y="7691"/>
                  <a:pt x="11038" y="7640"/>
                </a:cubicBezTo>
                <a:cubicBezTo>
                  <a:pt x="11046" y="7512"/>
                  <a:pt x="11030" y="7403"/>
                  <a:pt x="10964" y="7293"/>
                </a:cubicBezTo>
                <a:cubicBezTo>
                  <a:pt x="10938" y="7249"/>
                  <a:pt x="10862" y="7204"/>
                  <a:pt x="10815" y="7193"/>
                </a:cubicBezTo>
                <a:cubicBezTo>
                  <a:pt x="10767" y="7182"/>
                  <a:pt x="10702" y="7221"/>
                  <a:pt x="10666" y="7243"/>
                </a:cubicBezTo>
              </a:path>
              <a:path w="16323" h="2605">
                <a:moveTo>
                  <a:pt x="10492" y="7640"/>
                </a:moveTo>
                <a:cubicBezTo>
                  <a:pt x="10625" y="7625"/>
                  <a:pt x="10734" y="7615"/>
                  <a:pt x="10864" y="7615"/>
                </a:cubicBezTo>
                <a:cubicBezTo>
                  <a:pt x="10923" y="7615"/>
                  <a:pt x="11012" y="7656"/>
                  <a:pt x="11063" y="7640"/>
                </a:cubicBezTo>
                <a:cubicBezTo>
                  <a:pt x="11071" y="7632"/>
                  <a:pt x="11080" y="7623"/>
                  <a:pt x="11088" y="7615"/>
                </a:cubicBezTo>
              </a:path>
              <a:path w="16323" h="2605">
                <a:moveTo>
                  <a:pt x="11336" y="7615"/>
                </a:moveTo>
                <a:cubicBezTo>
                  <a:pt x="11435" y="7615"/>
                  <a:pt x="11534" y="7615"/>
                  <a:pt x="11633" y="7615"/>
                </a:cubicBezTo>
              </a:path>
              <a:path w="16323" h="2605">
                <a:moveTo>
                  <a:pt x="11708" y="7317"/>
                </a:moveTo>
                <a:cubicBezTo>
                  <a:pt x="11782" y="7233"/>
                  <a:pt x="11780" y="7235"/>
                  <a:pt x="11857" y="7243"/>
                </a:cubicBezTo>
                <a:cubicBezTo>
                  <a:pt x="11957" y="7254"/>
                  <a:pt x="11988" y="7263"/>
                  <a:pt x="11956" y="7367"/>
                </a:cubicBezTo>
                <a:cubicBezTo>
                  <a:pt x="11926" y="7464"/>
                  <a:pt x="11861" y="7461"/>
                  <a:pt x="11807" y="7541"/>
                </a:cubicBezTo>
                <a:cubicBezTo>
                  <a:pt x="11799" y="7557"/>
                  <a:pt x="11790" y="7574"/>
                  <a:pt x="11782" y="7590"/>
                </a:cubicBezTo>
                <a:cubicBezTo>
                  <a:pt x="11824" y="7549"/>
                  <a:pt x="11897" y="7499"/>
                  <a:pt x="11956" y="7565"/>
                </a:cubicBezTo>
                <a:cubicBezTo>
                  <a:pt x="12012" y="7628"/>
                  <a:pt x="12008" y="7740"/>
                  <a:pt x="12030" y="7813"/>
                </a:cubicBezTo>
                <a:cubicBezTo>
                  <a:pt x="12054" y="7894"/>
                  <a:pt x="12019" y="7918"/>
                  <a:pt x="11956" y="7987"/>
                </a:cubicBezTo>
                <a:cubicBezTo>
                  <a:pt x="11907" y="8040"/>
                  <a:pt x="11767" y="8012"/>
                  <a:pt x="11708" y="7987"/>
                </a:cubicBezTo>
                <a:cubicBezTo>
                  <a:pt x="11686" y="7965"/>
                  <a:pt x="11677" y="7960"/>
                  <a:pt x="11683" y="7938"/>
                </a:cubicBezTo>
              </a:path>
              <a:path w="16323" h="2605">
                <a:moveTo>
                  <a:pt x="12278" y="7293"/>
                </a:moveTo>
                <a:cubicBezTo>
                  <a:pt x="12366" y="7322"/>
                  <a:pt x="12318" y="7359"/>
                  <a:pt x="12278" y="7441"/>
                </a:cubicBezTo>
                <a:cubicBezTo>
                  <a:pt x="12244" y="7510"/>
                  <a:pt x="12232" y="7589"/>
                  <a:pt x="12229" y="7665"/>
                </a:cubicBezTo>
                <a:cubicBezTo>
                  <a:pt x="12225" y="7761"/>
                  <a:pt x="12271" y="7836"/>
                  <a:pt x="12328" y="7913"/>
                </a:cubicBezTo>
                <a:cubicBezTo>
                  <a:pt x="12380" y="7983"/>
                  <a:pt x="12421" y="7989"/>
                  <a:pt x="12502" y="7962"/>
                </a:cubicBezTo>
                <a:cubicBezTo>
                  <a:pt x="12566" y="7941"/>
                  <a:pt x="12597" y="7894"/>
                  <a:pt x="12626" y="7838"/>
                </a:cubicBezTo>
                <a:cubicBezTo>
                  <a:pt x="12660" y="7772"/>
                  <a:pt x="12697" y="7714"/>
                  <a:pt x="12700" y="7640"/>
                </a:cubicBezTo>
                <a:cubicBezTo>
                  <a:pt x="12704" y="7547"/>
                  <a:pt x="12655" y="7445"/>
                  <a:pt x="12601" y="7367"/>
                </a:cubicBezTo>
                <a:cubicBezTo>
                  <a:pt x="12571" y="7323"/>
                  <a:pt x="12522" y="7292"/>
                  <a:pt x="12477" y="7268"/>
                </a:cubicBezTo>
                <a:cubicBezTo>
                  <a:pt x="12433" y="7246"/>
                  <a:pt x="12421" y="7233"/>
                  <a:pt x="12402" y="7268"/>
                </a:cubicBezTo>
              </a:path>
              <a:path w="16323" h="2605">
                <a:moveTo>
                  <a:pt x="12154" y="7565"/>
                </a:moveTo>
                <a:cubicBezTo>
                  <a:pt x="12234" y="7629"/>
                  <a:pt x="12299" y="7615"/>
                  <a:pt x="12402" y="7615"/>
                </a:cubicBezTo>
                <a:cubicBezTo>
                  <a:pt x="12518" y="7615"/>
                  <a:pt x="12614" y="7606"/>
                  <a:pt x="12725" y="7590"/>
                </a:cubicBezTo>
                <a:cubicBezTo>
                  <a:pt x="12741" y="7590"/>
                  <a:pt x="12758" y="7590"/>
                  <a:pt x="12774" y="7590"/>
                </a:cubicBezTo>
              </a:path>
              <a:path w="16323" h="2605">
                <a:moveTo>
                  <a:pt x="12849" y="7094"/>
                </a:moveTo>
                <a:cubicBezTo>
                  <a:pt x="12804" y="7004"/>
                  <a:pt x="12919" y="7129"/>
                  <a:pt x="12923" y="7144"/>
                </a:cubicBezTo>
                <a:cubicBezTo>
                  <a:pt x="12947" y="7229"/>
                  <a:pt x="12978" y="7335"/>
                  <a:pt x="13022" y="7417"/>
                </a:cubicBezTo>
                <a:cubicBezTo>
                  <a:pt x="13076" y="7516"/>
                  <a:pt x="13109" y="7601"/>
                  <a:pt x="13122" y="7714"/>
                </a:cubicBezTo>
                <a:cubicBezTo>
                  <a:pt x="13134" y="7821"/>
                  <a:pt x="13136" y="7883"/>
                  <a:pt x="13122" y="7987"/>
                </a:cubicBezTo>
                <a:cubicBezTo>
                  <a:pt x="13111" y="8067"/>
                  <a:pt x="13090" y="8109"/>
                  <a:pt x="13022" y="8161"/>
                </a:cubicBezTo>
                <a:cubicBezTo>
                  <a:pt x="12925" y="8235"/>
                  <a:pt x="12918" y="8199"/>
                  <a:pt x="12824" y="8235"/>
                </a:cubicBezTo>
                <a:cubicBezTo>
                  <a:pt x="12796" y="8263"/>
                  <a:pt x="12783" y="8272"/>
                  <a:pt x="12750" y="8260"/>
                </a:cubicBezTo>
              </a:path>
              <a:path w="16323" h="2605">
                <a:moveTo>
                  <a:pt x="13419" y="7541"/>
                </a:moveTo>
                <a:cubicBezTo>
                  <a:pt x="13492" y="7583"/>
                  <a:pt x="13579" y="7544"/>
                  <a:pt x="13667" y="7541"/>
                </a:cubicBezTo>
                <a:cubicBezTo>
                  <a:pt x="13849" y="7535"/>
                  <a:pt x="14031" y="7541"/>
                  <a:pt x="14213" y="7541"/>
                </a:cubicBezTo>
              </a:path>
              <a:path w="16323" h="2605">
                <a:moveTo>
                  <a:pt x="15007" y="7491"/>
                </a:moveTo>
                <a:cubicBezTo>
                  <a:pt x="15061" y="7545"/>
                  <a:pt x="15000" y="7421"/>
                  <a:pt x="14982" y="7392"/>
                </a:cubicBezTo>
                <a:cubicBezTo>
                  <a:pt x="14950" y="7340"/>
                  <a:pt x="14868" y="7364"/>
                  <a:pt x="14833" y="7392"/>
                </a:cubicBezTo>
                <a:cubicBezTo>
                  <a:pt x="14761" y="7450"/>
                  <a:pt x="14711" y="7513"/>
                  <a:pt x="14684" y="7590"/>
                </a:cubicBezTo>
                <a:cubicBezTo>
                  <a:pt x="14651" y="7687"/>
                  <a:pt x="14670" y="7744"/>
                  <a:pt x="14684" y="7838"/>
                </a:cubicBezTo>
                <a:cubicBezTo>
                  <a:pt x="14695" y="7910"/>
                  <a:pt x="14739" y="7973"/>
                  <a:pt x="14784" y="8037"/>
                </a:cubicBezTo>
                <a:cubicBezTo>
                  <a:pt x="14807" y="8070"/>
                  <a:pt x="14873" y="8127"/>
                  <a:pt x="14908" y="8136"/>
                </a:cubicBezTo>
                <a:cubicBezTo>
                  <a:pt x="15004" y="8162"/>
                  <a:pt x="15059" y="8144"/>
                  <a:pt x="15156" y="8111"/>
                </a:cubicBezTo>
              </a:path>
              <a:path w="16323" h="2605">
                <a:moveTo>
                  <a:pt x="15404" y="7615"/>
                </a:moveTo>
                <a:cubicBezTo>
                  <a:pt x="15378" y="7692"/>
                  <a:pt x="15379" y="7756"/>
                  <a:pt x="15379" y="7838"/>
                </a:cubicBezTo>
                <a:cubicBezTo>
                  <a:pt x="15379" y="7912"/>
                  <a:pt x="15363" y="7997"/>
                  <a:pt x="15404" y="8062"/>
                </a:cubicBezTo>
                <a:cubicBezTo>
                  <a:pt x="15438" y="8117"/>
                  <a:pt x="15521" y="8120"/>
                  <a:pt x="15577" y="8111"/>
                </a:cubicBezTo>
                <a:cubicBezTo>
                  <a:pt x="15700" y="8092"/>
                  <a:pt x="15724" y="8085"/>
                  <a:pt x="15776" y="7987"/>
                </a:cubicBezTo>
                <a:cubicBezTo>
                  <a:pt x="15811" y="7922"/>
                  <a:pt x="15801" y="7861"/>
                  <a:pt x="15801" y="7789"/>
                </a:cubicBezTo>
                <a:cubicBezTo>
                  <a:pt x="15801" y="7712"/>
                  <a:pt x="15760" y="7679"/>
                  <a:pt x="15726" y="7615"/>
                </a:cubicBezTo>
                <a:cubicBezTo>
                  <a:pt x="15676" y="7520"/>
                  <a:pt x="15553" y="7498"/>
                  <a:pt x="15453" y="7491"/>
                </a:cubicBezTo>
                <a:cubicBezTo>
                  <a:pt x="15367" y="7485"/>
                  <a:pt x="15334" y="7508"/>
                  <a:pt x="15329" y="7590"/>
                </a:cubicBezTo>
                <a:cubicBezTo>
                  <a:pt x="15325" y="7651"/>
                  <a:pt x="15350" y="7676"/>
                  <a:pt x="15404" y="7689"/>
                </a:cubicBezTo>
              </a:path>
              <a:path w="16323" h="2605">
                <a:moveTo>
                  <a:pt x="16173" y="7491"/>
                </a:moveTo>
                <a:cubicBezTo>
                  <a:pt x="16194" y="7422"/>
                  <a:pt x="16138" y="7474"/>
                  <a:pt x="16098" y="7491"/>
                </a:cubicBezTo>
                <a:cubicBezTo>
                  <a:pt x="16037" y="7517"/>
                  <a:pt x="15941" y="7533"/>
                  <a:pt x="15999" y="7615"/>
                </a:cubicBezTo>
                <a:cubicBezTo>
                  <a:pt x="16031" y="7660"/>
                  <a:pt x="16127" y="7731"/>
                  <a:pt x="16173" y="7764"/>
                </a:cubicBezTo>
                <a:cubicBezTo>
                  <a:pt x="16223" y="7800"/>
                  <a:pt x="16286" y="7833"/>
                  <a:pt x="16321" y="7888"/>
                </a:cubicBezTo>
                <a:cubicBezTo>
                  <a:pt x="16342" y="7921"/>
                  <a:pt x="16380" y="8041"/>
                  <a:pt x="16321" y="8062"/>
                </a:cubicBezTo>
                <a:cubicBezTo>
                  <a:pt x="16199" y="8105"/>
                  <a:pt x="16174" y="8079"/>
                  <a:pt x="16073" y="8062"/>
                </a:cubicBezTo>
                <a:cubicBezTo>
                  <a:pt x="16014" y="8052"/>
                  <a:pt x="16000" y="8064"/>
                  <a:pt x="15974" y="8012"/>
                </a:cubicBezTo>
              </a:path>
              <a:path w="16323" h="2605">
                <a:moveTo>
                  <a:pt x="16942" y="6796"/>
                </a:moveTo>
                <a:cubicBezTo>
                  <a:pt x="16909" y="6896"/>
                  <a:pt x="16887" y="7040"/>
                  <a:pt x="16818" y="7119"/>
                </a:cubicBezTo>
                <a:cubicBezTo>
                  <a:pt x="16731" y="7219"/>
                  <a:pt x="16711" y="7333"/>
                  <a:pt x="16694" y="7466"/>
                </a:cubicBezTo>
                <a:cubicBezTo>
                  <a:pt x="16682" y="7560"/>
                  <a:pt x="16690" y="7621"/>
                  <a:pt x="16694" y="7714"/>
                </a:cubicBezTo>
                <a:cubicBezTo>
                  <a:pt x="16698" y="7821"/>
                  <a:pt x="16735" y="7958"/>
                  <a:pt x="16818" y="8037"/>
                </a:cubicBezTo>
                <a:cubicBezTo>
                  <a:pt x="16858" y="8075"/>
                  <a:pt x="16909" y="8110"/>
                  <a:pt x="16942" y="8161"/>
                </a:cubicBezTo>
                <a:cubicBezTo>
                  <a:pt x="17003" y="8256"/>
                  <a:pt x="16996" y="8205"/>
                  <a:pt x="17016" y="8136"/>
                </a:cubicBezTo>
              </a:path>
              <a:path w="16323" h="2605">
                <a:moveTo>
                  <a:pt x="17214" y="7193"/>
                </a:moveTo>
                <a:cubicBezTo>
                  <a:pt x="17205" y="7270"/>
                  <a:pt x="17176" y="7300"/>
                  <a:pt x="17140" y="7367"/>
                </a:cubicBezTo>
                <a:cubicBezTo>
                  <a:pt x="17113" y="7418"/>
                  <a:pt x="17088" y="7481"/>
                  <a:pt x="17115" y="7516"/>
                </a:cubicBezTo>
                <a:cubicBezTo>
                  <a:pt x="17159" y="7573"/>
                  <a:pt x="17297" y="7541"/>
                  <a:pt x="17363" y="7541"/>
                </a:cubicBezTo>
                <a:cubicBezTo>
                  <a:pt x="17413" y="7541"/>
                  <a:pt x="17462" y="7541"/>
                  <a:pt x="17512" y="7541"/>
                </a:cubicBezTo>
              </a:path>
              <a:path w="16323" h="2605">
                <a:moveTo>
                  <a:pt x="17537" y="7045"/>
                </a:moveTo>
                <a:cubicBezTo>
                  <a:pt x="17496" y="7136"/>
                  <a:pt x="17487" y="7194"/>
                  <a:pt x="17487" y="7293"/>
                </a:cubicBezTo>
                <a:cubicBezTo>
                  <a:pt x="17487" y="7395"/>
                  <a:pt x="17496" y="7491"/>
                  <a:pt x="17512" y="7590"/>
                </a:cubicBezTo>
                <a:cubicBezTo>
                  <a:pt x="17528" y="7687"/>
                  <a:pt x="17550" y="7795"/>
                  <a:pt x="17562" y="7888"/>
                </a:cubicBezTo>
                <a:cubicBezTo>
                  <a:pt x="17565" y="7909"/>
                  <a:pt x="17571" y="8081"/>
                  <a:pt x="17537" y="8012"/>
                </a:cubicBezTo>
              </a:path>
              <a:path w="16323" h="2605">
                <a:moveTo>
                  <a:pt x="17909" y="7218"/>
                </a:moveTo>
                <a:cubicBezTo>
                  <a:pt x="17902" y="7294"/>
                  <a:pt x="17902" y="7392"/>
                  <a:pt x="17884" y="7466"/>
                </a:cubicBezTo>
                <a:cubicBezTo>
                  <a:pt x="17857" y="7580"/>
                  <a:pt x="17849" y="7678"/>
                  <a:pt x="17859" y="7789"/>
                </a:cubicBezTo>
                <a:cubicBezTo>
                  <a:pt x="17869" y="7900"/>
                  <a:pt x="17864" y="7947"/>
                  <a:pt x="17959" y="8037"/>
                </a:cubicBezTo>
                <a:cubicBezTo>
                  <a:pt x="17997" y="8073"/>
                  <a:pt x="18136" y="8076"/>
                  <a:pt x="18182" y="8062"/>
                </a:cubicBezTo>
                <a:cubicBezTo>
                  <a:pt x="18219" y="8050"/>
                  <a:pt x="18288" y="7939"/>
                  <a:pt x="18306" y="7913"/>
                </a:cubicBezTo>
                <a:cubicBezTo>
                  <a:pt x="18370" y="7817"/>
                  <a:pt x="18377" y="7727"/>
                  <a:pt x="18380" y="7615"/>
                </a:cubicBezTo>
                <a:cubicBezTo>
                  <a:pt x="18383" y="7525"/>
                  <a:pt x="18331" y="7415"/>
                  <a:pt x="18281" y="7342"/>
                </a:cubicBezTo>
                <a:cubicBezTo>
                  <a:pt x="18241" y="7283"/>
                  <a:pt x="18167" y="7226"/>
                  <a:pt x="18107" y="7193"/>
                </a:cubicBezTo>
                <a:cubicBezTo>
                  <a:pt x="18049" y="7161"/>
                  <a:pt x="17964" y="7104"/>
                  <a:pt x="17909" y="7169"/>
                </a:cubicBezTo>
                <a:cubicBezTo>
                  <a:pt x="17889" y="7209"/>
                  <a:pt x="17880" y="7215"/>
                  <a:pt x="17884" y="7243"/>
                </a:cubicBezTo>
              </a:path>
              <a:path w="16323" h="2605">
                <a:moveTo>
                  <a:pt x="17661" y="7615"/>
                </a:moveTo>
                <a:cubicBezTo>
                  <a:pt x="17768" y="7623"/>
                  <a:pt x="17849" y="7640"/>
                  <a:pt x="17959" y="7640"/>
                </a:cubicBezTo>
                <a:cubicBezTo>
                  <a:pt x="18114" y="7640"/>
                  <a:pt x="18255" y="7633"/>
                  <a:pt x="18405" y="7615"/>
                </a:cubicBezTo>
                <a:cubicBezTo>
                  <a:pt x="18422" y="7615"/>
                  <a:pt x="18438" y="7615"/>
                  <a:pt x="18455" y="7615"/>
                </a:cubicBezTo>
              </a:path>
              <a:path w="16323" h="2605">
                <a:moveTo>
                  <a:pt x="18852" y="7342"/>
                </a:moveTo>
                <a:cubicBezTo>
                  <a:pt x="18900" y="7404"/>
                  <a:pt x="18901" y="7439"/>
                  <a:pt x="18901" y="7516"/>
                </a:cubicBezTo>
                <a:cubicBezTo>
                  <a:pt x="18901" y="7579"/>
                  <a:pt x="18909" y="7678"/>
                  <a:pt x="18926" y="7739"/>
                </a:cubicBezTo>
                <a:cubicBezTo>
                  <a:pt x="18940" y="7789"/>
                  <a:pt x="18951" y="7809"/>
                  <a:pt x="18951" y="7863"/>
                </a:cubicBezTo>
              </a:path>
              <a:path w="16323" h="2605">
                <a:moveTo>
                  <a:pt x="18653" y="7590"/>
                </a:moveTo>
                <a:cubicBezTo>
                  <a:pt x="18767" y="7545"/>
                  <a:pt x="18829" y="7541"/>
                  <a:pt x="18951" y="7541"/>
                </a:cubicBezTo>
                <a:cubicBezTo>
                  <a:pt x="19009" y="7541"/>
                  <a:pt x="19066" y="7541"/>
                  <a:pt x="19124" y="7541"/>
                </a:cubicBezTo>
              </a:path>
              <a:path w="16323" h="2605">
                <a:moveTo>
                  <a:pt x="19323" y="7342"/>
                </a:moveTo>
                <a:cubicBezTo>
                  <a:pt x="19388" y="7277"/>
                  <a:pt x="19413" y="7284"/>
                  <a:pt x="19496" y="7293"/>
                </a:cubicBezTo>
                <a:cubicBezTo>
                  <a:pt x="19532" y="7297"/>
                  <a:pt x="19610" y="7316"/>
                  <a:pt x="19621" y="7367"/>
                </a:cubicBezTo>
                <a:cubicBezTo>
                  <a:pt x="19640" y="7455"/>
                  <a:pt x="19575" y="7488"/>
                  <a:pt x="19521" y="7541"/>
                </a:cubicBezTo>
                <a:cubicBezTo>
                  <a:pt x="19495" y="7567"/>
                  <a:pt x="19411" y="7653"/>
                  <a:pt x="19372" y="7640"/>
                </a:cubicBezTo>
                <a:cubicBezTo>
                  <a:pt x="19380" y="7632"/>
                  <a:pt x="19389" y="7623"/>
                  <a:pt x="19397" y="7615"/>
                </a:cubicBezTo>
                <a:cubicBezTo>
                  <a:pt x="19460" y="7615"/>
                  <a:pt x="19522" y="7601"/>
                  <a:pt x="19571" y="7640"/>
                </a:cubicBezTo>
                <a:cubicBezTo>
                  <a:pt x="19618" y="7678"/>
                  <a:pt x="19679" y="7697"/>
                  <a:pt x="19695" y="7764"/>
                </a:cubicBezTo>
                <a:cubicBezTo>
                  <a:pt x="19710" y="7825"/>
                  <a:pt x="19706" y="7942"/>
                  <a:pt x="19670" y="7987"/>
                </a:cubicBezTo>
                <a:cubicBezTo>
                  <a:pt x="19628" y="8039"/>
                  <a:pt x="19558" y="8059"/>
                  <a:pt x="19496" y="8062"/>
                </a:cubicBezTo>
                <a:cubicBezTo>
                  <a:pt x="19430" y="8066"/>
                  <a:pt x="19385" y="8024"/>
                  <a:pt x="19323" y="8012"/>
                </a:cubicBezTo>
              </a:path>
              <a:path w="16323" h="2605">
                <a:moveTo>
                  <a:pt x="19943" y="7169"/>
                </a:moveTo>
                <a:cubicBezTo>
                  <a:pt x="19943" y="7256"/>
                  <a:pt x="19921" y="7311"/>
                  <a:pt x="19918" y="7392"/>
                </a:cubicBezTo>
                <a:cubicBezTo>
                  <a:pt x="19914" y="7479"/>
                  <a:pt x="19893" y="7550"/>
                  <a:pt x="19893" y="7640"/>
                </a:cubicBezTo>
                <a:cubicBezTo>
                  <a:pt x="19893" y="7741"/>
                  <a:pt x="19900" y="7820"/>
                  <a:pt x="19943" y="7913"/>
                </a:cubicBezTo>
                <a:cubicBezTo>
                  <a:pt x="19960" y="7950"/>
                  <a:pt x="20051" y="8052"/>
                  <a:pt x="20092" y="8062"/>
                </a:cubicBezTo>
                <a:cubicBezTo>
                  <a:pt x="20163" y="8080"/>
                  <a:pt x="20290" y="8071"/>
                  <a:pt x="20340" y="8012"/>
                </a:cubicBezTo>
                <a:cubicBezTo>
                  <a:pt x="20421" y="7916"/>
                  <a:pt x="20469" y="7866"/>
                  <a:pt x="20489" y="7739"/>
                </a:cubicBezTo>
                <a:cubicBezTo>
                  <a:pt x="20503" y="7648"/>
                  <a:pt x="20490" y="7552"/>
                  <a:pt x="20464" y="7466"/>
                </a:cubicBezTo>
                <a:cubicBezTo>
                  <a:pt x="20432" y="7360"/>
                  <a:pt x="20364" y="7326"/>
                  <a:pt x="20315" y="7243"/>
                </a:cubicBezTo>
                <a:cubicBezTo>
                  <a:pt x="20273" y="7172"/>
                  <a:pt x="20224" y="7149"/>
                  <a:pt x="20141" y="7144"/>
                </a:cubicBezTo>
                <a:cubicBezTo>
                  <a:pt x="20074" y="7140"/>
                  <a:pt x="20029" y="7157"/>
                  <a:pt x="19968" y="7169"/>
                </a:cubicBezTo>
              </a:path>
              <a:path w="16323" h="2605">
                <a:moveTo>
                  <a:pt x="19769" y="7665"/>
                </a:moveTo>
                <a:cubicBezTo>
                  <a:pt x="19851" y="7665"/>
                  <a:pt x="19896" y="7643"/>
                  <a:pt x="19968" y="7640"/>
                </a:cubicBezTo>
                <a:cubicBezTo>
                  <a:pt x="20174" y="7631"/>
                  <a:pt x="20382" y="7640"/>
                  <a:pt x="20588" y="7640"/>
                </a:cubicBezTo>
              </a:path>
              <a:path w="16323" h="2605">
                <a:moveTo>
                  <a:pt x="20687" y="7020"/>
                </a:moveTo>
                <a:cubicBezTo>
                  <a:pt x="20694" y="7090"/>
                  <a:pt x="20720" y="7179"/>
                  <a:pt x="20762" y="7243"/>
                </a:cubicBezTo>
                <a:cubicBezTo>
                  <a:pt x="20820" y="7330"/>
                  <a:pt x="20857" y="7410"/>
                  <a:pt x="20886" y="7516"/>
                </a:cubicBezTo>
                <a:cubicBezTo>
                  <a:pt x="20920" y="7638"/>
                  <a:pt x="20974" y="7764"/>
                  <a:pt x="20985" y="7888"/>
                </a:cubicBezTo>
                <a:cubicBezTo>
                  <a:pt x="20991" y="7955"/>
                  <a:pt x="20953" y="8014"/>
                  <a:pt x="20910" y="8062"/>
                </a:cubicBezTo>
                <a:cubicBezTo>
                  <a:pt x="20870" y="8107"/>
                  <a:pt x="20818" y="8142"/>
                  <a:pt x="20762" y="8086"/>
                </a:cubicBezTo>
                <a:cubicBezTo>
                  <a:pt x="20762" y="8078"/>
                  <a:pt x="20762" y="8070"/>
                  <a:pt x="20762" y="8062"/>
                </a:cubicBezTo>
              </a:path>
              <a:path w="16323" h="2605">
                <a:moveTo>
                  <a:pt x="20513" y="6400"/>
                </a:moveTo>
                <a:cubicBezTo>
                  <a:pt x="20599" y="6393"/>
                  <a:pt x="20675" y="6378"/>
                  <a:pt x="20762" y="6375"/>
                </a:cubicBezTo>
                <a:cubicBezTo>
                  <a:pt x="20869" y="6371"/>
                  <a:pt x="20993" y="6357"/>
                  <a:pt x="21084" y="6350"/>
                </a:cubicBezTo>
                <a:cubicBezTo>
                  <a:pt x="21153" y="6344"/>
                  <a:pt x="21216" y="6336"/>
                  <a:pt x="21258" y="6400"/>
                </a:cubicBezTo>
                <a:cubicBezTo>
                  <a:pt x="21293" y="6453"/>
                  <a:pt x="21280" y="6507"/>
                  <a:pt x="21282" y="6573"/>
                </a:cubicBezTo>
                <a:cubicBezTo>
                  <a:pt x="21285" y="6690"/>
                  <a:pt x="21283" y="6783"/>
                  <a:pt x="21307" y="6896"/>
                </a:cubicBezTo>
                <a:cubicBezTo>
                  <a:pt x="21332" y="7015"/>
                  <a:pt x="21333" y="7128"/>
                  <a:pt x="21357" y="7243"/>
                </a:cubicBezTo>
                <a:cubicBezTo>
                  <a:pt x="21377" y="7340"/>
                  <a:pt x="21385" y="7445"/>
                  <a:pt x="21406" y="7541"/>
                </a:cubicBezTo>
                <a:cubicBezTo>
                  <a:pt x="21425" y="7630"/>
                  <a:pt x="21432" y="7728"/>
                  <a:pt x="21456" y="7813"/>
                </a:cubicBezTo>
                <a:cubicBezTo>
                  <a:pt x="21480" y="7898"/>
                  <a:pt x="21510" y="7978"/>
                  <a:pt x="21530" y="8062"/>
                </a:cubicBezTo>
                <a:cubicBezTo>
                  <a:pt x="21548" y="8140"/>
                  <a:pt x="21597" y="8264"/>
                  <a:pt x="21605" y="8334"/>
                </a:cubicBezTo>
                <a:cubicBezTo>
                  <a:pt x="21614" y="8412"/>
                  <a:pt x="21641" y="8506"/>
                  <a:pt x="21630" y="8582"/>
                </a:cubicBezTo>
                <a:cubicBezTo>
                  <a:pt x="21615" y="8689"/>
                  <a:pt x="21556" y="8657"/>
                  <a:pt x="21456" y="8657"/>
                </a:cubicBezTo>
                <a:cubicBezTo>
                  <a:pt x="21304" y="8657"/>
                  <a:pt x="21159" y="8643"/>
                  <a:pt x="21010" y="8632"/>
                </a:cubicBezTo>
                <a:cubicBezTo>
                  <a:pt x="20894" y="8632"/>
                  <a:pt x="20861" y="8632"/>
                  <a:pt x="20786" y="86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Ink 10"/>
          <p:cNvSpPr/>
          <p:nvPr/>
        </p:nvSpPr>
        <p:spPr>
          <a:xfrm>
            <a:off x="2062080" y="3463920"/>
            <a:ext cx="3930840" cy="858960"/>
          </a:xfrm>
          <a:custGeom>
            <a:avLst/>
            <a:gdLst/>
            <a:ahLst/>
            <a:rect l="l" t="t" r="r" b="b"/>
            <a:pathLst>
              <a:path w="10915" h="2382">
                <a:moveTo>
                  <a:pt x="5854" y="9971"/>
                </a:moveTo>
                <a:cubicBezTo>
                  <a:pt x="5910" y="9917"/>
                  <a:pt x="5930" y="9905"/>
                  <a:pt x="6003" y="9872"/>
                </a:cubicBezTo>
                <a:cubicBezTo>
                  <a:pt x="6073" y="9840"/>
                  <a:pt x="6217" y="9833"/>
                  <a:pt x="6276" y="9897"/>
                </a:cubicBezTo>
                <a:cubicBezTo>
                  <a:pt x="6308" y="9932"/>
                  <a:pt x="6272" y="10083"/>
                  <a:pt x="6251" y="10120"/>
                </a:cubicBezTo>
                <a:cubicBezTo>
                  <a:pt x="6218" y="10177"/>
                  <a:pt x="6160" y="10256"/>
                  <a:pt x="6102" y="10294"/>
                </a:cubicBezTo>
                <a:cubicBezTo>
                  <a:pt x="6051" y="10327"/>
                  <a:pt x="6011" y="10319"/>
                  <a:pt x="5953" y="10319"/>
                </a:cubicBezTo>
                <a:cubicBezTo>
                  <a:pt x="6006" y="10266"/>
                  <a:pt x="6043" y="10231"/>
                  <a:pt x="6127" y="10244"/>
                </a:cubicBezTo>
                <a:cubicBezTo>
                  <a:pt x="6220" y="10258"/>
                  <a:pt x="6255" y="10297"/>
                  <a:pt x="6300" y="10368"/>
                </a:cubicBezTo>
                <a:cubicBezTo>
                  <a:pt x="6354" y="10453"/>
                  <a:pt x="6406" y="10539"/>
                  <a:pt x="6424" y="10641"/>
                </a:cubicBezTo>
                <a:cubicBezTo>
                  <a:pt x="6441" y="10734"/>
                  <a:pt x="6376" y="10838"/>
                  <a:pt x="6300" y="10889"/>
                </a:cubicBezTo>
                <a:cubicBezTo>
                  <a:pt x="6188" y="10965"/>
                  <a:pt x="6101" y="10927"/>
                  <a:pt x="5978" y="10914"/>
                </a:cubicBezTo>
                <a:cubicBezTo>
                  <a:pt x="5910" y="10907"/>
                  <a:pt x="5838" y="10881"/>
                  <a:pt x="5779" y="10840"/>
                </a:cubicBezTo>
                <a:cubicBezTo>
                  <a:pt x="5750" y="10810"/>
                  <a:pt x="5739" y="10795"/>
                  <a:pt x="5730" y="10765"/>
                </a:cubicBezTo>
              </a:path>
              <a:path w="10915" h="2382">
                <a:moveTo>
                  <a:pt x="7392" y="9649"/>
                </a:moveTo>
                <a:cubicBezTo>
                  <a:pt x="7312" y="9642"/>
                  <a:pt x="7250" y="9624"/>
                  <a:pt x="7169" y="9624"/>
                </a:cubicBezTo>
                <a:cubicBezTo>
                  <a:pt x="7053" y="9624"/>
                  <a:pt x="6937" y="9624"/>
                  <a:pt x="6821" y="9624"/>
                </a:cubicBezTo>
                <a:cubicBezTo>
                  <a:pt x="6831" y="9713"/>
                  <a:pt x="6867" y="9783"/>
                  <a:pt x="6871" y="9872"/>
                </a:cubicBezTo>
                <a:cubicBezTo>
                  <a:pt x="6876" y="9978"/>
                  <a:pt x="6896" y="10082"/>
                  <a:pt x="6896" y="10195"/>
                </a:cubicBezTo>
                <a:cubicBezTo>
                  <a:pt x="6896" y="10315"/>
                  <a:pt x="6882" y="10426"/>
                  <a:pt x="6871" y="10542"/>
                </a:cubicBezTo>
                <a:cubicBezTo>
                  <a:pt x="6857" y="10698"/>
                  <a:pt x="6851" y="10856"/>
                  <a:pt x="6846" y="11013"/>
                </a:cubicBezTo>
                <a:cubicBezTo>
                  <a:pt x="6844" y="11090"/>
                  <a:pt x="6821" y="11155"/>
                  <a:pt x="6821" y="11237"/>
                </a:cubicBezTo>
                <a:cubicBezTo>
                  <a:pt x="6950" y="11237"/>
                  <a:pt x="7067" y="11256"/>
                  <a:pt x="7193" y="11261"/>
                </a:cubicBezTo>
                <a:cubicBezTo>
                  <a:pt x="7210" y="11261"/>
                  <a:pt x="7226" y="11261"/>
                  <a:pt x="7243" y="11261"/>
                </a:cubicBezTo>
              </a:path>
              <a:path w="10915" h="2382">
                <a:moveTo>
                  <a:pt x="7640" y="10393"/>
                </a:moveTo>
                <a:cubicBezTo>
                  <a:pt x="7648" y="10418"/>
                  <a:pt x="7657" y="10443"/>
                  <a:pt x="7665" y="10468"/>
                </a:cubicBezTo>
                <a:cubicBezTo>
                  <a:pt x="7665" y="10380"/>
                  <a:pt x="7668" y="10339"/>
                  <a:pt x="7615" y="10269"/>
                </a:cubicBezTo>
                <a:cubicBezTo>
                  <a:pt x="7566" y="10203"/>
                  <a:pt x="7505" y="10216"/>
                  <a:pt x="7441" y="10244"/>
                </a:cubicBezTo>
                <a:cubicBezTo>
                  <a:pt x="7364" y="10278"/>
                  <a:pt x="7327" y="10349"/>
                  <a:pt x="7293" y="10418"/>
                </a:cubicBezTo>
                <a:cubicBezTo>
                  <a:pt x="7269" y="10466"/>
                  <a:pt x="7243" y="10588"/>
                  <a:pt x="7268" y="10641"/>
                </a:cubicBezTo>
                <a:cubicBezTo>
                  <a:pt x="7298" y="10706"/>
                  <a:pt x="7372" y="10826"/>
                  <a:pt x="7441" y="10864"/>
                </a:cubicBezTo>
                <a:cubicBezTo>
                  <a:pt x="7516" y="10905"/>
                  <a:pt x="7586" y="10929"/>
                  <a:pt x="7665" y="10939"/>
                </a:cubicBezTo>
              </a:path>
              <a:path w="10915" h="2382">
                <a:moveTo>
                  <a:pt x="7987" y="10393"/>
                </a:moveTo>
                <a:cubicBezTo>
                  <a:pt x="7953" y="10461"/>
                  <a:pt x="7916" y="10517"/>
                  <a:pt x="7913" y="10592"/>
                </a:cubicBezTo>
                <a:cubicBezTo>
                  <a:pt x="7909" y="10673"/>
                  <a:pt x="7951" y="10740"/>
                  <a:pt x="7987" y="10815"/>
                </a:cubicBezTo>
                <a:cubicBezTo>
                  <a:pt x="8030" y="10906"/>
                  <a:pt x="8131" y="10980"/>
                  <a:pt x="8235" y="10964"/>
                </a:cubicBezTo>
                <a:cubicBezTo>
                  <a:pt x="8312" y="10952"/>
                  <a:pt x="8356" y="10884"/>
                  <a:pt x="8384" y="10815"/>
                </a:cubicBezTo>
                <a:cubicBezTo>
                  <a:pt x="8420" y="10728"/>
                  <a:pt x="8409" y="10628"/>
                  <a:pt x="8384" y="10542"/>
                </a:cubicBezTo>
                <a:cubicBezTo>
                  <a:pt x="8364" y="10473"/>
                  <a:pt x="8267" y="10385"/>
                  <a:pt x="8210" y="10344"/>
                </a:cubicBezTo>
                <a:cubicBezTo>
                  <a:pt x="8143" y="10295"/>
                  <a:pt x="8059" y="10275"/>
                  <a:pt x="7987" y="10319"/>
                </a:cubicBezTo>
                <a:cubicBezTo>
                  <a:pt x="7923" y="10359"/>
                  <a:pt x="7923" y="10450"/>
                  <a:pt x="7938" y="10517"/>
                </a:cubicBezTo>
                <a:cubicBezTo>
                  <a:pt x="7956" y="10601"/>
                  <a:pt x="8019" y="10649"/>
                  <a:pt x="8086" y="10691"/>
                </a:cubicBezTo>
              </a:path>
              <a:path w="10915" h="2382">
                <a:moveTo>
                  <a:pt x="8905" y="10492"/>
                </a:moveTo>
                <a:cubicBezTo>
                  <a:pt x="8831" y="10468"/>
                  <a:pt x="8749" y="10444"/>
                  <a:pt x="8682" y="10492"/>
                </a:cubicBezTo>
                <a:cubicBezTo>
                  <a:pt x="8621" y="10536"/>
                  <a:pt x="8724" y="10631"/>
                  <a:pt x="8756" y="10666"/>
                </a:cubicBezTo>
                <a:cubicBezTo>
                  <a:pt x="8819" y="10734"/>
                  <a:pt x="8910" y="10807"/>
                  <a:pt x="8954" y="10889"/>
                </a:cubicBezTo>
                <a:cubicBezTo>
                  <a:pt x="9002" y="10978"/>
                  <a:pt x="8989" y="11034"/>
                  <a:pt x="8930" y="11088"/>
                </a:cubicBezTo>
                <a:cubicBezTo>
                  <a:pt x="8884" y="11130"/>
                  <a:pt x="8806" y="11072"/>
                  <a:pt x="8756" y="11063"/>
                </a:cubicBezTo>
                <a:cubicBezTo>
                  <a:pt x="8712" y="11055"/>
                  <a:pt x="8625" y="11049"/>
                  <a:pt x="8607" y="10988"/>
                </a:cubicBezTo>
                <a:cubicBezTo>
                  <a:pt x="8607" y="10972"/>
                  <a:pt x="8607" y="10955"/>
                  <a:pt x="8607" y="10939"/>
                </a:cubicBezTo>
              </a:path>
              <a:path w="10915" h="2382">
                <a:moveTo>
                  <a:pt x="9351" y="9922"/>
                </a:moveTo>
                <a:cubicBezTo>
                  <a:pt x="9343" y="10039"/>
                  <a:pt x="9326" y="10150"/>
                  <a:pt x="9302" y="10269"/>
                </a:cubicBezTo>
                <a:cubicBezTo>
                  <a:pt x="9279" y="10382"/>
                  <a:pt x="9241" y="10503"/>
                  <a:pt x="9227" y="10616"/>
                </a:cubicBezTo>
                <a:cubicBezTo>
                  <a:pt x="9210" y="10751"/>
                  <a:pt x="9214" y="10855"/>
                  <a:pt x="9227" y="10988"/>
                </a:cubicBezTo>
                <a:cubicBezTo>
                  <a:pt x="9238" y="11103"/>
                  <a:pt x="9264" y="11209"/>
                  <a:pt x="9327" y="11311"/>
                </a:cubicBezTo>
                <a:cubicBezTo>
                  <a:pt x="9356" y="11341"/>
                  <a:pt x="9370" y="11353"/>
                  <a:pt x="9401" y="11361"/>
                </a:cubicBezTo>
              </a:path>
              <a:path w="10915" h="2382">
                <a:moveTo>
                  <a:pt x="9773" y="10170"/>
                </a:moveTo>
                <a:cubicBezTo>
                  <a:pt x="9765" y="10258"/>
                  <a:pt x="9733" y="10331"/>
                  <a:pt x="9723" y="10418"/>
                </a:cubicBezTo>
                <a:cubicBezTo>
                  <a:pt x="9708" y="10543"/>
                  <a:pt x="9678" y="10662"/>
                  <a:pt x="9674" y="10790"/>
                </a:cubicBezTo>
                <a:cubicBezTo>
                  <a:pt x="9671" y="10891"/>
                  <a:pt x="9696" y="11000"/>
                  <a:pt x="9748" y="11088"/>
                </a:cubicBezTo>
                <a:cubicBezTo>
                  <a:pt x="9802" y="11181"/>
                  <a:pt x="9837" y="11208"/>
                  <a:pt x="9922" y="11237"/>
                </a:cubicBezTo>
                <a:cubicBezTo>
                  <a:pt x="9963" y="11251"/>
                  <a:pt x="10068" y="11265"/>
                  <a:pt x="10096" y="11212"/>
                </a:cubicBezTo>
                <a:cubicBezTo>
                  <a:pt x="10162" y="11087"/>
                  <a:pt x="10170" y="11000"/>
                  <a:pt x="10170" y="10864"/>
                </a:cubicBezTo>
                <a:cubicBezTo>
                  <a:pt x="10170" y="10734"/>
                  <a:pt x="10136" y="10616"/>
                  <a:pt x="10096" y="10492"/>
                </a:cubicBezTo>
                <a:cubicBezTo>
                  <a:pt x="10059" y="10378"/>
                  <a:pt x="10001" y="10339"/>
                  <a:pt x="9947" y="10244"/>
                </a:cubicBezTo>
                <a:cubicBezTo>
                  <a:pt x="9900" y="10161"/>
                  <a:pt x="9893" y="10134"/>
                  <a:pt x="9798" y="10120"/>
                </a:cubicBezTo>
              </a:path>
              <a:path w="10915" h="2382">
                <a:moveTo>
                  <a:pt x="9500" y="10492"/>
                </a:moveTo>
                <a:cubicBezTo>
                  <a:pt x="9558" y="10561"/>
                  <a:pt x="9600" y="10542"/>
                  <a:pt x="9699" y="10542"/>
                </a:cubicBezTo>
                <a:cubicBezTo>
                  <a:pt x="9818" y="10542"/>
                  <a:pt x="9900" y="10554"/>
                  <a:pt x="10021" y="10542"/>
                </a:cubicBezTo>
                <a:cubicBezTo>
                  <a:pt x="10119" y="10532"/>
                  <a:pt x="10197" y="10541"/>
                  <a:pt x="10294" y="10517"/>
                </a:cubicBezTo>
              </a:path>
              <a:path w="10915" h="2382">
                <a:moveTo>
                  <a:pt x="10443" y="9897"/>
                </a:moveTo>
                <a:cubicBezTo>
                  <a:pt x="10493" y="9998"/>
                  <a:pt x="10545" y="10094"/>
                  <a:pt x="10592" y="10195"/>
                </a:cubicBezTo>
                <a:cubicBezTo>
                  <a:pt x="10655" y="10330"/>
                  <a:pt x="10681" y="10472"/>
                  <a:pt x="10716" y="10616"/>
                </a:cubicBezTo>
                <a:cubicBezTo>
                  <a:pt x="10743" y="10725"/>
                  <a:pt x="10776" y="10926"/>
                  <a:pt x="10740" y="11038"/>
                </a:cubicBezTo>
                <a:cubicBezTo>
                  <a:pt x="10705" y="11145"/>
                  <a:pt x="10646" y="11272"/>
                  <a:pt x="10592" y="11361"/>
                </a:cubicBezTo>
                <a:cubicBezTo>
                  <a:pt x="10560" y="11413"/>
                  <a:pt x="10532" y="11462"/>
                  <a:pt x="10492" y="11509"/>
                </a:cubicBezTo>
              </a:path>
              <a:path w="10915" h="2382">
                <a:moveTo>
                  <a:pt x="11038" y="10716"/>
                </a:moveTo>
                <a:cubicBezTo>
                  <a:pt x="11108" y="10690"/>
                  <a:pt x="11161" y="10691"/>
                  <a:pt x="11237" y="10691"/>
                </a:cubicBezTo>
                <a:cubicBezTo>
                  <a:pt x="11320" y="10691"/>
                  <a:pt x="11370" y="10697"/>
                  <a:pt x="11435" y="10716"/>
                </a:cubicBezTo>
              </a:path>
              <a:path w="10915" h="2382">
                <a:moveTo>
                  <a:pt x="12179" y="10592"/>
                </a:moveTo>
                <a:cubicBezTo>
                  <a:pt x="12179" y="10711"/>
                  <a:pt x="12163" y="10517"/>
                  <a:pt x="12129" y="10492"/>
                </a:cubicBezTo>
                <a:cubicBezTo>
                  <a:pt x="12086" y="10461"/>
                  <a:pt x="11980" y="10491"/>
                  <a:pt x="11956" y="10542"/>
                </a:cubicBezTo>
                <a:cubicBezTo>
                  <a:pt x="11916" y="10625"/>
                  <a:pt x="11850" y="10695"/>
                  <a:pt x="11832" y="10790"/>
                </a:cubicBezTo>
                <a:cubicBezTo>
                  <a:pt x="11812" y="10895"/>
                  <a:pt x="11837" y="10974"/>
                  <a:pt x="11881" y="11063"/>
                </a:cubicBezTo>
                <a:cubicBezTo>
                  <a:pt x="11935" y="11171"/>
                  <a:pt x="12038" y="11240"/>
                  <a:pt x="12154" y="11261"/>
                </a:cubicBezTo>
                <a:cubicBezTo>
                  <a:pt x="12206" y="11261"/>
                  <a:pt x="12224" y="11260"/>
                  <a:pt x="12254" y="11237"/>
                </a:cubicBezTo>
              </a:path>
              <a:path w="10915" h="2382">
                <a:moveTo>
                  <a:pt x="12402" y="10641"/>
                </a:moveTo>
                <a:cubicBezTo>
                  <a:pt x="12385" y="10710"/>
                  <a:pt x="12341" y="10819"/>
                  <a:pt x="12353" y="10889"/>
                </a:cubicBezTo>
                <a:cubicBezTo>
                  <a:pt x="12374" y="11009"/>
                  <a:pt x="12392" y="11051"/>
                  <a:pt x="12477" y="11137"/>
                </a:cubicBezTo>
                <a:cubicBezTo>
                  <a:pt x="12548" y="11209"/>
                  <a:pt x="12600" y="11232"/>
                  <a:pt x="12700" y="11237"/>
                </a:cubicBezTo>
                <a:cubicBezTo>
                  <a:pt x="12804" y="11242"/>
                  <a:pt x="12812" y="11193"/>
                  <a:pt x="12849" y="11112"/>
                </a:cubicBezTo>
                <a:cubicBezTo>
                  <a:pt x="12880" y="11044"/>
                  <a:pt x="12893" y="10959"/>
                  <a:pt x="12849" y="10889"/>
                </a:cubicBezTo>
                <a:cubicBezTo>
                  <a:pt x="12808" y="10823"/>
                  <a:pt x="12773" y="10725"/>
                  <a:pt x="12700" y="10691"/>
                </a:cubicBezTo>
                <a:cubicBezTo>
                  <a:pt x="12696" y="10689"/>
                  <a:pt x="12415" y="10576"/>
                  <a:pt x="12502" y="10691"/>
                </a:cubicBezTo>
                <a:cubicBezTo>
                  <a:pt x="12510" y="10699"/>
                  <a:pt x="12518" y="10708"/>
                  <a:pt x="12526" y="10716"/>
                </a:cubicBezTo>
              </a:path>
              <a:path w="10915" h="2382">
                <a:moveTo>
                  <a:pt x="13146" y="10542"/>
                </a:moveTo>
                <a:cubicBezTo>
                  <a:pt x="13077" y="10542"/>
                  <a:pt x="13029" y="10537"/>
                  <a:pt x="12973" y="10567"/>
                </a:cubicBezTo>
                <a:cubicBezTo>
                  <a:pt x="12865" y="10625"/>
                  <a:pt x="12949" y="10692"/>
                  <a:pt x="12998" y="10765"/>
                </a:cubicBezTo>
                <a:cubicBezTo>
                  <a:pt x="13084" y="10893"/>
                  <a:pt x="13190" y="11008"/>
                  <a:pt x="13271" y="11137"/>
                </a:cubicBezTo>
                <a:cubicBezTo>
                  <a:pt x="13312" y="11202"/>
                  <a:pt x="13305" y="11266"/>
                  <a:pt x="13221" y="11286"/>
                </a:cubicBezTo>
                <a:cubicBezTo>
                  <a:pt x="13168" y="11298"/>
                  <a:pt x="13019" y="11256"/>
                  <a:pt x="12973" y="11237"/>
                </a:cubicBezTo>
                <a:cubicBezTo>
                  <a:pt x="12932" y="11196"/>
                  <a:pt x="12918" y="11166"/>
                  <a:pt x="12923" y="11112"/>
                </a:cubicBezTo>
              </a:path>
              <a:path w="10915" h="2382">
                <a:moveTo>
                  <a:pt x="13618" y="10096"/>
                </a:moveTo>
                <a:cubicBezTo>
                  <a:pt x="13577" y="10219"/>
                  <a:pt x="13517" y="10340"/>
                  <a:pt x="13494" y="10468"/>
                </a:cubicBezTo>
                <a:cubicBezTo>
                  <a:pt x="13472" y="10590"/>
                  <a:pt x="13469" y="10714"/>
                  <a:pt x="13469" y="10840"/>
                </a:cubicBezTo>
                <a:cubicBezTo>
                  <a:pt x="13469" y="10976"/>
                  <a:pt x="13478" y="11082"/>
                  <a:pt x="13519" y="11212"/>
                </a:cubicBezTo>
                <a:cubicBezTo>
                  <a:pt x="13569" y="11371"/>
                  <a:pt x="13624" y="11409"/>
                  <a:pt x="13767" y="11485"/>
                </a:cubicBezTo>
              </a:path>
              <a:path w="10915" h="2382">
                <a:moveTo>
                  <a:pt x="13866" y="10443"/>
                </a:moveTo>
                <a:cubicBezTo>
                  <a:pt x="13933" y="10389"/>
                  <a:pt x="13979" y="10393"/>
                  <a:pt x="14064" y="10393"/>
                </a:cubicBezTo>
                <a:cubicBezTo>
                  <a:pt x="14167" y="10393"/>
                  <a:pt x="14288" y="10410"/>
                  <a:pt x="14387" y="10443"/>
                </a:cubicBezTo>
                <a:cubicBezTo>
                  <a:pt x="14497" y="10480"/>
                  <a:pt x="14449" y="10529"/>
                  <a:pt x="14436" y="10616"/>
                </a:cubicBezTo>
                <a:cubicBezTo>
                  <a:pt x="14424" y="10699"/>
                  <a:pt x="14396" y="10780"/>
                  <a:pt x="14387" y="10864"/>
                </a:cubicBezTo>
                <a:cubicBezTo>
                  <a:pt x="14373" y="10986"/>
                  <a:pt x="14406" y="11096"/>
                  <a:pt x="14412" y="11212"/>
                </a:cubicBezTo>
                <a:cubicBezTo>
                  <a:pt x="14415" y="11265"/>
                  <a:pt x="14431" y="11316"/>
                  <a:pt x="14461" y="11336"/>
                </a:cubicBezTo>
              </a:path>
              <a:path w="10915" h="2382">
                <a:moveTo>
                  <a:pt x="14932" y="10492"/>
                </a:moveTo>
                <a:cubicBezTo>
                  <a:pt x="14857" y="10605"/>
                  <a:pt x="14813" y="10678"/>
                  <a:pt x="14808" y="10815"/>
                </a:cubicBezTo>
                <a:cubicBezTo>
                  <a:pt x="14805" y="10903"/>
                  <a:pt x="14790" y="11010"/>
                  <a:pt x="14833" y="11088"/>
                </a:cubicBezTo>
                <a:cubicBezTo>
                  <a:pt x="14868" y="11151"/>
                  <a:pt x="14936" y="11236"/>
                  <a:pt x="15007" y="11261"/>
                </a:cubicBezTo>
                <a:cubicBezTo>
                  <a:pt x="15109" y="11298"/>
                  <a:pt x="15166" y="11302"/>
                  <a:pt x="15230" y="11212"/>
                </a:cubicBezTo>
                <a:cubicBezTo>
                  <a:pt x="15293" y="11123"/>
                  <a:pt x="15338" y="10969"/>
                  <a:pt x="15329" y="10864"/>
                </a:cubicBezTo>
                <a:cubicBezTo>
                  <a:pt x="15318" y="10733"/>
                  <a:pt x="15293" y="10653"/>
                  <a:pt x="15230" y="10542"/>
                </a:cubicBezTo>
                <a:cubicBezTo>
                  <a:pt x="15205" y="10498"/>
                  <a:pt x="15117" y="10415"/>
                  <a:pt x="15056" y="10418"/>
                </a:cubicBezTo>
                <a:cubicBezTo>
                  <a:pt x="15008" y="10442"/>
                  <a:pt x="14994" y="10451"/>
                  <a:pt x="14957" y="10443"/>
                </a:cubicBezTo>
              </a:path>
              <a:path w="10915" h="2382">
                <a:moveTo>
                  <a:pt x="14585" y="10815"/>
                </a:moveTo>
                <a:cubicBezTo>
                  <a:pt x="14695" y="10841"/>
                  <a:pt x="14818" y="10855"/>
                  <a:pt x="14932" y="10864"/>
                </a:cubicBezTo>
                <a:cubicBezTo>
                  <a:pt x="15048" y="10874"/>
                  <a:pt x="15172" y="10871"/>
                  <a:pt x="15280" y="10840"/>
                </a:cubicBezTo>
              </a:path>
              <a:path w="10915" h="2382">
                <a:moveTo>
                  <a:pt x="15503" y="10071"/>
                </a:moveTo>
                <a:cubicBezTo>
                  <a:pt x="15583" y="10071"/>
                  <a:pt x="15637" y="10068"/>
                  <a:pt x="15701" y="10120"/>
                </a:cubicBezTo>
                <a:cubicBezTo>
                  <a:pt x="15787" y="10191"/>
                  <a:pt x="15755" y="10200"/>
                  <a:pt x="15776" y="10294"/>
                </a:cubicBezTo>
                <a:cubicBezTo>
                  <a:pt x="15798" y="10395"/>
                  <a:pt x="15810" y="10490"/>
                  <a:pt x="15825" y="10592"/>
                </a:cubicBezTo>
                <a:cubicBezTo>
                  <a:pt x="15846" y="10738"/>
                  <a:pt x="15840" y="10893"/>
                  <a:pt x="15801" y="11038"/>
                </a:cubicBezTo>
                <a:cubicBezTo>
                  <a:pt x="15784" y="11102"/>
                  <a:pt x="15729" y="11197"/>
                  <a:pt x="15677" y="11237"/>
                </a:cubicBezTo>
                <a:cubicBezTo>
                  <a:pt x="15634" y="11269"/>
                  <a:pt x="15579" y="11301"/>
                  <a:pt x="15528" y="11311"/>
                </a:cubicBezTo>
              </a:path>
              <a:path w="10915" h="2382">
                <a:moveTo>
                  <a:pt x="15751" y="9798"/>
                </a:moveTo>
                <a:cubicBezTo>
                  <a:pt x="15819" y="9791"/>
                  <a:pt x="15871" y="9762"/>
                  <a:pt x="15949" y="9773"/>
                </a:cubicBezTo>
                <a:cubicBezTo>
                  <a:pt x="16024" y="9784"/>
                  <a:pt x="16083" y="9814"/>
                  <a:pt x="16148" y="9847"/>
                </a:cubicBezTo>
                <a:cubicBezTo>
                  <a:pt x="16204" y="9875"/>
                  <a:pt x="16261" y="9863"/>
                  <a:pt x="16297" y="9922"/>
                </a:cubicBezTo>
                <a:cubicBezTo>
                  <a:pt x="16327" y="9971"/>
                  <a:pt x="16344" y="10034"/>
                  <a:pt x="16346" y="10096"/>
                </a:cubicBezTo>
                <a:cubicBezTo>
                  <a:pt x="16349" y="10199"/>
                  <a:pt x="16360" y="10294"/>
                  <a:pt x="16371" y="10393"/>
                </a:cubicBezTo>
                <a:cubicBezTo>
                  <a:pt x="16384" y="10514"/>
                  <a:pt x="16393" y="10619"/>
                  <a:pt x="16421" y="10740"/>
                </a:cubicBezTo>
                <a:cubicBezTo>
                  <a:pt x="16463" y="10921"/>
                  <a:pt x="16480" y="11104"/>
                  <a:pt x="16520" y="11286"/>
                </a:cubicBezTo>
                <a:cubicBezTo>
                  <a:pt x="16553" y="11434"/>
                  <a:pt x="16553" y="11586"/>
                  <a:pt x="16594" y="11733"/>
                </a:cubicBezTo>
                <a:cubicBezTo>
                  <a:pt x="16612" y="11796"/>
                  <a:pt x="16628" y="11847"/>
                  <a:pt x="16644" y="11906"/>
                </a:cubicBezTo>
                <a:cubicBezTo>
                  <a:pt x="16555" y="11917"/>
                  <a:pt x="16488" y="11970"/>
                  <a:pt x="16396" y="11981"/>
                </a:cubicBezTo>
                <a:cubicBezTo>
                  <a:pt x="16241" y="11999"/>
                  <a:pt x="16103" y="12007"/>
                  <a:pt x="15949" y="11981"/>
                </a:cubicBezTo>
                <a:cubicBezTo>
                  <a:pt x="15765" y="11950"/>
                  <a:pt x="15681" y="11931"/>
                  <a:pt x="15553" y="118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Ink 11"/>
          <p:cNvSpPr/>
          <p:nvPr/>
        </p:nvSpPr>
        <p:spPr>
          <a:xfrm>
            <a:off x="2490840" y="4348080"/>
            <a:ext cx="2867040" cy="455760"/>
          </a:xfrm>
          <a:custGeom>
            <a:avLst/>
            <a:gdLst/>
            <a:ahLst/>
            <a:rect l="l" t="t" r="r" b="b"/>
            <a:pathLst>
              <a:path w="7963" h="1266">
                <a:moveTo>
                  <a:pt x="6970" y="12105"/>
                </a:moveTo>
                <a:cubicBezTo>
                  <a:pt x="7018" y="12081"/>
                  <a:pt x="7107" y="12062"/>
                  <a:pt x="7169" y="12080"/>
                </a:cubicBezTo>
                <a:cubicBezTo>
                  <a:pt x="7218" y="12094"/>
                  <a:pt x="7281" y="12146"/>
                  <a:pt x="7317" y="12179"/>
                </a:cubicBezTo>
                <a:cubicBezTo>
                  <a:pt x="7398" y="12252"/>
                  <a:pt x="7265" y="12317"/>
                  <a:pt x="7218" y="12353"/>
                </a:cubicBezTo>
                <a:cubicBezTo>
                  <a:pt x="7154" y="12402"/>
                  <a:pt x="7100" y="12418"/>
                  <a:pt x="7020" y="12427"/>
                </a:cubicBezTo>
                <a:cubicBezTo>
                  <a:pt x="7155" y="12437"/>
                  <a:pt x="7208" y="12461"/>
                  <a:pt x="7317" y="12526"/>
                </a:cubicBezTo>
                <a:cubicBezTo>
                  <a:pt x="7400" y="12575"/>
                  <a:pt x="7413" y="12630"/>
                  <a:pt x="7417" y="12725"/>
                </a:cubicBezTo>
                <a:cubicBezTo>
                  <a:pt x="7421" y="12828"/>
                  <a:pt x="7370" y="12889"/>
                  <a:pt x="7268" y="12923"/>
                </a:cubicBezTo>
                <a:cubicBezTo>
                  <a:pt x="7159" y="12959"/>
                  <a:pt x="7076" y="12953"/>
                  <a:pt x="6970" y="12898"/>
                </a:cubicBezTo>
                <a:cubicBezTo>
                  <a:pt x="6908" y="12866"/>
                  <a:pt x="6921" y="12808"/>
                  <a:pt x="6921" y="12750"/>
                </a:cubicBezTo>
              </a:path>
              <a:path w="7963" h="1266">
                <a:moveTo>
                  <a:pt x="7962" y="12452"/>
                </a:moveTo>
                <a:cubicBezTo>
                  <a:pt x="7984" y="12517"/>
                  <a:pt x="7992" y="12532"/>
                  <a:pt x="7987" y="12576"/>
                </a:cubicBezTo>
                <a:cubicBezTo>
                  <a:pt x="7961" y="12537"/>
                  <a:pt x="7939" y="12420"/>
                  <a:pt x="7888" y="12402"/>
                </a:cubicBezTo>
                <a:cubicBezTo>
                  <a:pt x="7839" y="12385"/>
                  <a:pt x="7788" y="12440"/>
                  <a:pt x="7764" y="12477"/>
                </a:cubicBezTo>
                <a:cubicBezTo>
                  <a:pt x="7705" y="12568"/>
                  <a:pt x="7689" y="12588"/>
                  <a:pt x="7689" y="12700"/>
                </a:cubicBezTo>
                <a:cubicBezTo>
                  <a:pt x="7689" y="12788"/>
                  <a:pt x="7732" y="12859"/>
                  <a:pt x="7789" y="12923"/>
                </a:cubicBezTo>
                <a:cubicBezTo>
                  <a:pt x="7862" y="13005"/>
                  <a:pt x="7935" y="12998"/>
                  <a:pt x="8037" y="12998"/>
                </a:cubicBezTo>
              </a:path>
              <a:path w="7963" h="1266">
                <a:moveTo>
                  <a:pt x="8285" y="12477"/>
                </a:moveTo>
                <a:cubicBezTo>
                  <a:pt x="8242" y="12562"/>
                  <a:pt x="8183" y="12648"/>
                  <a:pt x="8210" y="12750"/>
                </a:cubicBezTo>
                <a:cubicBezTo>
                  <a:pt x="8232" y="12833"/>
                  <a:pt x="8301" y="12890"/>
                  <a:pt x="8359" y="12948"/>
                </a:cubicBezTo>
                <a:cubicBezTo>
                  <a:pt x="8424" y="13013"/>
                  <a:pt x="8513" y="12989"/>
                  <a:pt x="8582" y="12948"/>
                </a:cubicBezTo>
                <a:cubicBezTo>
                  <a:pt x="8641" y="12913"/>
                  <a:pt x="8648" y="12784"/>
                  <a:pt x="8632" y="12725"/>
                </a:cubicBezTo>
                <a:cubicBezTo>
                  <a:pt x="8619" y="12678"/>
                  <a:pt x="8574" y="12580"/>
                  <a:pt x="8533" y="12551"/>
                </a:cubicBezTo>
                <a:cubicBezTo>
                  <a:pt x="8520" y="12542"/>
                  <a:pt x="8338" y="12460"/>
                  <a:pt x="8334" y="12477"/>
                </a:cubicBezTo>
                <a:cubicBezTo>
                  <a:pt x="8342" y="12493"/>
                  <a:pt x="8351" y="12510"/>
                  <a:pt x="8359" y="12526"/>
                </a:cubicBezTo>
              </a:path>
              <a:path w="7963" h="1266">
                <a:moveTo>
                  <a:pt x="9029" y="12502"/>
                </a:moveTo>
                <a:cubicBezTo>
                  <a:pt x="8983" y="12421"/>
                  <a:pt x="8973" y="12427"/>
                  <a:pt x="8880" y="12427"/>
                </a:cubicBezTo>
                <a:cubicBezTo>
                  <a:pt x="8856" y="12521"/>
                  <a:pt x="8911" y="12580"/>
                  <a:pt x="8954" y="12675"/>
                </a:cubicBezTo>
                <a:cubicBezTo>
                  <a:pt x="8986" y="12746"/>
                  <a:pt x="9103" y="12816"/>
                  <a:pt x="9103" y="12898"/>
                </a:cubicBezTo>
                <a:cubicBezTo>
                  <a:pt x="9103" y="12964"/>
                  <a:pt x="9008" y="13010"/>
                  <a:pt x="8954" y="12998"/>
                </a:cubicBezTo>
                <a:cubicBezTo>
                  <a:pt x="8886" y="12983"/>
                  <a:pt x="8693" y="12977"/>
                  <a:pt x="8756" y="12898"/>
                </a:cubicBezTo>
                <a:cubicBezTo>
                  <a:pt x="8764" y="12890"/>
                  <a:pt x="8773" y="12882"/>
                  <a:pt x="8781" y="12874"/>
                </a:cubicBezTo>
              </a:path>
              <a:path w="7963" h="1266">
                <a:moveTo>
                  <a:pt x="9550" y="12477"/>
                </a:moveTo>
                <a:cubicBezTo>
                  <a:pt x="9515" y="12563"/>
                  <a:pt x="9474" y="12623"/>
                  <a:pt x="9426" y="12700"/>
                </a:cubicBezTo>
                <a:cubicBezTo>
                  <a:pt x="9392" y="12755"/>
                  <a:pt x="9384" y="12861"/>
                  <a:pt x="9401" y="12923"/>
                </a:cubicBezTo>
                <a:cubicBezTo>
                  <a:pt x="9413" y="12969"/>
                  <a:pt x="9508" y="13051"/>
                  <a:pt x="9550" y="13072"/>
                </a:cubicBezTo>
                <a:cubicBezTo>
                  <a:pt x="9663" y="13129"/>
                  <a:pt x="9766" y="13075"/>
                  <a:pt x="9847" y="12998"/>
                </a:cubicBezTo>
                <a:cubicBezTo>
                  <a:pt x="9925" y="12924"/>
                  <a:pt x="9942" y="12855"/>
                  <a:pt x="9947" y="12750"/>
                </a:cubicBezTo>
                <a:cubicBezTo>
                  <a:pt x="9952" y="12644"/>
                  <a:pt x="9916" y="12575"/>
                  <a:pt x="9847" y="12502"/>
                </a:cubicBezTo>
                <a:cubicBezTo>
                  <a:pt x="9802" y="12454"/>
                  <a:pt x="9700" y="12350"/>
                  <a:pt x="9624" y="12353"/>
                </a:cubicBezTo>
                <a:cubicBezTo>
                  <a:pt x="9599" y="12361"/>
                  <a:pt x="9575" y="12370"/>
                  <a:pt x="9550" y="12378"/>
                </a:cubicBezTo>
              </a:path>
              <a:path w="7963" h="1266">
                <a:moveTo>
                  <a:pt x="9227" y="12650"/>
                </a:moveTo>
                <a:cubicBezTo>
                  <a:pt x="9366" y="12696"/>
                  <a:pt x="9483" y="12679"/>
                  <a:pt x="9624" y="12700"/>
                </a:cubicBezTo>
                <a:cubicBezTo>
                  <a:pt x="9738" y="12717"/>
                  <a:pt x="9854" y="12737"/>
                  <a:pt x="9971" y="12750"/>
                </a:cubicBezTo>
                <a:cubicBezTo>
                  <a:pt x="10029" y="12756"/>
                  <a:pt x="10048" y="12746"/>
                  <a:pt x="10096" y="12774"/>
                </a:cubicBezTo>
              </a:path>
              <a:path w="7963" h="1266">
                <a:moveTo>
                  <a:pt x="10443" y="12774"/>
                </a:moveTo>
                <a:cubicBezTo>
                  <a:pt x="10575" y="12774"/>
                  <a:pt x="10708" y="12774"/>
                  <a:pt x="10840" y="12774"/>
                </a:cubicBezTo>
              </a:path>
              <a:path w="7963" h="1266">
                <a:moveTo>
                  <a:pt x="11286" y="12477"/>
                </a:moveTo>
                <a:cubicBezTo>
                  <a:pt x="11356" y="12477"/>
                  <a:pt x="11419" y="12485"/>
                  <a:pt x="11485" y="12502"/>
                </a:cubicBezTo>
                <a:cubicBezTo>
                  <a:pt x="11560" y="12521"/>
                  <a:pt x="11634" y="12557"/>
                  <a:pt x="11609" y="12650"/>
                </a:cubicBezTo>
                <a:cubicBezTo>
                  <a:pt x="11587" y="12731"/>
                  <a:pt x="11487" y="12727"/>
                  <a:pt x="11435" y="12750"/>
                </a:cubicBezTo>
                <a:cubicBezTo>
                  <a:pt x="11407" y="12777"/>
                  <a:pt x="11393" y="12785"/>
                  <a:pt x="11361" y="12774"/>
                </a:cubicBezTo>
                <a:cubicBezTo>
                  <a:pt x="11405" y="12837"/>
                  <a:pt x="11444" y="12856"/>
                  <a:pt x="11509" y="12898"/>
                </a:cubicBezTo>
                <a:cubicBezTo>
                  <a:pt x="11583" y="12945"/>
                  <a:pt x="11635" y="13000"/>
                  <a:pt x="11683" y="13072"/>
                </a:cubicBezTo>
                <a:cubicBezTo>
                  <a:pt x="11740" y="13158"/>
                  <a:pt x="11726" y="13317"/>
                  <a:pt x="11609" y="13345"/>
                </a:cubicBezTo>
                <a:cubicBezTo>
                  <a:pt x="11559" y="13357"/>
                  <a:pt x="11420" y="13306"/>
                  <a:pt x="11385" y="13271"/>
                </a:cubicBezTo>
                <a:cubicBezTo>
                  <a:pt x="11331" y="13216"/>
                  <a:pt x="11294" y="13190"/>
                  <a:pt x="11336" y="13122"/>
                </a:cubicBezTo>
              </a:path>
              <a:path w="7963" h="1266">
                <a:moveTo>
                  <a:pt x="12204" y="12824"/>
                </a:moveTo>
                <a:cubicBezTo>
                  <a:pt x="12226" y="12868"/>
                  <a:pt x="12229" y="12879"/>
                  <a:pt x="12254" y="12898"/>
                </a:cubicBezTo>
                <a:cubicBezTo>
                  <a:pt x="12290" y="12837"/>
                  <a:pt x="12279" y="12805"/>
                  <a:pt x="12229" y="12750"/>
                </a:cubicBezTo>
                <a:cubicBezTo>
                  <a:pt x="12191" y="12709"/>
                  <a:pt x="12121" y="12752"/>
                  <a:pt x="12080" y="12774"/>
                </a:cubicBezTo>
                <a:cubicBezTo>
                  <a:pt x="12015" y="12808"/>
                  <a:pt x="11992" y="12917"/>
                  <a:pt x="12005" y="12998"/>
                </a:cubicBezTo>
                <a:cubicBezTo>
                  <a:pt x="12024" y="13118"/>
                  <a:pt x="12091" y="13113"/>
                  <a:pt x="12154" y="13196"/>
                </a:cubicBezTo>
                <a:cubicBezTo>
                  <a:pt x="12206" y="13265"/>
                  <a:pt x="12259" y="13317"/>
                  <a:pt x="12353" y="13271"/>
                </a:cubicBezTo>
                <a:cubicBezTo>
                  <a:pt x="12361" y="13263"/>
                  <a:pt x="12370" y="13254"/>
                  <a:pt x="12378" y="13246"/>
                </a:cubicBezTo>
              </a:path>
              <a:path w="7963" h="1266">
                <a:moveTo>
                  <a:pt x="12526" y="12824"/>
                </a:moveTo>
                <a:cubicBezTo>
                  <a:pt x="12438" y="12846"/>
                  <a:pt x="12397" y="12892"/>
                  <a:pt x="12427" y="12998"/>
                </a:cubicBezTo>
                <a:cubicBezTo>
                  <a:pt x="12462" y="13125"/>
                  <a:pt x="12536" y="13191"/>
                  <a:pt x="12626" y="13271"/>
                </a:cubicBezTo>
                <a:cubicBezTo>
                  <a:pt x="12707" y="13343"/>
                  <a:pt x="12768" y="13340"/>
                  <a:pt x="12824" y="13246"/>
                </a:cubicBezTo>
                <a:cubicBezTo>
                  <a:pt x="12877" y="13157"/>
                  <a:pt x="12848" y="13014"/>
                  <a:pt x="12824" y="12923"/>
                </a:cubicBezTo>
                <a:cubicBezTo>
                  <a:pt x="12801" y="12834"/>
                  <a:pt x="12760" y="12764"/>
                  <a:pt x="12675" y="12725"/>
                </a:cubicBezTo>
                <a:cubicBezTo>
                  <a:pt x="12551" y="12668"/>
                  <a:pt x="12491" y="12642"/>
                  <a:pt x="12551" y="12750"/>
                </a:cubicBezTo>
              </a:path>
              <a:path w="7963" h="1266">
                <a:moveTo>
                  <a:pt x="13097" y="12700"/>
                </a:moveTo>
                <a:cubicBezTo>
                  <a:pt x="13033" y="12658"/>
                  <a:pt x="13022" y="12641"/>
                  <a:pt x="12973" y="12650"/>
                </a:cubicBezTo>
                <a:cubicBezTo>
                  <a:pt x="12943" y="12725"/>
                  <a:pt x="12997" y="12757"/>
                  <a:pt x="13047" y="12824"/>
                </a:cubicBezTo>
                <a:cubicBezTo>
                  <a:pt x="13118" y="12920"/>
                  <a:pt x="13151" y="12987"/>
                  <a:pt x="13196" y="13097"/>
                </a:cubicBezTo>
                <a:cubicBezTo>
                  <a:pt x="13215" y="13144"/>
                  <a:pt x="13215" y="13226"/>
                  <a:pt x="13146" y="13246"/>
                </a:cubicBezTo>
                <a:cubicBezTo>
                  <a:pt x="13088" y="13263"/>
                  <a:pt x="12941" y="13206"/>
                  <a:pt x="12923" y="13146"/>
                </a:cubicBezTo>
                <a:cubicBezTo>
                  <a:pt x="12923" y="13121"/>
                  <a:pt x="12923" y="13097"/>
                  <a:pt x="12923" y="13072"/>
                </a:cubicBezTo>
              </a:path>
              <a:path w="7963" h="1266">
                <a:moveTo>
                  <a:pt x="13320" y="12353"/>
                </a:moveTo>
                <a:cubicBezTo>
                  <a:pt x="13417" y="12353"/>
                  <a:pt x="13498" y="12375"/>
                  <a:pt x="13593" y="12402"/>
                </a:cubicBezTo>
                <a:cubicBezTo>
                  <a:pt x="13666" y="12422"/>
                  <a:pt x="13723" y="12468"/>
                  <a:pt x="13791" y="12502"/>
                </a:cubicBezTo>
                <a:cubicBezTo>
                  <a:pt x="13751" y="12583"/>
                  <a:pt x="13696" y="12660"/>
                  <a:pt x="13692" y="12750"/>
                </a:cubicBezTo>
                <a:cubicBezTo>
                  <a:pt x="13687" y="12874"/>
                  <a:pt x="13682" y="13003"/>
                  <a:pt x="13717" y="13122"/>
                </a:cubicBezTo>
                <a:cubicBezTo>
                  <a:pt x="13738" y="13191"/>
                  <a:pt x="13747" y="13200"/>
                  <a:pt x="13791" y="13246"/>
                </a:cubicBezTo>
              </a:path>
              <a:path w="7963" h="1266">
                <a:moveTo>
                  <a:pt x="14238" y="12452"/>
                </a:moveTo>
                <a:cubicBezTo>
                  <a:pt x="14205" y="12565"/>
                  <a:pt x="14147" y="12656"/>
                  <a:pt x="14139" y="12774"/>
                </a:cubicBezTo>
                <a:cubicBezTo>
                  <a:pt x="14129" y="12914"/>
                  <a:pt x="14152" y="13037"/>
                  <a:pt x="14213" y="13146"/>
                </a:cubicBezTo>
                <a:cubicBezTo>
                  <a:pt x="14258" y="13227"/>
                  <a:pt x="14252" y="13275"/>
                  <a:pt x="14337" y="13320"/>
                </a:cubicBezTo>
                <a:cubicBezTo>
                  <a:pt x="14409" y="13358"/>
                  <a:pt x="14471" y="13346"/>
                  <a:pt x="14536" y="13295"/>
                </a:cubicBezTo>
                <a:cubicBezTo>
                  <a:pt x="14618" y="13232"/>
                  <a:pt x="14632" y="13118"/>
                  <a:pt x="14635" y="13022"/>
                </a:cubicBezTo>
                <a:cubicBezTo>
                  <a:pt x="14640" y="12872"/>
                  <a:pt x="14623" y="12704"/>
                  <a:pt x="14536" y="12576"/>
                </a:cubicBezTo>
                <a:cubicBezTo>
                  <a:pt x="14489" y="12507"/>
                  <a:pt x="14435" y="12442"/>
                  <a:pt x="14362" y="12402"/>
                </a:cubicBezTo>
                <a:cubicBezTo>
                  <a:pt x="14345" y="12394"/>
                  <a:pt x="14329" y="12386"/>
                  <a:pt x="14312" y="12378"/>
                </a:cubicBezTo>
              </a:path>
              <a:path w="7963" h="1266">
                <a:moveTo>
                  <a:pt x="13841" y="12576"/>
                </a:moveTo>
                <a:cubicBezTo>
                  <a:pt x="13918" y="12699"/>
                  <a:pt x="14041" y="12727"/>
                  <a:pt x="14188" y="12750"/>
                </a:cubicBezTo>
                <a:cubicBezTo>
                  <a:pt x="14332" y="12772"/>
                  <a:pt x="14489" y="12786"/>
                  <a:pt x="14635" y="12799"/>
                </a:cubicBezTo>
                <a:cubicBezTo>
                  <a:pt x="14720" y="12807"/>
                  <a:pt x="14796" y="12824"/>
                  <a:pt x="14883" y="128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460440"/>
            <a:ext cx="8510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Write as a sum or difference: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4 sin</a:t>
            </a:r>
            <a:r>
              <a:rPr b="0" lang="en-US" sz="4000" spc="-1" strike="noStrike" baseline="30000">
                <a:solidFill>
                  <a:srgbClr val="dceaae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dceaae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 cos</a:t>
            </a:r>
            <a:r>
              <a:rPr b="0" lang="en-US" sz="4000" spc="-1" strike="noStrike" baseline="30000">
                <a:solidFill>
                  <a:srgbClr val="dceaae"/>
                </a:solidFill>
                <a:latin typeface="Arial"/>
              </a:rPr>
              <a:t>5</a:t>
            </a:r>
            <a:r>
              <a:rPr b="0" lang="en-US" sz="4000" spc="-1" strike="noStrike" baseline="30000">
                <a:solidFill>
                  <a:srgbClr val="dceaae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dceaae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8" name="Ink 5"/>
          <p:cNvSpPr/>
          <p:nvPr/>
        </p:nvSpPr>
        <p:spPr>
          <a:xfrm>
            <a:off x="714240" y="2009880"/>
            <a:ext cx="349560" cy="330120"/>
          </a:xfrm>
          <a:custGeom>
            <a:avLst/>
            <a:gdLst/>
            <a:ahLst/>
            <a:rect l="l" t="t" r="r" b="b"/>
            <a:pathLst>
              <a:path w="969" h="919">
                <a:moveTo>
                  <a:pt x="2158" y="5581"/>
                </a:moveTo>
                <a:cubicBezTo>
                  <a:pt x="2148" y="5660"/>
                  <a:pt x="2119" y="5730"/>
                  <a:pt x="2084" y="5804"/>
                </a:cubicBezTo>
                <a:cubicBezTo>
                  <a:pt x="2057" y="5862"/>
                  <a:pt x="2033" y="5925"/>
                  <a:pt x="2009" y="5978"/>
                </a:cubicBezTo>
                <a:cubicBezTo>
                  <a:pt x="1978" y="6044"/>
                  <a:pt x="1969" y="6073"/>
                  <a:pt x="2059" y="6077"/>
                </a:cubicBezTo>
                <a:cubicBezTo>
                  <a:pt x="2135" y="6080"/>
                  <a:pt x="2178" y="6052"/>
                  <a:pt x="2257" y="6052"/>
                </a:cubicBezTo>
                <a:cubicBezTo>
                  <a:pt x="2334" y="6052"/>
                  <a:pt x="2399" y="6007"/>
                  <a:pt x="2480" y="6028"/>
                </a:cubicBezTo>
                <a:cubicBezTo>
                  <a:pt x="2497" y="6036"/>
                  <a:pt x="2513" y="6044"/>
                  <a:pt x="2530" y="6052"/>
                </a:cubicBezTo>
              </a:path>
              <a:path w="969" h="919">
                <a:moveTo>
                  <a:pt x="2505" y="5631"/>
                </a:moveTo>
                <a:cubicBezTo>
                  <a:pt x="2531" y="5707"/>
                  <a:pt x="2530" y="5772"/>
                  <a:pt x="2530" y="5854"/>
                </a:cubicBezTo>
                <a:cubicBezTo>
                  <a:pt x="2530" y="5999"/>
                  <a:pt x="2537" y="6139"/>
                  <a:pt x="2555" y="6276"/>
                </a:cubicBezTo>
                <a:cubicBezTo>
                  <a:pt x="2564" y="6347"/>
                  <a:pt x="2555" y="6427"/>
                  <a:pt x="2555" y="6499"/>
                </a:cubicBezTo>
              </a:path>
              <a:path w="969" h="919">
                <a:moveTo>
                  <a:pt x="2952" y="6052"/>
                </a:moveTo>
                <a:lnTo>
                  <a:pt x="2952" y="6052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Ink 6"/>
          <p:cNvSpPr/>
          <p:nvPr/>
        </p:nvSpPr>
        <p:spPr>
          <a:xfrm>
            <a:off x="1276200" y="1990800"/>
            <a:ext cx="349560" cy="411120"/>
          </a:xfrm>
          <a:custGeom>
            <a:avLst/>
            <a:gdLst/>
            <a:ahLst/>
            <a:rect l="l" t="t" r="r" b="b"/>
            <a:pathLst>
              <a:path w="968" h="1142">
                <a:moveTo>
                  <a:pt x="3572" y="5531"/>
                </a:moveTo>
                <a:cubicBezTo>
                  <a:pt x="3532" y="5598"/>
                  <a:pt x="3560" y="5618"/>
                  <a:pt x="3572" y="5680"/>
                </a:cubicBezTo>
                <a:cubicBezTo>
                  <a:pt x="3587" y="5756"/>
                  <a:pt x="3586" y="5851"/>
                  <a:pt x="3597" y="5928"/>
                </a:cubicBezTo>
                <a:cubicBezTo>
                  <a:pt x="3603" y="5969"/>
                  <a:pt x="3597" y="6045"/>
                  <a:pt x="3597" y="6003"/>
                </a:cubicBezTo>
              </a:path>
              <a:path w="968" h="1142">
                <a:moveTo>
                  <a:pt x="3944" y="5655"/>
                </a:moveTo>
                <a:cubicBezTo>
                  <a:pt x="3891" y="5752"/>
                  <a:pt x="3894" y="5780"/>
                  <a:pt x="3870" y="5879"/>
                </a:cubicBezTo>
                <a:cubicBezTo>
                  <a:pt x="3846" y="5979"/>
                  <a:pt x="3814" y="6076"/>
                  <a:pt x="3795" y="6176"/>
                </a:cubicBezTo>
                <a:cubicBezTo>
                  <a:pt x="3781" y="6247"/>
                  <a:pt x="3736" y="6297"/>
                  <a:pt x="3721" y="6375"/>
                </a:cubicBezTo>
                <a:cubicBezTo>
                  <a:pt x="3709" y="6438"/>
                  <a:pt x="3675" y="6479"/>
                  <a:pt x="3671" y="6548"/>
                </a:cubicBezTo>
                <a:cubicBezTo>
                  <a:pt x="3671" y="6593"/>
                  <a:pt x="3674" y="6606"/>
                  <a:pt x="3646" y="6623"/>
                </a:cubicBezTo>
              </a:path>
              <a:path w="968" h="1142">
                <a:moveTo>
                  <a:pt x="3994" y="6201"/>
                </a:moveTo>
                <a:cubicBezTo>
                  <a:pt x="4034" y="6130"/>
                  <a:pt x="4056" y="6106"/>
                  <a:pt x="4142" y="6102"/>
                </a:cubicBezTo>
                <a:cubicBezTo>
                  <a:pt x="4228" y="6098"/>
                  <a:pt x="4259" y="6119"/>
                  <a:pt x="4316" y="6176"/>
                </a:cubicBezTo>
                <a:cubicBezTo>
                  <a:pt x="4364" y="6224"/>
                  <a:pt x="4342" y="6277"/>
                  <a:pt x="4316" y="6325"/>
                </a:cubicBezTo>
                <a:cubicBezTo>
                  <a:pt x="4286" y="6381"/>
                  <a:pt x="4253" y="6446"/>
                  <a:pt x="4217" y="6499"/>
                </a:cubicBezTo>
                <a:cubicBezTo>
                  <a:pt x="4172" y="6564"/>
                  <a:pt x="4102" y="6601"/>
                  <a:pt x="4043" y="6648"/>
                </a:cubicBezTo>
                <a:cubicBezTo>
                  <a:pt x="4083" y="6671"/>
                  <a:pt x="4165" y="6691"/>
                  <a:pt x="4217" y="6672"/>
                </a:cubicBezTo>
                <a:cubicBezTo>
                  <a:pt x="4283" y="6648"/>
                  <a:pt x="4336" y="6648"/>
                  <a:pt x="4415" y="6648"/>
                </a:cubicBezTo>
                <a:cubicBezTo>
                  <a:pt x="4468" y="6648"/>
                  <a:pt x="4471" y="6634"/>
                  <a:pt x="4514" y="66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Ink 7"/>
          <p:cNvSpPr/>
          <p:nvPr/>
        </p:nvSpPr>
        <p:spPr>
          <a:xfrm>
            <a:off x="1812960" y="1616040"/>
            <a:ext cx="5973840" cy="893880"/>
          </a:xfrm>
          <a:custGeom>
            <a:avLst/>
            <a:gdLst/>
            <a:ahLst/>
            <a:rect l="l" t="t" r="r" b="b"/>
            <a:pathLst>
              <a:path w="16596" h="2481">
                <a:moveTo>
                  <a:pt x="5085" y="5358"/>
                </a:moveTo>
                <a:cubicBezTo>
                  <a:pt x="5079" y="5421"/>
                  <a:pt x="5077" y="5494"/>
                  <a:pt x="5060" y="5556"/>
                </a:cubicBezTo>
                <a:cubicBezTo>
                  <a:pt x="5040" y="5627"/>
                  <a:pt x="5035" y="5678"/>
                  <a:pt x="5035" y="5755"/>
                </a:cubicBezTo>
                <a:cubicBezTo>
                  <a:pt x="5035" y="5900"/>
                  <a:pt x="5046" y="6032"/>
                  <a:pt x="5060" y="6176"/>
                </a:cubicBezTo>
                <a:cubicBezTo>
                  <a:pt x="5066" y="6238"/>
                  <a:pt x="5083" y="6290"/>
                  <a:pt x="5110" y="6350"/>
                </a:cubicBezTo>
                <a:cubicBezTo>
                  <a:pt x="5142" y="6421"/>
                  <a:pt x="5116" y="6477"/>
                  <a:pt x="5135" y="6548"/>
                </a:cubicBezTo>
                <a:cubicBezTo>
                  <a:pt x="5152" y="6613"/>
                  <a:pt x="5141" y="6684"/>
                  <a:pt x="5159" y="6747"/>
                </a:cubicBezTo>
                <a:cubicBezTo>
                  <a:pt x="5175" y="6805"/>
                  <a:pt x="5163" y="6892"/>
                  <a:pt x="5184" y="6945"/>
                </a:cubicBezTo>
                <a:cubicBezTo>
                  <a:pt x="5211" y="7014"/>
                  <a:pt x="5320" y="6951"/>
                  <a:pt x="5358" y="6945"/>
                </a:cubicBezTo>
                <a:cubicBezTo>
                  <a:pt x="5419" y="6935"/>
                  <a:pt x="5506" y="6971"/>
                  <a:pt x="5556" y="6921"/>
                </a:cubicBezTo>
                <a:cubicBezTo>
                  <a:pt x="5556" y="6913"/>
                  <a:pt x="5556" y="6904"/>
                  <a:pt x="5556" y="6896"/>
                </a:cubicBezTo>
              </a:path>
              <a:path w="16596" h="2481">
                <a:moveTo>
                  <a:pt x="5035" y="5333"/>
                </a:moveTo>
                <a:cubicBezTo>
                  <a:pt x="5103" y="5307"/>
                  <a:pt x="5186" y="5294"/>
                  <a:pt x="5259" y="5283"/>
                </a:cubicBezTo>
                <a:cubicBezTo>
                  <a:pt x="5324" y="5274"/>
                  <a:pt x="5370" y="5291"/>
                  <a:pt x="5432" y="5308"/>
                </a:cubicBezTo>
              </a:path>
              <a:path w="16596" h="2481">
                <a:moveTo>
                  <a:pt x="6251" y="5829"/>
                </a:moveTo>
                <a:cubicBezTo>
                  <a:pt x="6224" y="5784"/>
                  <a:pt x="6227" y="5738"/>
                  <a:pt x="6176" y="5705"/>
                </a:cubicBezTo>
                <a:cubicBezTo>
                  <a:pt x="6129" y="5674"/>
                  <a:pt x="6033" y="5665"/>
                  <a:pt x="5978" y="5680"/>
                </a:cubicBezTo>
                <a:cubicBezTo>
                  <a:pt x="5895" y="5703"/>
                  <a:pt x="5885" y="5778"/>
                  <a:pt x="5904" y="5854"/>
                </a:cubicBezTo>
                <a:cubicBezTo>
                  <a:pt x="5915" y="5898"/>
                  <a:pt x="5969" y="5998"/>
                  <a:pt x="6003" y="6028"/>
                </a:cubicBezTo>
                <a:cubicBezTo>
                  <a:pt x="6087" y="6103"/>
                  <a:pt x="6107" y="6134"/>
                  <a:pt x="6176" y="6226"/>
                </a:cubicBezTo>
                <a:cubicBezTo>
                  <a:pt x="6221" y="6287"/>
                  <a:pt x="6260" y="6346"/>
                  <a:pt x="6276" y="6424"/>
                </a:cubicBezTo>
                <a:cubicBezTo>
                  <a:pt x="6283" y="6460"/>
                  <a:pt x="6254" y="6551"/>
                  <a:pt x="6226" y="6573"/>
                </a:cubicBezTo>
                <a:cubicBezTo>
                  <a:pt x="6166" y="6619"/>
                  <a:pt x="6074" y="6598"/>
                  <a:pt x="6003" y="6598"/>
                </a:cubicBezTo>
                <a:cubicBezTo>
                  <a:pt x="5921" y="6598"/>
                  <a:pt x="5841" y="6551"/>
                  <a:pt x="5779" y="6499"/>
                </a:cubicBezTo>
                <a:cubicBezTo>
                  <a:pt x="5735" y="6462"/>
                  <a:pt x="5737" y="6427"/>
                  <a:pt x="5730" y="6375"/>
                </a:cubicBezTo>
              </a:path>
              <a:path w="16596" h="2481">
                <a:moveTo>
                  <a:pt x="6524" y="5730"/>
                </a:moveTo>
                <a:cubicBezTo>
                  <a:pt x="6524" y="5834"/>
                  <a:pt x="6537" y="5927"/>
                  <a:pt x="6548" y="6028"/>
                </a:cubicBezTo>
                <a:cubicBezTo>
                  <a:pt x="6557" y="6112"/>
                  <a:pt x="6568" y="6195"/>
                  <a:pt x="6573" y="6276"/>
                </a:cubicBezTo>
                <a:cubicBezTo>
                  <a:pt x="6577" y="6353"/>
                  <a:pt x="6614" y="6452"/>
                  <a:pt x="6598" y="6524"/>
                </a:cubicBezTo>
                <a:cubicBezTo>
                  <a:pt x="6576" y="6546"/>
                  <a:pt x="6567" y="6557"/>
                  <a:pt x="6573" y="6524"/>
                </a:cubicBezTo>
              </a:path>
              <a:path w="16596" h="2481">
                <a:moveTo>
                  <a:pt x="6573" y="5507"/>
                </a:moveTo>
                <a:lnTo>
                  <a:pt x="6573" y="5507"/>
                </a:lnTo>
              </a:path>
              <a:path w="16596" h="2481">
                <a:moveTo>
                  <a:pt x="6846" y="5755"/>
                </a:moveTo>
                <a:cubicBezTo>
                  <a:pt x="6836" y="5825"/>
                  <a:pt x="6837" y="5903"/>
                  <a:pt x="6821" y="5978"/>
                </a:cubicBezTo>
                <a:cubicBezTo>
                  <a:pt x="6804" y="6057"/>
                  <a:pt x="6796" y="6115"/>
                  <a:pt x="6796" y="6201"/>
                </a:cubicBezTo>
                <a:cubicBezTo>
                  <a:pt x="6796" y="6294"/>
                  <a:pt x="6821" y="6380"/>
                  <a:pt x="6821" y="6474"/>
                </a:cubicBezTo>
                <a:cubicBezTo>
                  <a:pt x="6821" y="6519"/>
                  <a:pt x="6817" y="6532"/>
                  <a:pt x="6846" y="6548"/>
                </a:cubicBezTo>
                <a:cubicBezTo>
                  <a:pt x="6846" y="6396"/>
                  <a:pt x="6850" y="6247"/>
                  <a:pt x="6871" y="6102"/>
                </a:cubicBezTo>
                <a:cubicBezTo>
                  <a:pt x="6883" y="6018"/>
                  <a:pt x="6891" y="5962"/>
                  <a:pt x="6921" y="5879"/>
                </a:cubicBezTo>
                <a:cubicBezTo>
                  <a:pt x="6956" y="5783"/>
                  <a:pt x="6972" y="5742"/>
                  <a:pt x="7045" y="5680"/>
                </a:cubicBezTo>
                <a:cubicBezTo>
                  <a:pt x="7100" y="5634"/>
                  <a:pt x="7133" y="5585"/>
                  <a:pt x="7218" y="5606"/>
                </a:cubicBezTo>
                <a:cubicBezTo>
                  <a:pt x="7251" y="5614"/>
                  <a:pt x="7380" y="5689"/>
                  <a:pt x="7392" y="5730"/>
                </a:cubicBezTo>
                <a:cubicBezTo>
                  <a:pt x="7413" y="5804"/>
                  <a:pt x="7432" y="5900"/>
                  <a:pt x="7441" y="5978"/>
                </a:cubicBezTo>
                <a:cubicBezTo>
                  <a:pt x="7470" y="6219"/>
                  <a:pt x="7441" y="6479"/>
                  <a:pt x="7441" y="6722"/>
                </a:cubicBezTo>
              </a:path>
              <a:path w="16596" h="2481">
                <a:moveTo>
                  <a:pt x="8434" y="5407"/>
                </a:moveTo>
                <a:cubicBezTo>
                  <a:pt x="8386" y="5455"/>
                  <a:pt x="8334" y="5489"/>
                  <a:pt x="8285" y="5531"/>
                </a:cubicBezTo>
                <a:cubicBezTo>
                  <a:pt x="8202" y="5603"/>
                  <a:pt x="8165" y="5666"/>
                  <a:pt x="8111" y="5755"/>
                </a:cubicBezTo>
                <a:cubicBezTo>
                  <a:pt x="8059" y="5841"/>
                  <a:pt x="8003" y="5952"/>
                  <a:pt x="7987" y="6052"/>
                </a:cubicBezTo>
                <a:cubicBezTo>
                  <a:pt x="7972" y="6143"/>
                  <a:pt x="7962" y="6231"/>
                  <a:pt x="7962" y="6325"/>
                </a:cubicBezTo>
                <a:cubicBezTo>
                  <a:pt x="7962" y="6425"/>
                  <a:pt x="7972" y="6505"/>
                  <a:pt x="7987" y="6598"/>
                </a:cubicBezTo>
                <a:cubicBezTo>
                  <a:pt x="8001" y="6688"/>
                  <a:pt x="8012" y="6722"/>
                  <a:pt x="8062" y="6772"/>
                </a:cubicBezTo>
              </a:path>
              <a:path w="16596" h="2481">
                <a:moveTo>
                  <a:pt x="8657" y="5606"/>
                </a:moveTo>
                <a:cubicBezTo>
                  <a:pt x="8628" y="5673"/>
                  <a:pt x="8611" y="5772"/>
                  <a:pt x="8607" y="5854"/>
                </a:cubicBezTo>
                <a:cubicBezTo>
                  <a:pt x="8600" y="5977"/>
                  <a:pt x="8607" y="6103"/>
                  <a:pt x="8607" y="6226"/>
                </a:cubicBezTo>
              </a:path>
              <a:path w="16596" h="2481">
                <a:moveTo>
                  <a:pt x="8954" y="5556"/>
                </a:moveTo>
                <a:cubicBezTo>
                  <a:pt x="8929" y="5626"/>
                  <a:pt x="8930" y="5679"/>
                  <a:pt x="8930" y="5755"/>
                </a:cubicBezTo>
                <a:cubicBezTo>
                  <a:pt x="8930" y="5862"/>
                  <a:pt x="8930" y="5970"/>
                  <a:pt x="8930" y="6077"/>
                </a:cubicBezTo>
              </a:path>
              <a:path w="16596" h="2481">
                <a:moveTo>
                  <a:pt x="8508" y="5705"/>
                </a:moveTo>
                <a:cubicBezTo>
                  <a:pt x="8508" y="5722"/>
                  <a:pt x="8508" y="5738"/>
                  <a:pt x="8508" y="5755"/>
                </a:cubicBezTo>
                <a:cubicBezTo>
                  <a:pt x="8575" y="5745"/>
                  <a:pt x="8584" y="5728"/>
                  <a:pt x="8632" y="5680"/>
                </a:cubicBezTo>
                <a:cubicBezTo>
                  <a:pt x="8671" y="5641"/>
                  <a:pt x="8716" y="5618"/>
                  <a:pt x="8756" y="5581"/>
                </a:cubicBezTo>
                <a:cubicBezTo>
                  <a:pt x="8803" y="5538"/>
                  <a:pt x="8862" y="5593"/>
                  <a:pt x="8905" y="5631"/>
                </a:cubicBezTo>
                <a:cubicBezTo>
                  <a:pt x="8936" y="5658"/>
                  <a:pt x="8942" y="5671"/>
                  <a:pt x="8979" y="5680"/>
                </a:cubicBezTo>
              </a:path>
              <a:path w="16596" h="2481">
                <a:moveTo>
                  <a:pt x="9500" y="5507"/>
                </a:moveTo>
                <a:cubicBezTo>
                  <a:pt x="9459" y="5558"/>
                  <a:pt x="9412" y="5610"/>
                  <a:pt x="9376" y="5655"/>
                </a:cubicBezTo>
                <a:cubicBezTo>
                  <a:pt x="9318" y="5727"/>
                  <a:pt x="9313" y="5845"/>
                  <a:pt x="9277" y="5928"/>
                </a:cubicBezTo>
                <a:cubicBezTo>
                  <a:pt x="9235" y="6024"/>
                  <a:pt x="9167" y="6143"/>
                  <a:pt x="9103" y="6226"/>
                </a:cubicBezTo>
                <a:cubicBezTo>
                  <a:pt x="9039" y="6309"/>
                  <a:pt x="8953" y="6416"/>
                  <a:pt x="8930" y="6524"/>
                </a:cubicBezTo>
                <a:cubicBezTo>
                  <a:pt x="8930" y="6565"/>
                  <a:pt x="8938" y="6581"/>
                  <a:pt x="8905" y="6573"/>
                </a:cubicBezTo>
              </a:path>
              <a:path w="16596" h="2481">
                <a:moveTo>
                  <a:pt x="9525" y="5953"/>
                </a:moveTo>
                <a:cubicBezTo>
                  <a:pt x="9600" y="5953"/>
                  <a:pt x="9642" y="5950"/>
                  <a:pt x="9699" y="6003"/>
                </a:cubicBezTo>
                <a:cubicBezTo>
                  <a:pt x="9744" y="6044"/>
                  <a:pt x="9720" y="6152"/>
                  <a:pt x="9699" y="6201"/>
                </a:cubicBezTo>
                <a:cubicBezTo>
                  <a:pt x="9682" y="6241"/>
                  <a:pt x="9605" y="6270"/>
                  <a:pt x="9575" y="6276"/>
                </a:cubicBezTo>
                <a:cubicBezTo>
                  <a:pt x="9558" y="6276"/>
                  <a:pt x="9542" y="6276"/>
                  <a:pt x="9525" y="6276"/>
                </a:cubicBezTo>
                <a:cubicBezTo>
                  <a:pt x="9585" y="6240"/>
                  <a:pt x="9643" y="6244"/>
                  <a:pt x="9699" y="6251"/>
                </a:cubicBezTo>
                <a:cubicBezTo>
                  <a:pt x="9761" y="6259"/>
                  <a:pt x="9827" y="6289"/>
                  <a:pt x="9823" y="6375"/>
                </a:cubicBezTo>
                <a:cubicBezTo>
                  <a:pt x="9820" y="6436"/>
                  <a:pt x="9778" y="6498"/>
                  <a:pt x="9748" y="6548"/>
                </a:cubicBezTo>
                <a:cubicBezTo>
                  <a:pt x="9687" y="6650"/>
                  <a:pt x="9700" y="6608"/>
                  <a:pt x="9599" y="6648"/>
                </a:cubicBezTo>
                <a:cubicBezTo>
                  <a:pt x="9542" y="6670"/>
                  <a:pt x="9495" y="6672"/>
                  <a:pt x="9426" y="6672"/>
                </a:cubicBezTo>
                <a:cubicBezTo>
                  <a:pt x="9342" y="6672"/>
                  <a:pt x="9340" y="6664"/>
                  <a:pt x="9277" y="6623"/>
                </a:cubicBezTo>
                <a:cubicBezTo>
                  <a:pt x="9260" y="6615"/>
                  <a:pt x="9244" y="6606"/>
                  <a:pt x="9227" y="6598"/>
                </a:cubicBezTo>
              </a:path>
              <a:path w="16596" h="2481">
                <a:moveTo>
                  <a:pt x="10220" y="5928"/>
                </a:moveTo>
                <a:cubicBezTo>
                  <a:pt x="10230" y="6014"/>
                  <a:pt x="10265" y="6086"/>
                  <a:pt x="10269" y="6176"/>
                </a:cubicBezTo>
                <a:cubicBezTo>
                  <a:pt x="10273" y="6259"/>
                  <a:pt x="10250" y="6322"/>
                  <a:pt x="10244" y="6400"/>
                </a:cubicBezTo>
                <a:cubicBezTo>
                  <a:pt x="10244" y="6408"/>
                  <a:pt x="10244" y="6416"/>
                  <a:pt x="10244" y="6424"/>
                </a:cubicBezTo>
              </a:path>
              <a:path w="16596" h="2481">
                <a:moveTo>
                  <a:pt x="10120" y="6152"/>
                </a:moveTo>
                <a:cubicBezTo>
                  <a:pt x="10214" y="6175"/>
                  <a:pt x="10295" y="6176"/>
                  <a:pt x="10393" y="6176"/>
                </a:cubicBezTo>
                <a:cubicBezTo>
                  <a:pt x="10434" y="6176"/>
                  <a:pt x="10476" y="6176"/>
                  <a:pt x="10517" y="6176"/>
                </a:cubicBezTo>
              </a:path>
              <a:path w="16596" h="2481">
                <a:moveTo>
                  <a:pt x="11187" y="5482"/>
                </a:moveTo>
                <a:cubicBezTo>
                  <a:pt x="11120" y="5442"/>
                  <a:pt x="11100" y="5470"/>
                  <a:pt x="11038" y="5482"/>
                </a:cubicBezTo>
                <a:cubicBezTo>
                  <a:pt x="10995" y="5491"/>
                  <a:pt x="10885" y="5452"/>
                  <a:pt x="10864" y="5507"/>
                </a:cubicBezTo>
                <a:cubicBezTo>
                  <a:pt x="10848" y="5547"/>
                  <a:pt x="10845" y="5611"/>
                  <a:pt x="10840" y="5655"/>
                </a:cubicBezTo>
                <a:cubicBezTo>
                  <a:pt x="10922" y="5619"/>
                  <a:pt x="10979" y="5584"/>
                  <a:pt x="11063" y="5631"/>
                </a:cubicBezTo>
                <a:cubicBezTo>
                  <a:pt x="11148" y="5679"/>
                  <a:pt x="11212" y="5774"/>
                  <a:pt x="11187" y="5879"/>
                </a:cubicBezTo>
                <a:cubicBezTo>
                  <a:pt x="11173" y="5937"/>
                  <a:pt x="11105" y="5971"/>
                  <a:pt x="11063" y="6003"/>
                </a:cubicBezTo>
                <a:cubicBezTo>
                  <a:pt x="10997" y="6053"/>
                  <a:pt x="10910" y="6020"/>
                  <a:pt x="10840" y="5978"/>
                </a:cubicBezTo>
                <a:cubicBezTo>
                  <a:pt x="10810" y="5948"/>
                  <a:pt x="10799" y="5934"/>
                  <a:pt x="10790" y="5904"/>
                </a:cubicBezTo>
              </a:path>
              <a:path w="16596" h="2481">
                <a:moveTo>
                  <a:pt x="11385" y="5556"/>
                </a:moveTo>
                <a:cubicBezTo>
                  <a:pt x="11408" y="5639"/>
                  <a:pt x="11432" y="5742"/>
                  <a:pt x="11410" y="5829"/>
                </a:cubicBezTo>
                <a:cubicBezTo>
                  <a:pt x="11389" y="5912"/>
                  <a:pt x="11385" y="5988"/>
                  <a:pt x="11385" y="6077"/>
                </a:cubicBezTo>
                <a:cubicBezTo>
                  <a:pt x="11385" y="6069"/>
                  <a:pt x="11385" y="6060"/>
                  <a:pt x="11385" y="6052"/>
                </a:cubicBezTo>
              </a:path>
              <a:path w="16596" h="2481">
                <a:moveTo>
                  <a:pt x="11683" y="5581"/>
                </a:moveTo>
                <a:cubicBezTo>
                  <a:pt x="11691" y="5657"/>
                  <a:pt x="11708" y="5700"/>
                  <a:pt x="11708" y="5779"/>
                </a:cubicBezTo>
                <a:cubicBezTo>
                  <a:pt x="11708" y="5862"/>
                  <a:pt x="11695" y="5923"/>
                  <a:pt x="11683" y="6003"/>
                </a:cubicBezTo>
                <a:cubicBezTo>
                  <a:pt x="11674" y="6067"/>
                  <a:pt x="11702" y="6122"/>
                  <a:pt x="11658" y="6152"/>
                </a:cubicBezTo>
              </a:path>
              <a:path w="16596" h="2481">
                <a:moveTo>
                  <a:pt x="11286" y="5655"/>
                </a:moveTo>
                <a:cubicBezTo>
                  <a:pt x="11348" y="5692"/>
                  <a:pt x="11378" y="5682"/>
                  <a:pt x="11435" y="5631"/>
                </a:cubicBezTo>
                <a:cubicBezTo>
                  <a:pt x="11478" y="5593"/>
                  <a:pt x="11519" y="5541"/>
                  <a:pt x="11559" y="5507"/>
                </a:cubicBezTo>
                <a:cubicBezTo>
                  <a:pt x="11612" y="5462"/>
                  <a:pt x="11665" y="5516"/>
                  <a:pt x="11708" y="5556"/>
                </a:cubicBezTo>
                <a:cubicBezTo>
                  <a:pt x="11756" y="5602"/>
                  <a:pt x="11771" y="5665"/>
                  <a:pt x="11832" y="5680"/>
                </a:cubicBezTo>
              </a:path>
              <a:path w="16596" h="2481">
                <a:moveTo>
                  <a:pt x="12179" y="5457"/>
                </a:moveTo>
                <a:cubicBezTo>
                  <a:pt x="12141" y="5545"/>
                  <a:pt x="12122" y="5620"/>
                  <a:pt x="12080" y="5705"/>
                </a:cubicBezTo>
                <a:cubicBezTo>
                  <a:pt x="12030" y="5806"/>
                  <a:pt x="11995" y="5899"/>
                  <a:pt x="11956" y="6003"/>
                </a:cubicBezTo>
                <a:cubicBezTo>
                  <a:pt x="11923" y="6089"/>
                  <a:pt x="11876" y="6171"/>
                  <a:pt x="11832" y="6251"/>
                </a:cubicBezTo>
                <a:cubicBezTo>
                  <a:pt x="11802" y="6305"/>
                  <a:pt x="11765" y="6397"/>
                  <a:pt x="11757" y="6449"/>
                </a:cubicBezTo>
                <a:cubicBezTo>
                  <a:pt x="11754" y="6471"/>
                  <a:pt x="11763" y="6584"/>
                  <a:pt x="11733" y="6524"/>
                </a:cubicBezTo>
              </a:path>
              <a:path w="16596" h="2481">
                <a:moveTo>
                  <a:pt x="12204" y="5953"/>
                </a:moveTo>
                <a:cubicBezTo>
                  <a:pt x="12182" y="6040"/>
                  <a:pt x="12140" y="6138"/>
                  <a:pt x="12129" y="6226"/>
                </a:cubicBezTo>
                <a:cubicBezTo>
                  <a:pt x="12120" y="6296"/>
                  <a:pt x="12115" y="6411"/>
                  <a:pt x="12154" y="6474"/>
                </a:cubicBezTo>
                <a:cubicBezTo>
                  <a:pt x="12193" y="6537"/>
                  <a:pt x="12269" y="6524"/>
                  <a:pt x="12328" y="6499"/>
                </a:cubicBezTo>
                <a:cubicBezTo>
                  <a:pt x="12370" y="6481"/>
                  <a:pt x="12408" y="6411"/>
                  <a:pt x="12427" y="6375"/>
                </a:cubicBezTo>
                <a:cubicBezTo>
                  <a:pt x="12468" y="6298"/>
                  <a:pt x="12498" y="6261"/>
                  <a:pt x="12502" y="6176"/>
                </a:cubicBezTo>
                <a:cubicBezTo>
                  <a:pt x="12502" y="6125"/>
                  <a:pt x="12501" y="6106"/>
                  <a:pt x="12477" y="6077"/>
                </a:cubicBezTo>
                <a:cubicBezTo>
                  <a:pt x="12413" y="6085"/>
                  <a:pt x="12348" y="6103"/>
                  <a:pt x="12328" y="6176"/>
                </a:cubicBezTo>
                <a:cubicBezTo>
                  <a:pt x="12312" y="6235"/>
                  <a:pt x="12282" y="6284"/>
                  <a:pt x="12278" y="6350"/>
                </a:cubicBezTo>
                <a:cubicBezTo>
                  <a:pt x="12274" y="6423"/>
                  <a:pt x="12294" y="6478"/>
                  <a:pt x="12303" y="6548"/>
                </a:cubicBezTo>
              </a:path>
              <a:path w="16596" h="2481">
                <a:moveTo>
                  <a:pt x="12725" y="5184"/>
                </a:moveTo>
                <a:cubicBezTo>
                  <a:pt x="12736" y="5258"/>
                  <a:pt x="12746" y="5299"/>
                  <a:pt x="12799" y="5358"/>
                </a:cubicBezTo>
                <a:cubicBezTo>
                  <a:pt x="12854" y="5419"/>
                  <a:pt x="12905" y="5485"/>
                  <a:pt x="12948" y="5556"/>
                </a:cubicBezTo>
                <a:cubicBezTo>
                  <a:pt x="12999" y="5640"/>
                  <a:pt x="13074" y="5703"/>
                  <a:pt x="13097" y="5804"/>
                </a:cubicBezTo>
                <a:cubicBezTo>
                  <a:pt x="13117" y="5893"/>
                  <a:pt x="13143" y="5985"/>
                  <a:pt x="13146" y="6077"/>
                </a:cubicBezTo>
                <a:cubicBezTo>
                  <a:pt x="13150" y="6184"/>
                  <a:pt x="13135" y="6271"/>
                  <a:pt x="13122" y="6375"/>
                </a:cubicBezTo>
                <a:cubicBezTo>
                  <a:pt x="13111" y="6469"/>
                  <a:pt x="13089" y="6584"/>
                  <a:pt x="13047" y="6672"/>
                </a:cubicBezTo>
                <a:cubicBezTo>
                  <a:pt x="13024" y="6719"/>
                  <a:pt x="12973" y="6777"/>
                  <a:pt x="12923" y="6796"/>
                </a:cubicBezTo>
                <a:cubicBezTo>
                  <a:pt x="12915" y="6796"/>
                  <a:pt x="12906" y="6796"/>
                  <a:pt x="12898" y="6796"/>
                </a:cubicBezTo>
              </a:path>
              <a:path w="16596" h="2481">
                <a:moveTo>
                  <a:pt x="13295" y="6052"/>
                </a:moveTo>
                <a:cubicBezTo>
                  <a:pt x="13380" y="6063"/>
                  <a:pt x="13452" y="6077"/>
                  <a:pt x="13543" y="6077"/>
                </a:cubicBezTo>
                <a:cubicBezTo>
                  <a:pt x="13602" y="6077"/>
                  <a:pt x="13658" y="6058"/>
                  <a:pt x="13667" y="6077"/>
                </a:cubicBezTo>
              </a:path>
              <a:path w="16596" h="2481">
                <a:moveTo>
                  <a:pt x="14387" y="5804"/>
                </a:moveTo>
                <a:cubicBezTo>
                  <a:pt x="14351" y="5741"/>
                  <a:pt x="14328" y="5715"/>
                  <a:pt x="14263" y="5680"/>
                </a:cubicBezTo>
                <a:cubicBezTo>
                  <a:pt x="14201" y="5647"/>
                  <a:pt x="14122" y="5651"/>
                  <a:pt x="14064" y="5680"/>
                </a:cubicBezTo>
                <a:cubicBezTo>
                  <a:pt x="14011" y="5706"/>
                  <a:pt x="14002" y="5804"/>
                  <a:pt x="14015" y="5854"/>
                </a:cubicBezTo>
                <a:cubicBezTo>
                  <a:pt x="14032" y="5916"/>
                  <a:pt x="14088" y="5973"/>
                  <a:pt x="14139" y="6003"/>
                </a:cubicBezTo>
                <a:cubicBezTo>
                  <a:pt x="14200" y="6039"/>
                  <a:pt x="14237" y="6075"/>
                  <a:pt x="14288" y="6127"/>
                </a:cubicBezTo>
                <a:cubicBezTo>
                  <a:pt x="14318" y="6157"/>
                  <a:pt x="14381" y="6230"/>
                  <a:pt x="14362" y="6276"/>
                </a:cubicBezTo>
                <a:cubicBezTo>
                  <a:pt x="14338" y="6335"/>
                  <a:pt x="14257" y="6413"/>
                  <a:pt x="14188" y="6400"/>
                </a:cubicBezTo>
                <a:cubicBezTo>
                  <a:pt x="14096" y="6383"/>
                  <a:pt x="14036" y="6352"/>
                  <a:pt x="13990" y="6276"/>
                </a:cubicBezTo>
                <a:cubicBezTo>
                  <a:pt x="13982" y="6259"/>
                  <a:pt x="13973" y="6243"/>
                  <a:pt x="13965" y="6226"/>
                </a:cubicBezTo>
              </a:path>
              <a:path w="16596" h="2481">
                <a:moveTo>
                  <a:pt x="14461" y="5730"/>
                </a:moveTo>
                <a:cubicBezTo>
                  <a:pt x="14525" y="5793"/>
                  <a:pt x="14511" y="5838"/>
                  <a:pt x="14511" y="5928"/>
                </a:cubicBezTo>
                <a:cubicBezTo>
                  <a:pt x="14511" y="6022"/>
                  <a:pt x="14531" y="6071"/>
                  <a:pt x="14536" y="6152"/>
                </a:cubicBezTo>
                <a:cubicBezTo>
                  <a:pt x="14539" y="6205"/>
                  <a:pt x="14542" y="6299"/>
                  <a:pt x="14560" y="6350"/>
                </a:cubicBezTo>
                <a:cubicBezTo>
                  <a:pt x="14568" y="6358"/>
                  <a:pt x="14577" y="6367"/>
                  <a:pt x="14585" y="6375"/>
                </a:cubicBezTo>
              </a:path>
              <a:path w="16596" h="2481">
                <a:moveTo>
                  <a:pt x="14536" y="5482"/>
                </a:moveTo>
                <a:lnTo>
                  <a:pt x="14536" y="5482"/>
                </a:lnTo>
              </a:path>
              <a:path w="16596" h="2481">
                <a:moveTo>
                  <a:pt x="14734" y="5680"/>
                </a:moveTo>
                <a:cubicBezTo>
                  <a:pt x="14734" y="5808"/>
                  <a:pt x="14736" y="5940"/>
                  <a:pt x="14759" y="6052"/>
                </a:cubicBezTo>
                <a:cubicBezTo>
                  <a:pt x="14779" y="6153"/>
                  <a:pt x="14754" y="6249"/>
                  <a:pt x="14784" y="6350"/>
                </a:cubicBezTo>
                <a:cubicBezTo>
                  <a:pt x="14762" y="6295"/>
                  <a:pt x="14804" y="6246"/>
                  <a:pt x="14784" y="6176"/>
                </a:cubicBezTo>
                <a:cubicBezTo>
                  <a:pt x="14759" y="6088"/>
                  <a:pt x="14763" y="6001"/>
                  <a:pt x="14784" y="5904"/>
                </a:cubicBezTo>
                <a:cubicBezTo>
                  <a:pt x="14797" y="5845"/>
                  <a:pt x="14866" y="5742"/>
                  <a:pt x="14908" y="5705"/>
                </a:cubicBezTo>
                <a:cubicBezTo>
                  <a:pt x="14964" y="5656"/>
                  <a:pt x="15010" y="5655"/>
                  <a:pt x="15081" y="5655"/>
                </a:cubicBezTo>
                <a:cubicBezTo>
                  <a:pt x="15165" y="5655"/>
                  <a:pt x="15170" y="5709"/>
                  <a:pt x="15205" y="5779"/>
                </a:cubicBezTo>
                <a:cubicBezTo>
                  <a:pt x="15243" y="5855"/>
                  <a:pt x="15268" y="5968"/>
                  <a:pt x="15280" y="6052"/>
                </a:cubicBezTo>
                <a:cubicBezTo>
                  <a:pt x="15294" y="6146"/>
                  <a:pt x="15280" y="6254"/>
                  <a:pt x="15280" y="6350"/>
                </a:cubicBezTo>
              </a:path>
              <a:path w="16596" h="2481">
                <a:moveTo>
                  <a:pt x="15925" y="5184"/>
                </a:moveTo>
                <a:cubicBezTo>
                  <a:pt x="15877" y="5239"/>
                  <a:pt x="15818" y="5298"/>
                  <a:pt x="15776" y="5358"/>
                </a:cubicBezTo>
                <a:cubicBezTo>
                  <a:pt x="15718" y="5441"/>
                  <a:pt x="15683" y="5589"/>
                  <a:pt x="15652" y="5680"/>
                </a:cubicBezTo>
                <a:cubicBezTo>
                  <a:pt x="15613" y="5794"/>
                  <a:pt x="15581" y="5908"/>
                  <a:pt x="15577" y="6028"/>
                </a:cubicBezTo>
                <a:cubicBezTo>
                  <a:pt x="15573" y="6125"/>
                  <a:pt x="15591" y="6211"/>
                  <a:pt x="15602" y="6300"/>
                </a:cubicBezTo>
                <a:cubicBezTo>
                  <a:pt x="15613" y="6386"/>
                  <a:pt x="15625" y="6428"/>
                  <a:pt x="15677" y="6499"/>
                </a:cubicBezTo>
                <a:cubicBezTo>
                  <a:pt x="15702" y="6533"/>
                  <a:pt x="15723" y="6532"/>
                  <a:pt x="15751" y="6548"/>
                </a:cubicBezTo>
              </a:path>
              <a:path w="16596" h="2481">
                <a:moveTo>
                  <a:pt x="16148" y="5283"/>
                </a:moveTo>
                <a:cubicBezTo>
                  <a:pt x="16148" y="5407"/>
                  <a:pt x="16127" y="5507"/>
                  <a:pt x="16123" y="5631"/>
                </a:cubicBezTo>
                <a:cubicBezTo>
                  <a:pt x="16120" y="5713"/>
                  <a:pt x="16123" y="5797"/>
                  <a:pt x="16123" y="5879"/>
                </a:cubicBezTo>
              </a:path>
              <a:path w="16596" h="2481">
                <a:moveTo>
                  <a:pt x="16470" y="5308"/>
                </a:moveTo>
                <a:cubicBezTo>
                  <a:pt x="16470" y="5482"/>
                  <a:pt x="16470" y="5655"/>
                  <a:pt x="16470" y="5829"/>
                </a:cubicBezTo>
              </a:path>
              <a:path w="16596" h="2481">
                <a:moveTo>
                  <a:pt x="16049" y="5407"/>
                </a:moveTo>
                <a:cubicBezTo>
                  <a:pt x="16118" y="5435"/>
                  <a:pt x="16114" y="5396"/>
                  <a:pt x="16173" y="5358"/>
                </a:cubicBezTo>
                <a:cubicBezTo>
                  <a:pt x="16225" y="5324"/>
                  <a:pt x="16278" y="5261"/>
                  <a:pt x="16321" y="5234"/>
                </a:cubicBezTo>
                <a:cubicBezTo>
                  <a:pt x="16389" y="5191"/>
                  <a:pt x="16432" y="5224"/>
                  <a:pt x="16470" y="5283"/>
                </a:cubicBezTo>
                <a:cubicBezTo>
                  <a:pt x="16480" y="5298"/>
                  <a:pt x="16537" y="5442"/>
                  <a:pt x="16570" y="5432"/>
                </a:cubicBezTo>
                <a:cubicBezTo>
                  <a:pt x="16595" y="5416"/>
                  <a:pt x="16619" y="5399"/>
                  <a:pt x="16644" y="5383"/>
                </a:cubicBezTo>
              </a:path>
              <a:path w="16596" h="2481">
                <a:moveTo>
                  <a:pt x="17115" y="5184"/>
                </a:moveTo>
                <a:cubicBezTo>
                  <a:pt x="17062" y="5238"/>
                  <a:pt x="17063" y="5267"/>
                  <a:pt x="17041" y="5333"/>
                </a:cubicBezTo>
                <a:cubicBezTo>
                  <a:pt x="16998" y="5461"/>
                  <a:pt x="16913" y="5577"/>
                  <a:pt x="16867" y="5705"/>
                </a:cubicBezTo>
                <a:cubicBezTo>
                  <a:pt x="16823" y="5827"/>
                  <a:pt x="16796" y="5943"/>
                  <a:pt x="16718" y="6052"/>
                </a:cubicBezTo>
                <a:cubicBezTo>
                  <a:pt x="16686" y="6097"/>
                  <a:pt x="16610" y="6326"/>
                  <a:pt x="16545" y="6325"/>
                </a:cubicBezTo>
                <a:cubicBezTo>
                  <a:pt x="16545" y="6317"/>
                  <a:pt x="16545" y="6308"/>
                  <a:pt x="16545" y="6300"/>
                </a:cubicBezTo>
              </a:path>
              <a:path w="16596" h="2481">
                <a:moveTo>
                  <a:pt x="17115" y="5705"/>
                </a:moveTo>
                <a:cubicBezTo>
                  <a:pt x="17203" y="5705"/>
                  <a:pt x="17263" y="5703"/>
                  <a:pt x="17338" y="5755"/>
                </a:cubicBezTo>
                <a:cubicBezTo>
                  <a:pt x="17409" y="5803"/>
                  <a:pt x="17400" y="5914"/>
                  <a:pt x="17363" y="5978"/>
                </a:cubicBezTo>
                <a:cubicBezTo>
                  <a:pt x="17325" y="6045"/>
                  <a:pt x="17270" y="6075"/>
                  <a:pt x="17214" y="6052"/>
                </a:cubicBezTo>
                <a:cubicBezTo>
                  <a:pt x="17308" y="6052"/>
                  <a:pt x="17401" y="6039"/>
                  <a:pt x="17487" y="6077"/>
                </a:cubicBezTo>
                <a:cubicBezTo>
                  <a:pt x="17555" y="6108"/>
                  <a:pt x="17604" y="6143"/>
                  <a:pt x="17587" y="6226"/>
                </a:cubicBezTo>
                <a:cubicBezTo>
                  <a:pt x="17571" y="6304"/>
                  <a:pt x="17492" y="6334"/>
                  <a:pt x="17438" y="6375"/>
                </a:cubicBezTo>
                <a:cubicBezTo>
                  <a:pt x="17393" y="6409"/>
                  <a:pt x="17323" y="6421"/>
                  <a:pt x="17264" y="6424"/>
                </a:cubicBezTo>
                <a:cubicBezTo>
                  <a:pt x="17155" y="6429"/>
                  <a:pt x="17075" y="6422"/>
                  <a:pt x="17041" y="6325"/>
                </a:cubicBezTo>
                <a:cubicBezTo>
                  <a:pt x="17041" y="6317"/>
                  <a:pt x="17041" y="6308"/>
                  <a:pt x="17041" y="6300"/>
                </a:cubicBezTo>
              </a:path>
              <a:path w="16596" h="2481">
                <a:moveTo>
                  <a:pt x="17636" y="5655"/>
                </a:moveTo>
                <a:cubicBezTo>
                  <a:pt x="17724" y="5655"/>
                  <a:pt x="17799" y="5675"/>
                  <a:pt x="17884" y="5680"/>
                </a:cubicBezTo>
                <a:cubicBezTo>
                  <a:pt x="17966" y="5684"/>
                  <a:pt x="18050" y="5680"/>
                  <a:pt x="18132" y="5680"/>
                </a:cubicBezTo>
              </a:path>
              <a:path w="16596" h="2481">
                <a:moveTo>
                  <a:pt x="18777" y="5060"/>
                </a:moveTo>
                <a:cubicBezTo>
                  <a:pt x="18730" y="5060"/>
                  <a:pt x="18646" y="5046"/>
                  <a:pt x="18628" y="5110"/>
                </a:cubicBezTo>
                <a:cubicBezTo>
                  <a:pt x="18612" y="5164"/>
                  <a:pt x="18611" y="5230"/>
                  <a:pt x="18604" y="5283"/>
                </a:cubicBezTo>
                <a:cubicBezTo>
                  <a:pt x="18670" y="5323"/>
                  <a:pt x="18691" y="5295"/>
                  <a:pt x="18752" y="5283"/>
                </a:cubicBezTo>
                <a:cubicBezTo>
                  <a:pt x="18817" y="5270"/>
                  <a:pt x="18887" y="5273"/>
                  <a:pt x="18926" y="5333"/>
                </a:cubicBezTo>
                <a:cubicBezTo>
                  <a:pt x="18971" y="5403"/>
                  <a:pt x="18956" y="5485"/>
                  <a:pt x="18926" y="5556"/>
                </a:cubicBezTo>
                <a:cubicBezTo>
                  <a:pt x="18890" y="5641"/>
                  <a:pt x="18861" y="5631"/>
                  <a:pt x="18777" y="5631"/>
                </a:cubicBezTo>
                <a:cubicBezTo>
                  <a:pt x="18731" y="5631"/>
                  <a:pt x="18642" y="5583"/>
                  <a:pt x="18604" y="5556"/>
                </a:cubicBezTo>
                <a:cubicBezTo>
                  <a:pt x="18562" y="5515"/>
                  <a:pt x="18554" y="5507"/>
                  <a:pt x="18529" y="5482"/>
                </a:cubicBezTo>
              </a:path>
              <a:path w="16596" h="2481">
                <a:moveTo>
                  <a:pt x="19273" y="5159"/>
                </a:moveTo>
                <a:cubicBezTo>
                  <a:pt x="19273" y="5226"/>
                  <a:pt x="19287" y="5279"/>
                  <a:pt x="19298" y="5333"/>
                </a:cubicBezTo>
                <a:cubicBezTo>
                  <a:pt x="19314" y="5411"/>
                  <a:pt x="19310" y="5545"/>
                  <a:pt x="19273" y="5606"/>
                </a:cubicBezTo>
              </a:path>
              <a:path w="16596" h="2481">
                <a:moveTo>
                  <a:pt x="19521" y="5209"/>
                </a:moveTo>
                <a:cubicBezTo>
                  <a:pt x="19513" y="5273"/>
                  <a:pt x="19517" y="5372"/>
                  <a:pt x="19496" y="5432"/>
                </a:cubicBezTo>
                <a:cubicBezTo>
                  <a:pt x="19476" y="5491"/>
                  <a:pt x="19494" y="5571"/>
                  <a:pt x="19472" y="5631"/>
                </a:cubicBezTo>
                <a:cubicBezTo>
                  <a:pt x="19464" y="5639"/>
                  <a:pt x="19455" y="5647"/>
                  <a:pt x="19447" y="5655"/>
                </a:cubicBezTo>
              </a:path>
              <a:path w="16596" h="2481">
                <a:moveTo>
                  <a:pt x="19100" y="5308"/>
                </a:moveTo>
                <a:cubicBezTo>
                  <a:pt x="19128" y="5337"/>
                  <a:pt x="19136" y="5350"/>
                  <a:pt x="19124" y="5383"/>
                </a:cubicBezTo>
                <a:cubicBezTo>
                  <a:pt x="19200" y="5383"/>
                  <a:pt x="19220" y="5386"/>
                  <a:pt x="19273" y="5333"/>
                </a:cubicBezTo>
                <a:cubicBezTo>
                  <a:pt x="19320" y="5286"/>
                  <a:pt x="19376" y="5243"/>
                  <a:pt x="19422" y="5209"/>
                </a:cubicBezTo>
                <a:cubicBezTo>
                  <a:pt x="19489" y="5158"/>
                  <a:pt x="19525" y="5214"/>
                  <a:pt x="19571" y="5259"/>
                </a:cubicBezTo>
                <a:cubicBezTo>
                  <a:pt x="19642" y="5328"/>
                  <a:pt x="19726" y="5308"/>
                  <a:pt x="19819" y="5308"/>
                </a:cubicBezTo>
              </a:path>
              <a:path w="16596" h="2481">
                <a:moveTo>
                  <a:pt x="20017" y="5283"/>
                </a:moveTo>
                <a:cubicBezTo>
                  <a:pt x="19977" y="5365"/>
                  <a:pt x="19929" y="5438"/>
                  <a:pt x="19869" y="5507"/>
                </a:cubicBezTo>
                <a:cubicBezTo>
                  <a:pt x="19803" y="5583"/>
                  <a:pt x="19703" y="5648"/>
                  <a:pt x="19621" y="5705"/>
                </a:cubicBezTo>
                <a:cubicBezTo>
                  <a:pt x="19514" y="5779"/>
                  <a:pt x="19425" y="5872"/>
                  <a:pt x="19323" y="5953"/>
                </a:cubicBezTo>
                <a:cubicBezTo>
                  <a:pt x="19231" y="6026"/>
                  <a:pt x="19136" y="6097"/>
                  <a:pt x="19050" y="6176"/>
                </a:cubicBezTo>
                <a:cubicBezTo>
                  <a:pt x="19020" y="6206"/>
                  <a:pt x="19006" y="6217"/>
                  <a:pt x="18976" y="6226"/>
                </a:cubicBezTo>
              </a:path>
              <a:path w="16596" h="2481">
                <a:moveTo>
                  <a:pt x="19769" y="5829"/>
                </a:moveTo>
                <a:cubicBezTo>
                  <a:pt x="19727" y="5915"/>
                  <a:pt x="19663" y="6007"/>
                  <a:pt x="19645" y="6102"/>
                </a:cubicBezTo>
                <a:cubicBezTo>
                  <a:pt x="19636" y="6147"/>
                  <a:pt x="19637" y="6234"/>
                  <a:pt x="19695" y="6251"/>
                </a:cubicBezTo>
                <a:cubicBezTo>
                  <a:pt x="19747" y="6266"/>
                  <a:pt x="19831" y="6257"/>
                  <a:pt x="19869" y="6226"/>
                </a:cubicBezTo>
                <a:cubicBezTo>
                  <a:pt x="19929" y="6177"/>
                  <a:pt x="19967" y="6133"/>
                  <a:pt x="20017" y="6077"/>
                </a:cubicBezTo>
                <a:cubicBezTo>
                  <a:pt x="20069" y="6018"/>
                  <a:pt x="20042" y="5944"/>
                  <a:pt x="20017" y="5879"/>
                </a:cubicBezTo>
                <a:cubicBezTo>
                  <a:pt x="19981" y="5907"/>
                  <a:pt x="19953" y="5918"/>
                  <a:pt x="19918" y="5953"/>
                </a:cubicBezTo>
                <a:cubicBezTo>
                  <a:pt x="19868" y="6003"/>
                  <a:pt x="19855" y="6059"/>
                  <a:pt x="19844" y="6127"/>
                </a:cubicBezTo>
                <a:cubicBezTo>
                  <a:pt x="19838" y="6166"/>
                  <a:pt x="19844" y="6211"/>
                  <a:pt x="19844" y="6251"/>
                </a:cubicBezTo>
              </a:path>
              <a:path w="16596" h="2481">
                <a:moveTo>
                  <a:pt x="20389" y="4762"/>
                </a:moveTo>
                <a:cubicBezTo>
                  <a:pt x="20427" y="4809"/>
                  <a:pt x="20453" y="4862"/>
                  <a:pt x="20489" y="4911"/>
                </a:cubicBezTo>
                <a:cubicBezTo>
                  <a:pt x="20538" y="4978"/>
                  <a:pt x="20588" y="5034"/>
                  <a:pt x="20638" y="5110"/>
                </a:cubicBezTo>
                <a:cubicBezTo>
                  <a:pt x="20689" y="5188"/>
                  <a:pt x="20720" y="5273"/>
                  <a:pt x="20762" y="5358"/>
                </a:cubicBezTo>
                <a:cubicBezTo>
                  <a:pt x="20794" y="5423"/>
                  <a:pt x="20800" y="5533"/>
                  <a:pt x="20786" y="5606"/>
                </a:cubicBezTo>
                <a:cubicBezTo>
                  <a:pt x="20767" y="5706"/>
                  <a:pt x="20705" y="5814"/>
                  <a:pt x="20662" y="5904"/>
                </a:cubicBezTo>
                <a:cubicBezTo>
                  <a:pt x="20633" y="5964"/>
                  <a:pt x="20608" y="6027"/>
                  <a:pt x="20563" y="6077"/>
                </a:cubicBezTo>
                <a:cubicBezTo>
                  <a:pt x="20540" y="6103"/>
                  <a:pt x="20513" y="6127"/>
                  <a:pt x="20489" y="6152"/>
                </a:cubicBezTo>
              </a:path>
              <a:path w="16596" h="2481">
                <a:moveTo>
                  <a:pt x="20935" y="4490"/>
                </a:moveTo>
                <a:cubicBezTo>
                  <a:pt x="21020" y="4499"/>
                  <a:pt x="21096" y="4514"/>
                  <a:pt x="21183" y="4514"/>
                </a:cubicBezTo>
                <a:cubicBezTo>
                  <a:pt x="21258" y="4514"/>
                  <a:pt x="21313" y="4527"/>
                  <a:pt x="21382" y="4539"/>
                </a:cubicBezTo>
                <a:cubicBezTo>
                  <a:pt x="21441" y="4549"/>
                  <a:pt x="21496" y="4521"/>
                  <a:pt x="21530" y="4589"/>
                </a:cubicBezTo>
                <a:cubicBezTo>
                  <a:pt x="21554" y="4637"/>
                  <a:pt x="21555" y="4705"/>
                  <a:pt x="21555" y="4762"/>
                </a:cubicBezTo>
                <a:cubicBezTo>
                  <a:pt x="21555" y="4954"/>
                  <a:pt x="21554" y="5149"/>
                  <a:pt x="21530" y="5333"/>
                </a:cubicBezTo>
                <a:cubicBezTo>
                  <a:pt x="21518" y="5424"/>
                  <a:pt x="21551" y="5494"/>
                  <a:pt x="21555" y="5581"/>
                </a:cubicBezTo>
                <a:cubicBezTo>
                  <a:pt x="21559" y="5662"/>
                  <a:pt x="21569" y="5726"/>
                  <a:pt x="21580" y="5804"/>
                </a:cubicBezTo>
                <a:cubicBezTo>
                  <a:pt x="21598" y="5927"/>
                  <a:pt x="21586" y="6057"/>
                  <a:pt x="21605" y="6176"/>
                </a:cubicBezTo>
                <a:cubicBezTo>
                  <a:pt x="21608" y="6194"/>
                  <a:pt x="21635" y="6345"/>
                  <a:pt x="21630" y="6350"/>
                </a:cubicBezTo>
                <a:cubicBezTo>
                  <a:pt x="21588" y="6392"/>
                  <a:pt x="21491" y="6397"/>
                  <a:pt x="21431" y="6400"/>
                </a:cubicBezTo>
                <a:cubicBezTo>
                  <a:pt x="21349" y="6403"/>
                  <a:pt x="21237" y="6402"/>
                  <a:pt x="21158" y="6424"/>
                </a:cubicBezTo>
                <a:cubicBezTo>
                  <a:pt x="21093" y="6442"/>
                  <a:pt x="21024" y="6431"/>
                  <a:pt x="20960" y="6449"/>
                </a:cubicBezTo>
                <a:cubicBezTo>
                  <a:pt x="20883" y="6470"/>
                  <a:pt x="20899" y="6461"/>
                  <a:pt x="20836" y="64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Ink 8"/>
          <p:cNvSpPr/>
          <p:nvPr/>
        </p:nvSpPr>
        <p:spPr>
          <a:xfrm>
            <a:off x="1231920" y="2830680"/>
            <a:ext cx="241200" cy="376200"/>
          </a:xfrm>
          <a:custGeom>
            <a:avLst/>
            <a:gdLst/>
            <a:ahLst/>
            <a:rect l="l" t="t" r="r" b="b"/>
            <a:pathLst>
              <a:path w="671" h="1043">
                <a:moveTo>
                  <a:pt x="3547" y="8012"/>
                </a:moveTo>
                <a:cubicBezTo>
                  <a:pt x="3528" y="7974"/>
                  <a:pt x="3546" y="7925"/>
                  <a:pt x="3597" y="7888"/>
                </a:cubicBezTo>
                <a:cubicBezTo>
                  <a:pt x="3640" y="7857"/>
                  <a:pt x="3757" y="7855"/>
                  <a:pt x="3795" y="7888"/>
                </a:cubicBezTo>
                <a:cubicBezTo>
                  <a:pt x="3866" y="7949"/>
                  <a:pt x="3845" y="8083"/>
                  <a:pt x="3845" y="8161"/>
                </a:cubicBezTo>
                <a:cubicBezTo>
                  <a:pt x="3845" y="8245"/>
                  <a:pt x="3806" y="8306"/>
                  <a:pt x="3770" y="8384"/>
                </a:cubicBezTo>
                <a:cubicBezTo>
                  <a:pt x="3742" y="8444"/>
                  <a:pt x="3664" y="8467"/>
                  <a:pt x="3646" y="8533"/>
                </a:cubicBezTo>
                <a:cubicBezTo>
                  <a:pt x="3628" y="8601"/>
                  <a:pt x="3625" y="8630"/>
                  <a:pt x="3572" y="8682"/>
                </a:cubicBezTo>
                <a:cubicBezTo>
                  <a:pt x="3520" y="8733"/>
                  <a:pt x="3501" y="8802"/>
                  <a:pt x="3448" y="8855"/>
                </a:cubicBezTo>
                <a:cubicBezTo>
                  <a:pt x="3440" y="8863"/>
                  <a:pt x="3431" y="8872"/>
                  <a:pt x="3423" y="8880"/>
                </a:cubicBezTo>
                <a:cubicBezTo>
                  <a:pt x="3481" y="8904"/>
                  <a:pt x="3534" y="8867"/>
                  <a:pt x="3597" y="8855"/>
                </a:cubicBezTo>
                <a:cubicBezTo>
                  <a:pt x="3750" y="8826"/>
                  <a:pt x="3937" y="8855"/>
                  <a:pt x="4093" y="88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Ink 9"/>
          <p:cNvSpPr/>
          <p:nvPr/>
        </p:nvSpPr>
        <p:spPr>
          <a:xfrm>
            <a:off x="1660680" y="2751120"/>
            <a:ext cx="581040" cy="544680"/>
          </a:xfrm>
          <a:custGeom>
            <a:avLst/>
            <a:gdLst/>
            <a:ahLst/>
            <a:rect l="l" t="t" r="r" b="b"/>
            <a:pathLst>
              <a:path w="1613" h="1514">
                <a:moveTo>
                  <a:pt x="4614" y="7689"/>
                </a:moveTo>
                <a:cubicBezTo>
                  <a:pt x="4649" y="7749"/>
                  <a:pt x="4638" y="7814"/>
                  <a:pt x="4638" y="7888"/>
                </a:cubicBezTo>
                <a:cubicBezTo>
                  <a:pt x="4638" y="7975"/>
                  <a:pt x="4663" y="8049"/>
                  <a:pt x="4663" y="8136"/>
                </a:cubicBezTo>
                <a:cubicBezTo>
                  <a:pt x="4663" y="8389"/>
                  <a:pt x="4585" y="8798"/>
                  <a:pt x="4688" y="9029"/>
                </a:cubicBezTo>
                <a:cubicBezTo>
                  <a:pt x="4711" y="9080"/>
                  <a:pt x="4753" y="9139"/>
                  <a:pt x="4812" y="9153"/>
                </a:cubicBezTo>
                <a:cubicBezTo>
                  <a:pt x="4884" y="9170"/>
                  <a:pt x="4946" y="9139"/>
                  <a:pt x="5011" y="9128"/>
                </a:cubicBezTo>
                <a:cubicBezTo>
                  <a:pt x="5080" y="9116"/>
                  <a:pt x="5125" y="9139"/>
                  <a:pt x="5184" y="9103"/>
                </a:cubicBezTo>
              </a:path>
              <a:path w="1613" h="1514">
                <a:moveTo>
                  <a:pt x="4762" y="7689"/>
                </a:moveTo>
                <a:cubicBezTo>
                  <a:pt x="4844" y="7689"/>
                  <a:pt x="4906" y="7689"/>
                  <a:pt x="4986" y="7665"/>
                </a:cubicBezTo>
                <a:cubicBezTo>
                  <a:pt x="5011" y="7657"/>
                  <a:pt x="5035" y="7648"/>
                  <a:pt x="5060" y="7640"/>
                </a:cubicBezTo>
              </a:path>
              <a:path w="1613" h="1514">
                <a:moveTo>
                  <a:pt x="5779" y="7962"/>
                </a:moveTo>
                <a:cubicBezTo>
                  <a:pt x="5766" y="7872"/>
                  <a:pt x="5749" y="7868"/>
                  <a:pt x="5655" y="7863"/>
                </a:cubicBezTo>
                <a:cubicBezTo>
                  <a:pt x="5591" y="7860"/>
                  <a:pt x="5545" y="7855"/>
                  <a:pt x="5507" y="7913"/>
                </a:cubicBezTo>
                <a:cubicBezTo>
                  <a:pt x="5462" y="7983"/>
                  <a:pt x="5487" y="8047"/>
                  <a:pt x="5531" y="8111"/>
                </a:cubicBezTo>
                <a:cubicBezTo>
                  <a:pt x="5581" y="8183"/>
                  <a:pt x="5653" y="8226"/>
                  <a:pt x="5705" y="8285"/>
                </a:cubicBezTo>
                <a:cubicBezTo>
                  <a:pt x="5750" y="8336"/>
                  <a:pt x="5796" y="8423"/>
                  <a:pt x="5829" y="8483"/>
                </a:cubicBezTo>
                <a:cubicBezTo>
                  <a:pt x="5870" y="8557"/>
                  <a:pt x="5906" y="8623"/>
                  <a:pt x="5854" y="8706"/>
                </a:cubicBezTo>
                <a:cubicBezTo>
                  <a:pt x="5808" y="8781"/>
                  <a:pt x="5765" y="8777"/>
                  <a:pt x="5705" y="8806"/>
                </a:cubicBezTo>
                <a:cubicBezTo>
                  <a:pt x="5641" y="8837"/>
                  <a:pt x="5566" y="8813"/>
                  <a:pt x="5507" y="8781"/>
                </a:cubicBezTo>
                <a:cubicBezTo>
                  <a:pt x="5469" y="8761"/>
                  <a:pt x="5379" y="8721"/>
                  <a:pt x="5358" y="8682"/>
                </a:cubicBezTo>
                <a:cubicBezTo>
                  <a:pt x="5339" y="8624"/>
                  <a:pt x="5330" y="8617"/>
                  <a:pt x="5333" y="8582"/>
                </a:cubicBezTo>
              </a:path>
              <a:path w="1613" h="1514">
                <a:moveTo>
                  <a:pt x="6152" y="7987"/>
                </a:moveTo>
                <a:cubicBezTo>
                  <a:pt x="6163" y="8068"/>
                  <a:pt x="6176" y="8116"/>
                  <a:pt x="6176" y="8210"/>
                </a:cubicBezTo>
                <a:cubicBezTo>
                  <a:pt x="6176" y="8319"/>
                  <a:pt x="6201" y="8423"/>
                  <a:pt x="6201" y="8533"/>
                </a:cubicBezTo>
                <a:cubicBezTo>
                  <a:pt x="6201" y="8617"/>
                  <a:pt x="6222" y="8677"/>
                  <a:pt x="6226" y="8756"/>
                </a:cubicBezTo>
                <a:cubicBezTo>
                  <a:pt x="6226" y="8806"/>
                  <a:pt x="6226" y="8822"/>
                  <a:pt x="6226" y="8855"/>
                </a:cubicBezTo>
              </a:path>
              <a:path w="1613" h="1514">
                <a:moveTo>
                  <a:pt x="6102" y="7714"/>
                </a:moveTo>
                <a:lnTo>
                  <a:pt x="6102" y="7714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Ink 10"/>
          <p:cNvSpPr/>
          <p:nvPr/>
        </p:nvSpPr>
        <p:spPr>
          <a:xfrm>
            <a:off x="2394000" y="2803680"/>
            <a:ext cx="276120" cy="411120"/>
          </a:xfrm>
          <a:custGeom>
            <a:avLst/>
            <a:gdLst/>
            <a:ahLst/>
            <a:rect l="l" t="t" r="r" b="b"/>
            <a:pathLst>
              <a:path w="770" h="1142">
                <a:moveTo>
                  <a:pt x="6648" y="7789"/>
                </a:moveTo>
                <a:cubicBezTo>
                  <a:pt x="6709" y="7865"/>
                  <a:pt x="6697" y="7913"/>
                  <a:pt x="6697" y="8012"/>
                </a:cubicBezTo>
                <a:cubicBezTo>
                  <a:pt x="6697" y="8218"/>
                  <a:pt x="6684" y="8442"/>
                  <a:pt x="6722" y="8632"/>
                </a:cubicBezTo>
                <a:cubicBezTo>
                  <a:pt x="6726" y="8653"/>
                  <a:pt x="6722" y="8867"/>
                  <a:pt x="6722" y="8731"/>
                </a:cubicBezTo>
                <a:cubicBezTo>
                  <a:pt x="6722" y="8625"/>
                  <a:pt x="6731" y="8533"/>
                  <a:pt x="6747" y="8434"/>
                </a:cubicBezTo>
                <a:cubicBezTo>
                  <a:pt x="6758" y="8366"/>
                  <a:pt x="6751" y="8300"/>
                  <a:pt x="6772" y="8235"/>
                </a:cubicBezTo>
                <a:cubicBezTo>
                  <a:pt x="6802" y="8143"/>
                  <a:pt x="6823" y="8046"/>
                  <a:pt x="6871" y="7962"/>
                </a:cubicBezTo>
                <a:cubicBezTo>
                  <a:pt x="6917" y="7881"/>
                  <a:pt x="6956" y="7869"/>
                  <a:pt x="7020" y="7813"/>
                </a:cubicBezTo>
                <a:cubicBezTo>
                  <a:pt x="7077" y="7763"/>
                  <a:pt x="7115" y="7803"/>
                  <a:pt x="7169" y="7813"/>
                </a:cubicBezTo>
                <a:cubicBezTo>
                  <a:pt x="7246" y="7828"/>
                  <a:pt x="7292" y="7876"/>
                  <a:pt x="7317" y="7962"/>
                </a:cubicBezTo>
                <a:cubicBezTo>
                  <a:pt x="7343" y="8054"/>
                  <a:pt x="7346" y="8141"/>
                  <a:pt x="7367" y="8235"/>
                </a:cubicBezTo>
                <a:cubicBezTo>
                  <a:pt x="7384" y="8312"/>
                  <a:pt x="7371" y="8407"/>
                  <a:pt x="7392" y="8483"/>
                </a:cubicBezTo>
                <a:cubicBezTo>
                  <a:pt x="7421" y="8585"/>
                  <a:pt x="7417" y="8670"/>
                  <a:pt x="7417" y="8781"/>
                </a:cubicBezTo>
                <a:cubicBezTo>
                  <a:pt x="7417" y="8831"/>
                  <a:pt x="7417" y="8880"/>
                  <a:pt x="7417" y="89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Ink 11"/>
          <p:cNvSpPr/>
          <p:nvPr/>
        </p:nvSpPr>
        <p:spPr>
          <a:xfrm>
            <a:off x="2820960" y="2652840"/>
            <a:ext cx="733320" cy="579240"/>
          </a:xfrm>
          <a:custGeom>
            <a:avLst/>
            <a:gdLst/>
            <a:ahLst/>
            <a:rect l="l" t="t" r="r" b="b"/>
            <a:pathLst>
              <a:path w="2035" h="1613">
                <a:moveTo>
                  <a:pt x="7838" y="7417"/>
                </a:moveTo>
                <a:cubicBezTo>
                  <a:pt x="7910" y="7417"/>
                  <a:pt x="7947" y="7396"/>
                  <a:pt x="8012" y="7392"/>
                </a:cubicBezTo>
                <a:cubicBezTo>
                  <a:pt x="8078" y="7388"/>
                  <a:pt x="8102" y="7345"/>
                  <a:pt x="8161" y="7392"/>
                </a:cubicBezTo>
                <a:cubicBezTo>
                  <a:pt x="8210" y="7431"/>
                  <a:pt x="8154" y="7540"/>
                  <a:pt x="8136" y="7590"/>
                </a:cubicBezTo>
                <a:cubicBezTo>
                  <a:pt x="8117" y="7643"/>
                  <a:pt x="8050" y="7689"/>
                  <a:pt x="8037" y="7739"/>
                </a:cubicBezTo>
                <a:cubicBezTo>
                  <a:pt x="8021" y="7801"/>
                  <a:pt x="7998" y="7876"/>
                  <a:pt x="7987" y="7938"/>
                </a:cubicBezTo>
                <a:cubicBezTo>
                  <a:pt x="7979" y="7984"/>
                  <a:pt x="7972" y="7996"/>
                  <a:pt x="7962" y="8037"/>
                </a:cubicBezTo>
              </a:path>
              <a:path w="2035" h="1613">
                <a:moveTo>
                  <a:pt x="8334" y="7615"/>
                </a:moveTo>
                <a:cubicBezTo>
                  <a:pt x="8362" y="7717"/>
                  <a:pt x="8359" y="7806"/>
                  <a:pt x="8359" y="7913"/>
                </a:cubicBezTo>
                <a:cubicBezTo>
                  <a:pt x="8359" y="7987"/>
                  <a:pt x="8359" y="8062"/>
                  <a:pt x="8359" y="8136"/>
                </a:cubicBezTo>
              </a:path>
              <a:path w="2035" h="1613">
                <a:moveTo>
                  <a:pt x="8607" y="7565"/>
                </a:moveTo>
                <a:cubicBezTo>
                  <a:pt x="8607" y="7712"/>
                  <a:pt x="8615" y="7848"/>
                  <a:pt x="8632" y="7987"/>
                </a:cubicBezTo>
                <a:cubicBezTo>
                  <a:pt x="8640" y="8051"/>
                  <a:pt x="8649" y="8099"/>
                  <a:pt x="8657" y="8161"/>
                </a:cubicBezTo>
              </a:path>
              <a:path w="2035" h="1613">
                <a:moveTo>
                  <a:pt x="8334" y="7764"/>
                </a:moveTo>
                <a:cubicBezTo>
                  <a:pt x="8326" y="7772"/>
                  <a:pt x="8318" y="7781"/>
                  <a:pt x="8310" y="7789"/>
                </a:cubicBezTo>
              </a:path>
              <a:path w="2035" h="1613">
                <a:moveTo>
                  <a:pt x="8334" y="7764"/>
                </a:moveTo>
                <a:cubicBezTo>
                  <a:pt x="8351" y="7756"/>
                  <a:pt x="8367" y="7747"/>
                  <a:pt x="8384" y="7739"/>
                </a:cubicBezTo>
              </a:path>
              <a:path w="2035" h="1613">
                <a:moveTo>
                  <a:pt x="8384" y="7739"/>
                </a:moveTo>
                <a:cubicBezTo>
                  <a:pt x="8399" y="7721"/>
                  <a:pt x="8454" y="7613"/>
                  <a:pt x="8483" y="7615"/>
                </a:cubicBezTo>
                <a:cubicBezTo>
                  <a:pt x="8564" y="7621"/>
                  <a:pt x="8551" y="7710"/>
                  <a:pt x="8607" y="7739"/>
                </a:cubicBezTo>
                <a:cubicBezTo>
                  <a:pt x="8619" y="7745"/>
                  <a:pt x="8764" y="7839"/>
                  <a:pt x="8781" y="7838"/>
                </a:cubicBezTo>
                <a:cubicBezTo>
                  <a:pt x="8803" y="7816"/>
                  <a:pt x="8808" y="7807"/>
                  <a:pt x="8830" y="7813"/>
                </a:cubicBezTo>
              </a:path>
              <a:path w="2035" h="1613">
                <a:moveTo>
                  <a:pt x="9203" y="7541"/>
                </a:moveTo>
                <a:cubicBezTo>
                  <a:pt x="9193" y="7617"/>
                  <a:pt x="9162" y="7687"/>
                  <a:pt x="9153" y="7764"/>
                </a:cubicBezTo>
                <a:cubicBezTo>
                  <a:pt x="9141" y="7871"/>
                  <a:pt x="9129" y="7977"/>
                  <a:pt x="9103" y="8086"/>
                </a:cubicBezTo>
                <a:cubicBezTo>
                  <a:pt x="9077" y="8196"/>
                  <a:pt x="9033" y="8300"/>
                  <a:pt x="9004" y="8409"/>
                </a:cubicBezTo>
                <a:cubicBezTo>
                  <a:pt x="8977" y="8511"/>
                  <a:pt x="8940" y="8630"/>
                  <a:pt x="8930" y="8731"/>
                </a:cubicBezTo>
                <a:cubicBezTo>
                  <a:pt x="8921" y="8816"/>
                  <a:pt x="8912" y="8894"/>
                  <a:pt x="8905" y="8979"/>
                </a:cubicBezTo>
              </a:path>
              <a:path w="2035" h="1613">
                <a:moveTo>
                  <a:pt x="9475" y="8235"/>
                </a:moveTo>
                <a:cubicBezTo>
                  <a:pt x="9442" y="8311"/>
                  <a:pt x="9433" y="8386"/>
                  <a:pt x="9401" y="8458"/>
                </a:cubicBezTo>
                <a:cubicBezTo>
                  <a:pt x="9374" y="8519"/>
                  <a:pt x="9352" y="8638"/>
                  <a:pt x="9376" y="8706"/>
                </a:cubicBezTo>
                <a:cubicBezTo>
                  <a:pt x="9403" y="8782"/>
                  <a:pt x="9475" y="8822"/>
                  <a:pt x="9550" y="8830"/>
                </a:cubicBezTo>
                <a:cubicBezTo>
                  <a:pt x="9621" y="8837"/>
                  <a:pt x="9671" y="8830"/>
                  <a:pt x="9723" y="8781"/>
                </a:cubicBezTo>
                <a:cubicBezTo>
                  <a:pt x="9785" y="8722"/>
                  <a:pt x="9813" y="8690"/>
                  <a:pt x="9847" y="8632"/>
                </a:cubicBezTo>
                <a:cubicBezTo>
                  <a:pt x="9879" y="8577"/>
                  <a:pt x="9872" y="8526"/>
                  <a:pt x="9872" y="8458"/>
                </a:cubicBezTo>
                <a:cubicBezTo>
                  <a:pt x="9872" y="8405"/>
                  <a:pt x="9893" y="8285"/>
                  <a:pt x="9823" y="8260"/>
                </a:cubicBezTo>
                <a:cubicBezTo>
                  <a:pt x="9756" y="8236"/>
                  <a:pt x="9673" y="8306"/>
                  <a:pt x="9649" y="8359"/>
                </a:cubicBezTo>
                <a:cubicBezTo>
                  <a:pt x="9620" y="8424"/>
                  <a:pt x="9588" y="8537"/>
                  <a:pt x="9575" y="8607"/>
                </a:cubicBezTo>
                <a:cubicBezTo>
                  <a:pt x="9563" y="8672"/>
                  <a:pt x="9571" y="8774"/>
                  <a:pt x="9599" y="8830"/>
                </a:cubicBezTo>
                <a:cubicBezTo>
                  <a:pt x="9622" y="8853"/>
                  <a:pt x="9630" y="8857"/>
                  <a:pt x="9624" y="88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Ink 12"/>
          <p:cNvSpPr/>
          <p:nvPr/>
        </p:nvSpPr>
        <p:spPr>
          <a:xfrm>
            <a:off x="3821040" y="2830680"/>
            <a:ext cx="206280" cy="233280"/>
          </a:xfrm>
          <a:custGeom>
            <a:avLst/>
            <a:gdLst/>
            <a:ahLst/>
            <a:rect l="l" t="t" r="r" b="b"/>
            <a:pathLst>
              <a:path w="572" h="646">
                <a:moveTo>
                  <a:pt x="10616" y="8062"/>
                </a:moveTo>
                <a:cubicBezTo>
                  <a:pt x="10682" y="8100"/>
                  <a:pt x="10715" y="8066"/>
                  <a:pt x="10790" y="8062"/>
                </a:cubicBezTo>
                <a:cubicBezTo>
                  <a:pt x="10861" y="8058"/>
                  <a:pt x="10919" y="8040"/>
                  <a:pt x="10988" y="8037"/>
                </a:cubicBezTo>
                <a:cubicBezTo>
                  <a:pt x="11054" y="8034"/>
                  <a:pt x="11121" y="8037"/>
                  <a:pt x="11187" y="8037"/>
                </a:cubicBezTo>
              </a:path>
              <a:path w="572" h="646">
                <a:moveTo>
                  <a:pt x="10889" y="7863"/>
                </a:moveTo>
                <a:cubicBezTo>
                  <a:pt x="10889" y="7992"/>
                  <a:pt x="10902" y="8107"/>
                  <a:pt x="10914" y="8235"/>
                </a:cubicBezTo>
                <a:cubicBezTo>
                  <a:pt x="10922" y="8324"/>
                  <a:pt x="10914" y="8418"/>
                  <a:pt x="10914" y="85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Ink 13"/>
          <p:cNvSpPr/>
          <p:nvPr/>
        </p:nvSpPr>
        <p:spPr>
          <a:xfrm>
            <a:off x="4340160" y="2125800"/>
            <a:ext cx="660600" cy="1027080"/>
          </a:xfrm>
          <a:custGeom>
            <a:avLst/>
            <a:gdLst/>
            <a:ahLst/>
            <a:rect l="l" t="t" r="r" b="b"/>
            <a:pathLst>
              <a:path w="1837" h="2853">
                <a:moveTo>
                  <a:pt x="12452" y="7764"/>
                </a:moveTo>
                <a:cubicBezTo>
                  <a:pt x="12414" y="7698"/>
                  <a:pt x="12382" y="7689"/>
                  <a:pt x="12328" y="7640"/>
                </a:cubicBezTo>
                <a:cubicBezTo>
                  <a:pt x="12280" y="7597"/>
                  <a:pt x="12185" y="7606"/>
                  <a:pt x="12129" y="7640"/>
                </a:cubicBezTo>
                <a:cubicBezTo>
                  <a:pt x="12062" y="7681"/>
                  <a:pt x="12028" y="7762"/>
                  <a:pt x="12055" y="7838"/>
                </a:cubicBezTo>
                <a:cubicBezTo>
                  <a:pt x="12071" y="7882"/>
                  <a:pt x="12130" y="7940"/>
                  <a:pt x="12154" y="7987"/>
                </a:cubicBezTo>
                <a:cubicBezTo>
                  <a:pt x="12190" y="8059"/>
                  <a:pt x="12313" y="8121"/>
                  <a:pt x="12378" y="8186"/>
                </a:cubicBezTo>
                <a:cubicBezTo>
                  <a:pt x="12417" y="8225"/>
                  <a:pt x="12488" y="8277"/>
                  <a:pt x="12502" y="8334"/>
                </a:cubicBezTo>
                <a:cubicBezTo>
                  <a:pt x="12519" y="8404"/>
                  <a:pt x="12497" y="8438"/>
                  <a:pt x="12452" y="8483"/>
                </a:cubicBezTo>
                <a:cubicBezTo>
                  <a:pt x="12416" y="8519"/>
                  <a:pt x="12327" y="8524"/>
                  <a:pt x="12278" y="8508"/>
                </a:cubicBezTo>
                <a:cubicBezTo>
                  <a:pt x="12205" y="8485"/>
                  <a:pt x="12141" y="8446"/>
                  <a:pt x="12105" y="8384"/>
                </a:cubicBezTo>
                <a:cubicBezTo>
                  <a:pt x="12081" y="8336"/>
                  <a:pt x="12073" y="8322"/>
                  <a:pt x="12080" y="8285"/>
                </a:cubicBezTo>
              </a:path>
              <a:path w="1837" h="2853">
                <a:moveTo>
                  <a:pt x="12725" y="7689"/>
                </a:moveTo>
                <a:cubicBezTo>
                  <a:pt x="12745" y="7762"/>
                  <a:pt x="12762" y="7841"/>
                  <a:pt x="12774" y="7913"/>
                </a:cubicBezTo>
                <a:cubicBezTo>
                  <a:pt x="12788" y="8001"/>
                  <a:pt x="12795" y="8098"/>
                  <a:pt x="12799" y="8186"/>
                </a:cubicBezTo>
                <a:cubicBezTo>
                  <a:pt x="12803" y="8276"/>
                  <a:pt x="12806" y="8371"/>
                  <a:pt x="12824" y="8458"/>
                </a:cubicBezTo>
                <a:cubicBezTo>
                  <a:pt x="12846" y="8523"/>
                  <a:pt x="12854" y="8538"/>
                  <a:pt x="12849" y="8582"/>
                </a:cubicBezTo>
              </a:path>
              <a:path w="1837" h="2853">
                <a:moveTo>
                  <a:pt x="12626" y="7417"/>
                </a:moveTo>
                <a:cubicBezTo>
                  <a:pt x="12634" y="7417"/>
                  <a:pt x="12642" y="7417"/>
                  <a:pt x="12650" y="7417"/>
                </a:cubicBezTo>
              </a:path>
              <a:path w="1837" h="2853">
                <a:moveTo>
                  <a:pt x="13196" y="7764"/>
                </a:moveTo>
                <a:cubicBezTo>
                  <a:pt x="13234" y="7867"/>
                  <a:pt x="13246" y="7953"/>
                  <a:pt x="13246" y="8062"/>
                </a:cubicBezTo>
                <a:cubicBezTo>
                  <a:pt x="13246" y="8247"/>
                  <a:pt x="13241" y="8431"/>
                  <a:pt x="13271" y="8607"/>
                </a:cubicBezTo>
                <a:cubicBezTo>
                  <a:pt x="13271" y="8624"/>
                  <a:pt x="13271" y="8640"/>
                  <a:pt x="13271" y="8657"/>
                </a:cubicBezTo>
                <a:cubicBezTo>
                  <a:pt x="13245" y="8587"/>
                  <a:pt x="13246" y="8534"/>
                  <a:pt x="13246" y="8458"/>
                </a:cubicBezTo>
                <a:cubicBezTo>
                  <a:pt x="13246" y="8371"/>
                  <a:pt x="13260" y="8283"/>
                  <a:pt x="13271" y="8210"/>
                </a:cubicBezTo>
                <a:cubicBezTo>
                  <a:pt x="13283" y="8134"/>
                  <a:pt x="13271" y="8059"/>
                  <a:pt x="13295" y="7987"/>
                </a:cubicBezTo>
                <a:cubicBezTo>
                  <a:pt x="13319" y="7915"/>
                  <a:pt x="13367" y="7865"/>
                  <a:pt x="13419" y="7813"/>
                </a:cubicBezTo>
                <a:cubicBezTo>
                  <a:pt x="13464" y="7768"/>
                  <a:pt x="13478" y="7742"/>
                  <a:pt x="13543" y="7739"/>
                </a:cubicBezTo>
                <a:cubicBezTo>
                  <a:pt x="13630" y="7735"/>
                  <a:pt x="13636" y="7758"/>
                  <a:pt x="13692" y="7813"/>
                </a:cubicBezTo>
                <a:cubicBezTo>
                  <a:pt x="13760" y="7881"/>
                  <a:pt x="13764" y="7928"/>
                  <a:pt x="13791" y="8012"/>
                </a:cubicBezTo>
                <a:cubicBezTo>
                  <a:pt x="13814" y="8084"/>
                  <a:pt x="13837" y="8158"/>
                  <a:pt x="13841" y="8235"/>
                </a:cubicBezTo>
                <a:cubicBezTo>
                  <a:pt x="13845" y="8307"/>
                  <a:pt x="13863" y="8365"/>
                  <a:pt x="13866" y="8434"/>
                </a:cubicBezTo>
                <a:cubicBezTo>
                  <a:pt x="13870" y="8530"/>
                  <a:pt x="13875" y="8624"/>
                  <a:pt x="13891" y="8706"/>
                </a:cubicBezTo>
                <a:cubicBezTo>
                  <a:pt x="13891" y="8723"/>
                  <a:pt x="13891" y="8739"/>
                  <a:pt x="13891" y="8756"/>
                </a:cubicBezTo>
              </a:path>
              <a:path w="1837" h="2853">
                <a:moveTo>
                  <a:pt x="13469" y="5904"/>
                </a:moveTo>
                <a:cubicBezTo>
                  <a:pt x="13469" y="5981"/>
                  <a:pt x="13466" y="6083"/>
                  <a:pt x="13494" y="6152"/>
                </a:cubicBezTo>
                <a:cubicBezTo>
                  <a:pt x="13516" y="6205"/>
                  <a:pt x="13539" y="6263"/>
                  <a:pt x="13543" y="6325"/>
                </a:cubicBezTo>
                <a:cubicBezTo>
                  <a:pt x="13546" y="6374"/>
                  <a:pt x="13543" y="6425"/>
                  <a:pt x="13543" y="64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Ink 14"/>
          <p:cNvSpPr/>
          <p:nvPr/>
        </p:nvSpPr>
        <p:spPr>
          <a:xfrm>
            <a:off x="5232240" y="2473200"/>
            <a:ext cx="1090800" cy="669960"/>
          </a:xfrm>
          <a:custGeom>
            <a:avLst/>
            <a:gdLst/>
            <a:ahLst/>
            <a:rect l="l" t="t" r="r" b="b"/>
            <a:pathLst>
              <a:path w="3027" h="1861">
                <a:moveTo>
                  <a:pt x="14536" y="7516"/>
                </a:moveTo>
                <a:cubicBezTo>
                  <a:pt x="14610" y="7516"/>
                  <a:pt x="14664" y="7495"/>
                  <a:pt x="14734" y="7491"/>
                </a:cubicBezTo>
                <a:cubicBezTo>
                  <a:pt x="14783" y="7488"/>
                  <a:pt x="14834" y="7491"/>
                  <a:pt x="14883" y="7491"/>
                </a:cubicBezTo>
              </a:path>
              <a:path w="3027" h="1861">
                <a:moveTo>
                  <a:pt x="15329" y="7193"/>
                </a:moveTo>
                <a:cubicBezTo>
                  <a:pt x="15338" y="7257"/>
                  <a:pt x="15354" y="7296"/>
                  <a:pt x="15354" y="7367"/>
                </a:cubicBezTo>
                <a:cubicBezTo>
                  <a:pt x="15354" y="7465"/>
                  <a:pt x="15379" y="7537"/>
                  <a:pt x="15379" y="7640"/>
                </a:cubicBezTo>
                <a:cubicBezTo>
                  <a:pt x="15379" y="7718"/>
                  <a:pt x="15390" y="7707"/>
                  <a:pt x="15404" y="7764"/>
                </a:cubicBezTo>
              </a:path>
              <a:path w="3027" h="1861">
                <a:moveTo>
                  <a:pt x="15652" y="7218"/>
                </a:moveTo>
                <a:cubicBezTo>
                  <a:pt x="15652" y="7337"/>
                  <a:pt x="15664" y="7453"/>
                  <a:pt x="15677" y="7565"/>
                </a:cubicBezTo>
                <a:cubicBezTo>
                  <a:pt x="15689" y="7663"/>
                  <a:pt x="15697" y="7677"/>
                  <a:pt x="15726" y="7764"/>
                </a:cubicBezTo>
                <a:cubicBezTo>
                  <a:pt x="15726" y="7772"/>
                  <a:pt x="15726" y="7781"/>
                  <a:pt x="15726" y="7789"/>
                </a:cubicBezTo>
              </a:path>
              <a:path w="3027" h="1861">
                <a:moveTo>
                  <a:pt x="15131" y="7317"/>
                </a:moveTo>
                <a:cubicBezTo>
                  <a:pt x="15171" y="7341"/>
                  <a:pt x="15252" y="7362"/>
                  <a:pt x="15304" y="7342"/>
                </a:cubicBezTo>
                <a:cubicBezTo>
                  <a:pt x="15359" y="7320"/>
                  <a:pt x="15409" y="7230"/>
                  <a:pt x="15453" y="7193"/>
                </a:cubicBezTo>
                <a:cubicBezTo>
                  <a:pt x="15501" y="7153"/>
                  <a:pt x="15532" y="7124"/>
                  <a:pt x="15602" y="7144"/>
                </a:cubicBezTo>
                <a:cubicBezTo>
                  <a:pt x="15645" y="7156"/>
                  <a:pt x="15702" y="7205"/>
                  <a:pt x="15726" y="7243"/>
                </a:cubicBezTo>
                <a:cubicBezTo>
                  <a:pt x="15753" y="7286"/>
                  <a:pt x="15769" y="7338"/>
                  <a:pt x="15825" y="7342"/>
                </a:cubicBezTo>
                <a:cubicBezTo>
                  <a:pt x="15842" y="7342"/>
                  <a:pt x="15858" y="7342"/>
                  <a:pt x="15875" y="7342"/>
                </a:cubicBezTo>
              </a:path>
              <a:path w="3027" h="1861">
                <a:moveTo>
                  <a:pt x="16321" y="7243"/>
                </a:moveTo>
                <a:cubicBezTo>
                  <a:pt x="16312" y="7309"/>
                  <a:pt x="16279" y="7353"/>
                  <a:pt x="16247" y="7417"/>
                </a:cubicBezTo>
                <a:cubicBezTo>
                  <a:pt x="16206" y="7497"/>
                  <a:pt x="16161" y="7561"/>
                  <a:pt x="16123" y="7640"/>
                </a:cubicBezTo>
                <a:cubicBezTo>
                  <a:pt x="16083" y="7724"/>
                  <a:pt x="16038" y="7805"/>
                  <a:pt x="15999" y="7888"/>
                </a:cubicBezTo>
                <a:cubicBezTo>
                  <a:pt x="15934" y="8027"/>
                  <a:pt x="15877" y="8130"/>
                  <a:pt x="15801" y="8260"/>
                </a:cubicBezTo>
                <a:cubicBezTo>
                  <a:pt x="15763" y="8325"/>
                  <a:pt x="15747" y="8401"/>
                  <a:pt x="15701" y="8458"/>
                </a:cubicBezTo>
                <a:cubicBezTo>
                  <a:pt x="15679" y="8485"/>
                  <a:pt x="15651" y="8509"/>
                  <a:pt x="15627" y="8533"/>
                </a:cubicBezTo>
              </a:path>
              <a:path w="3027" h="1861">
                <a:moveTo>
                  <a:pt x="16321" y="7913"/>
                </a:moveTo>
                <a:cubicBezTo>
                  <a:pt x="16377" y="7880"/>
                  <a:pt x="16433" y="7874"/>
                  <a:pt x="16495" y="7913"/>
                </a:cubicBezTo>
                <a:cubicBezTo>
                  <a:pt x="16542" y="7942"/>
                  <a:pt x="16520" y="8038"/>
                  <a:pt x="16520" y="8086"/>
                </a:cubicBezTo>
                <a:cubicBezTo>
                  <a:pt x="16520" y="8144"/>
                  <a:pt x="16503" y="8217"/>
                  <a:pt x="16470" y="8260"/>
                </a:cubicBezTo>
                <a:cubicBezTo>
                  <a:pt x="16414" y="8331"/>
                  <a:pt x="16336" y="8394"/>
                  <a:pt x="16272" y="8458"/>
                </a:cubicBezTo>
                <a:cubicBezTo>
                  <a:pt x="16242" y="8488"/>
                  <a:pt x="16228" y="8499"/>
                  <a:pt x="16197" y="8508"/>
                </a:cubicBezTo>
                <a:cubicBezTo>
                  <a:pt x="16252" y="8541"/>
                  <a:pt x="16303" y="8533"/>
                  <a:pt x="16371" y="8533"/>
                </a:cubicBezTo>
                <a:cubicBezTo>
                  <a:pt x="16456" y="8533"/>
                  <a:pt x="16533" y="8508"/>
                  <a:pt x="16619" y="8508"/>
                </a:cubicBezTo>
                <a:cubicBezTo>
                  <a:pt x="16687" y="8508"/>
                  <a:pt x="16738" y="8516"/>
                  <a:pt x="16793" y="8483"/>
                </a:cubicBezTo>
              </a:path>
              <a:path w="3027" h="1861">
                <a:moveTo>
                  <a:pt x="17041" y="6871"/>
                </a:moveTo>
                <a:cubicBezTo>
                  <a:pt x="17077" y="6929"/>
                  <a:pt x="17117" y="6972"/>
                  <a:pt x="17165" y="7020"/>
                </a:cubicBezTo>
                <a:cubicBezTo>
                  <a:pt x="17221" y="7076"/>
                  <a:pt x="17245" y="7128"/>
                  <a:pt x="17289" y="7193"/>
                </a:cubicBezTo>
                <a:cubicBezTo>
                  <a:pt x="17349" y="7282"/>
                  <a:pt x="17403" y="7338"/>
                  <a:pt x="17438" y="7441"/>
                </a:cubicBezTo>
                <a:cubicBezTo>
                  <a:pt x="17469" y="7532"/>
                  <a:pt x="17514" y="7620"/>
                  <a:pt x="17537" y="7714"/>
                </a:cubicBezTo>
                <a:cubicBezTo>
                  <a:pt x="17566" y="7833"/>
                  <a:pt x="17562" y="7941"/>
                  <a:pt x="17562" y="8062"/>
                </a:cubicBezTo>
                <a:cubicBezTo>
                  <a:pt x="17562" y="8144"/>
                  <a:pt x="17561" y="8234"/>
                  <a:pt x="17537" y="8310"/>
                </a:cubicBezTo>
                <a:cubicBezTo>
                  <a:pt x="17510" y="8394"/>
                  <a:pt x="17490" y="8473"/>
                  <a:pt x="17462" y="8558"/>
                </a:cubicBezTo>
                <a:cubicBezTo>
                  <a:pt x="17441" y="8622"/>
                  <a:pt x="17398" y="8677"/>
                  <a:pt x="17363" y="87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Ink 15"/>
          <p:cNvSpPr/>
          <p:nvPr/>
        </p:nvSpPr>
        <p:spPr>
          <a:xfrm>
            <a:off x="1911240" y="3384720"/>
            <a:ext cx="4133880" cy="822240"/>
          </a:xfrm>
          <a:custGeom>
            <a:avLst/>
            <a:gdLst/>
            <a:ahLst/>
            <a:rect l="l" t="t" r="r" b="b"/>
            <a:pathLst>
              <a:path w="11486" h="2283">
                <a:moveTo>
                  <a:pt x="5383" y="10517"/>
                </a:moveTo>
                <a:cubicBezTo>
                  <a:pt x="5409" y="10471"/>
                  <a:pt x="5466" y="10388"/>
                  <a:pt x="5531" y="10393"/>
                </a:cubicBezTo>
                <a:cubicBezTo>
                  <a:pt x="5565" y="10396"/>
                  <a:pt x="5629" y="10466"/>
                  <a:pt x="5655" y="10492"/>
                </a:cubicBezTo>
                <a:cubicBezTo>
                  <a:pt x="5708" y="10545"/>
                  <a:pt x="5686" y="10676"/>
                  <a:pt x="5655" y="10740"/>
                </a:cubicBezTo>
                <a:cubicBezTo>
                  <a:pt x="5622" y="10808"/>
                  <a:pt x="5569" y="10854"/>
                  <a:pt x="5531" y="10914"/>
                </a:cubicBezTo>
                <a:cubicBezTo>
                  <a:pt x="5499" y="10965"/>
                  <a:pt x="5486" y="11027"/>
                  <a:pt x="5432" y="11063"/>
                </a:cubicBezTo>
                <a:cubicBezTo>
                  <a:pt x="5351" y="11116"/>
                  <a:pt x="5370" y="11113"/>
                  <a:pt x="5333" y="11187"/>
                </a:cubicBezTo>
                <a:cubicBezTo>
                  <a:pt x="5325" y="11195"/>
                  <a:pt x="5316" y="11204"/>
                  <a:pt x="5308" y="11212"/>
                </a:cubicBezTo>
                <a:cubicBezTo>
                  <a:pt x="5370" y="11243"/>
                  <a:pt x="5433" y="11237"/>
                  <a:pt x="5507" y="11237"/>
                </a:cubicBezTo>
                <a:cubicBezTo>
                  <a:pt x="5639" y="11237"/>
                  <a:pt x="5772" y="11237"/>
                  <a:pt x="5904" y="11237"/>
                </a:cubicBezTo>
              </a:path>
              <a:path w="11486" h="2283">
                <a:moveTo>
                  <a:pt x="6499" y="10666"/>
                </a:moveTo>
                <a:cubicBezTo>
                  <a:pt x="6489" y="10589"/>
                  <a:pt x="6467" y="10519"/>
                  <a:pt x="6400" y="10468"/>
                </a:cubicBezTo>
                <a:cubicBezTo>
                  <a:pt x="6348" y="10428"/>
                  <a:pt x="6254" y="10444"/>
                  <a:pt x="6201" y="10468"/>
                </a:cubicBezTo>
                <a:cubicBezTo>
                  <a:pt x="6130" y="10500"/>
                  <a:pt x="6142" y="10586"/>
                  <a:pt x="6176" y="10641"/>
                </a:cubicBezTo>
                <a:cubicBezTo>
                  <a:pt x="6217" y="10707"/>
                  <a:pt x="6282" y="10816"/>
                  <a:pt x="6350" y="10864"/>
                </a:cubicBezTo>
                <a:cubicBezTo>
                  <a:pt x="6422" y="10914"/>
                  <a:pt x="6424" y="10941"/>
                  <a:pt x="6474" y="11013"/>
                </a:cubicBezTo>
                <a:cubicBezTo>
                  <a:pt x="6519" y="11078"/>
                  <a:pt x="6536" y="11093"/>
                  <a:pt x="6499" y="11162"/>
                </a:cubicBezTo>
                <a:cubicBezTo>
                  <a:pt x="6450" y="11253"/>
                  <a:pt x="6399" y="11281"/>
                  <a:pt x="6300" y="11237"/>
                </a:cubicBezTo>
                <a:cubicBezTo>
                  <a:pt x="6237" y="11209"/>
                  <a:pt x="6199" y="11159"/>
                  <a:pt x="6152" y="11112"/>
                </a:cubicBezTo>
                <a:cubicBezTo>
                  <a:pt x="6106" y="11066"/>
                  <a:pt x="6102" y="11055"/>
                  <a:pt x="6102" y="10988"/>
                </a:cubicBezTo>
              </a:path>
              <a:path w="11486" h="2283">
                <a:moveTo>
                  <a:pt x="6821" y="10517"/>
                </a:moveTo>
                <a:cubicBezTo>
                  <a:pt x="6821" y="10687"/>
                  <a:pt x="6831" y="10844"/>
                  <a:pt x="6846" y="11013"/>
                </a:cubicBezTo>
                <a:cubicBezTo>
                  <a:pt x="6854" y="11102"/>
                  <a:pt x="6846" y="11196"/>
                  <a:pt x="6846" y="11286"/>
                </a:cubicBezTo>
              </a:path>
              <a:path w="11486" h="2283">
                <a:moveTo>
                  <a:pt x="6871" y="10195"/>
                </a:moveTo>
                <a:lnTo>
                  <a:pt x="6871" y="10195"/>
                </a:lnTo>
              </a:path>
              <a:path w="11486" h="2283">
                <a:moveTo>
                  <a:pt x="7218" y="10418"/>
                </a:moveTo>
                <a:cubicBezTo>
                  <a:pt x="7218" y="10498"/>
                  <a:pt x="7239" y="10539"/>
                  <a:pt x="7243" y="10616"/>
                </a:cubicBezTo>
                <a:cubicBezTo>
                  <a:pt x="7251" y="10779"/>
                  <a:pt x="7197" y="11020"/>
                  <a:pt x="7268" y="11162"/>
                </a:cubicBezTo>
                <a:cubicBezTo>
                  <a:pt x="7268" y="11261"/>
                  <a:pt x="7268" y="11063"/>
                  <a:pt x="7268" y="10964"/>
                </a:cubicBezTo>
                <a:cubicBezTo>
                  <a:pt x="7268" y="10859"/>
                  <a:pt x="7296" y="10782"/>
                  <a:pt x="7342" y="10691"/>
                </a:cubicBezTo>
                <a:cubicBezTo>
                  <a:pt x="7371" y="10633"/>
                  <a:pt x="7382" y="10562"/>
                  <a:pt x="7417" y="10517"/>
                </a:cubicBezTo>
                <a:cubicBezTo>
                  <a:pt x="7443" y="10484"/>
                  <a:pt x="7504" y="10428"/>
                  <a:pt x="7541" y="10418"/>
                </a:cubicBezTo>
                <a:cubicBezTo>
                  <a:pt x="7620" y="10397"/>
                  <a:pt x="7614" y="10403"/>
                  <a:pt x="7689" y="10443"/>
                </a:cubicBezTo>
                <a:cubicBezTo>
                  <a:pt x="7781" y="10492"/>
                  <a:pt x="7761" y="10524"/>
                  <a:pt x="7789" y="10616"/>
                </a:cubicBezTo>
                <a:cubicBezTo>
                  <a:pt x="7812" y="10691"/>
                  <a:pt x="7793" y="10767"/>
                  <a:pt x="7813" y="10840"/>
                </a:cubicBezTo>
                <a:cubicBezTo>
                  <a:pt x="7838" y="10930"/>
                  <a:pt x="7828" y="10949"/>
                  <a:pt x="7813" y="11038"/>
                </a:cubicBezTo>
                <a:cubicBezTo>
                  <a:pt x="7801" y="11107"/>
                  <a:pt x="7813" y="11191"/>
                  <a:pt x="7813" y="11261"/>
                </a:cubicBezTo>
              </a:path>
              <a:path w="11486" h="2283">
                <a:moveTo>
                  <a:pt x="8037" y="10096"/>
                </a:moveTo>
                <a:cubicBezTo>
                  <a:pt x="8149" y="10096"/>
                  <a:pt x="8263" y="10085"/>
                  <a:pt x="8359" y="10071"/>
                </a:cubicBezTo>
                <a:cubicBezTo>
                  <a:pt x="8409" y="10063"/>
                  <a:pt x="8537" y="10049"/>
                  <a:pt x="8558" y="10120"/>
                </a:cubicBezTo>
                <a:cubicBezTo>
                  <a:pt x="8566" y="10148"/>
                  <a:pt x="8544" y="10290"/>
                  <a:pt x="8533" y="10319"/>
                </a:cubicBezTo>
                <a:cubicBezTo>
                  <a:pt x="8521" y="10350"/>
                  <a:pt x="8464" y="10484"/>
                  <a:pt x="8483" y="10517"/>
                </a:cubicBezTo>
                <a:cubicBezTo>
                  <a:pt x="8491" y="10517"/>
                  <a:pt x="8500" y="10517"/>
                  <a:pt x="8508" y="10517"/>
                </a:cubicBezTo>
              </a:path>
              <a:path w="11486" h="2283">
                <a:moveTo>
                  <a:pt x="8930" y="10195"/>
                </a:moveTo>
                <a:cubicBezTo>
                  <a:pt x="8930" y="10324"/>
                  <a:pt x="8900" y="10506"/>
                  <a:pt x="8954" y="10616"/>
                </a:cubicBezTo>
              </a:path>
              <a:path w="11486" h="2283">
                <a:moveTo>
                  <a:pt x="9227" y="10145"/>
                </a:moveTo>
                <a:cubicBezTo>
                  <a:pt x="9248" y="10251"/>
                  <a:pt x="9272" y="10360"/>
                  <a:pt x="9277" y="10468"/>
                </a:cubicBezTo>
                <a:cubicBezTo>
                  <a:pt x="9280" y="10531"/>
                  <a:pt x="9302" y="10576"/>
                  <a:pt x="9302" y="10641"/>
                </a:cubicBezTo>
              </a:path>
              <a:path w="11486" h="2283">
                <a:moveTo>
                  <a:pt x="8905" y="10269"/>
                </a:moveTo>
                <a:cubicBezTo>
                  <a:pt x="8953" y="10288"/>
                  <a:pt x="8993" y="10276"/>
                  <a:pt x="9029" y="10220"/>
                </a:cubicBezTo>
                <a:cubicBezTo>
                  <a:pt x="9063" y="10168"/>
                  <a:pt x="9097" y="10095"/>
                  <a:pt x="9178" y="10120"/>
                </a:cubicBezTo>
                <a:cubicBezTo>
                  <a:pt x="9212" y="10130"/>
                  <a:pt x="9270" y="10242"/>
                  <a:pt x="9302" y="10269"/>
                </a:cubicBezTo>
                <a:cubicBezTo>
                  <a:pt x="9310" y="10277"/>
                  <a:pt x="9319" y="10286"/>
                  <a:pt x="9327" y="10294"/>
                </a:cubicBezTo>
              </a:path>
              <a:path w="11486" h="2283">
                <a:moveTo>
                  <a:pt x="9847" y="10071"/>
                </a:moveTo>
                <a:cubicBezTo>
                  <a:pt x="9800" y="10131"/>
                  <a:pt x="9795" y="10178"/>
                  <a:pt x="9773" y="10244"/>
                </a:cubicBezTo>
                <a:cubicBezTo>
                  <a:pt x="9752" y="10307"/>
                  <a:pt x="9727" y="10354"/>
                  <a:pt x="9723" y="10418"/>
                </a:cubicBezTo>
                <a:cubicBezTo>
                  <a:pt x="9718" y="10498"/>
                  <a:pt x="9684" y="10584"/>
                  <a:pt x="9674" y="10666"/>
                </a:cubicBezTo>
                <a:cubicBezTo>
                  <a:pt x="9662" y="10772"/>
                  <a:pt x="9630" y="10819"/>
                  <a:pt x="9575" y="10914"/>
                </a:cubicBezTo>
                <a:cubicBezTo>
                  <a:pt x="9548" y="10961"/>
                  <a:pt x="9512" y="11058"/>
                  <a:pt x="9500" y="11112"/>
                </a:cubicBezTo>
                <a:cubicBezTo>
                  <a:pt x="9482" y="11191"/>
                  <a:pt x="9490" y="11212"/>
                  <a:pt x="9451" y="11286"/>
                </a:cubicBezTo>
                <a:cubicBezTo>
                  <a:pt x="9426" y="11334"/>
                  <a:pt x="9410" y="11415"/>
                  <a:pt x="9401" y="11460"/>
                </a:cubicBezTo>
                <a:cubicBezTo>
                  <a:pt x="9390" y="11515"/>
                  <a:pt x="9367" y="11555"/>
                  <a:pt x="9351" y="11584"/>
                </a:cubicBezTo>
              </a:path>
              <a:path w="11486" h="2283">
                <a:moveTo>
                  <a:pt x="10071" y="10815"/>
                </a:moveTo>
                <a:cubicBezTo>
                  <a:pt x="10071" y="11028"/>
                  <a:pt x="10016" y="11340"/>
                  <a:pt x="10096" y="11534"/>
                </a:cubicBezTo>
                <a:cubicBezTo>
                  <a:pt x="10141" y="11644"/>
                  <a:pt x="10215" y="11599"/>
                  <a:pt x="10294" y="11559"/>
                </a:cubicBezTo>
                <a:cubicBezTo>
                  <a:pt x="10355" y="11528"/>
                  <a:pt x="10447" y="11486"/>
                  <a:pt x="10468" y="11410"/>
                </a:cubicBezTo>
                <a:cubicBezTo>
                  <a:pt x="10492" y="11322"/>
                  <a:pt x="10520" y="11253"/>
                  <a:pt x="10492" y="11162"/>
                </a:cubicBezTo>
                <a:cubicBezTo>
                  <a:pt x="10468" y="11084"/>
                  <a:pt x="10431" y="11039"/>
                  <a:pt x="10344" y="11063"/>
                </a:cubicBezTo>
                <a:cubicBezTo>
                  <a:pt x="10257" y="11087"/>
                  <a:pt x="10272" y="11128"/>
                  <a:pt x="10244" y="11187"/>
                </a:cubicBezTo>
                <a:cubicBezTo>
                  <a:pt x="10201" y="11276"/>
                  <a:pt x="10211" y="11304"/>
                  <a:pt x="10220" y="11410"/>
                </a:cubicBezTo>
                <a:cubicBezTo>
                  <a:pt x="10225" y="11464"/>
                  <a:pt x="10237" y="11505"/>
                  <a:pt x="10244" y="11559"/>
                </a:cubicBezTo>
              </a:path>
              <a:path w="11486" h="2283">
                <a:moveTo>
                  <a:pt x="11013" y="10468"/>
                </a:moveTo>
                <a:cubicBezTo>
                  <a:pt x="11013" y="10683"/>
                  <a:pt x="11013" y="10897"/>
                  <a:pt x="11013" y="11112"/>
                </a:cubicBezTo>
              </a:path>
              <a:path w="11486" h="2283">
                <a:moveTo>
                  <a:pt x="10840" y="10716"/>
                </a:moveTo>
                <a:cubicBezTo>
                  <a:pt x="10995" y="10716"/>
                  <a:pt x="11283" y="10768"/>
                  <a:pt x="11410" y="10691"/>
                </a:cubicBezTo>
              </a:path>
              <a:path w="11486" h="2283">
                <a:moveTo>
                  <a:pt x="12129" y="10542"/>
                </a:moveTo>
                <a:cubicBezTo>
                  <a:pt x="12121" y="10487"/>
                  <a:pt x="12107" y="10452"/>
                  <a:pt x="12055" y="10418"/>
                </a:cubicBezTo>
                <a:cubicBezTo>
                  <a:pt x="11975" y="10367"/>
                  <a:pt x="11962" y="10378"/>
                  <a:pt x="11881" y="10393"/>
                </a:cubicBezTo>
                <a:cubicBezTo>
                  <a:pt x="11815" y="10406"/>
                  <a:pt x="11767" y="10429"/>
                  <a:pt x="11782" y="10517"/>
                </a:cubicBezTo>
                <a:cubicBezTo>
                  <a:pt x="11801" y="10624"/>
                  <a:pt x="11896" y="10659"/>
                  <a:pt x="11956" y="10740"/>
                </a:cubicBezTo>
                <a:cubicBezTo>
                  <a:pt x="11993" y="10790"/>
                  <a:pt x="12023" y="10861"/>
                  <a:pt x="12055" y="10914"/>
                </a:cubicBezTo>
                <a:cubicBezTo>
                  <a:pt x="12089" y="10970"/>
                  <a:pt x="12140" y="11053"/>
                  <a:pt x="12080" y="11112"/>
                </a:cubicBezTo>
                <a:cubicBezTo>
                  <a:pt x="12032" y="11160"/>
                  <a:pt x="11947" y="11178"/>
                  <a:pt x="11881" y="11162"/>
                </a:cubicBezTo>
                <a:cubicBezTo>
                  <a:pt x="11806" y="11144"/>
                  <a:pt x="11775" y="11067"/>
                  <a:pt x="11733" y="11013"/>
                </a:cubicBezTo>
              </a:path>
              <a:path w="11486" h="2283">
                <a:moveTo>
                  <a:pt x="12378" y="10443"/>
                </a:moveTo>
                <a:cubicBezTo>
                  <a:pt x="12378" y="10524"/>
                  <a:pt x="12398" y="10586"/>
                  <a:pt x="12402" y="10666"/>
                </a:cubicBezTo>
                <a:cubicBezTo>
                  <a:pt x="12406" y="10751"/>
                  <a:pt x="12427" y="10826"/>
                  <a:pt x="12427" y="10914"/>
                </a:cubicBezTo>
                <a:cubicBezTo>
                  <a:pt x="12427" y="11000"/>
                  <a:pt x="12464" y="11058"/>
                  <a:pt x="12477" y="11137"/>
                </a:cubicBezTo>
                <a:cubicBezTo>
                  <a:pt x="12484" y="11178"/>
                  <a:pt x="12475" y="11296"/>
                  <a:pt x="12502" y="11187"/>
                </a:cubicBezTo>
              </a:path>
              <a:path w="11486" h="2283">
                <a:moveTo>
                  <a:pt x="12328" y="10096"/>
                </a:moveTo>
                <a:lnTo>
                  <a:pt x="12328" y="10096"/>
                </a:lnTo>
              </a:path>
              <a:path w="11486" h="2283">
                <a:moveTo>
                  <a:pt x="12700" y="10468"/>
                </a:moveTo>
                <a:cubicBezTo>
                  <a:pt x="12708" y="10528"/>
                  <a:pt x="12709" y="10608"/>
                  <a:pt x="12725" y="10666"/>
                </a:cubicBezTo>
                <a:cubicBezTo>
                  <a:pt x="12750" y="10757"/>
                  <a:pt x="12754" y="10849"/>
                  <a:pt x="12774" y="10939"/>
                </a:cubicBezTo>
                <a:cubicBezTo>
                  <a:pt x="12789" y="11007"/>
                  <a:pt x="12803" y="11077"/>
                  <a:pt x="12824" y="11137"/>
                </a:cubicBezTo>
                <a:cubicBezTo>
                  <a:pt x="12846" y="11181"/>
                  <a:pt x="12859" y="11193"/>
                  <a:pt x="12824" y="11212"/>
                </a:cubicBezTo>
                <a:cubicBezTo>
                  <a:pt x="12824" y="11036"/>
                  <a:pt x="12795" y="10835"/>
                  <a:pt x="12849" y="10666"/>
                </a:cubicBezTo>
                <a:cubicBezTo>
                  <a:pt x="12873" y="10593"/>
                  <a:pt x="12875" y="10532"/>
                  <a:pt x="12923" y="10468"/>
                </a:cubicBezTo>
                <a:cubicBezTo>
                  <a:pt x="12961" y="10418"/>
                  <a:pt x="12988" y="10380"/>
                  <a:pt x="13047" y="10368"/>
                </a:cubicBezTo>
                <a:cubicBezTo>
                  <a:pt x="13105" y="10356"/>
                  <a:pt x="13165" y="10396"/>
                  <a:pt x="13196" y="10443"/>
                </a:cubicBezTo>
                <a:cubicBezTo>
                  <a:pt x="13243" y="10515"/>
                  <a:pt x="13286" y="10579"/>
                  <a:pt x="13295" y="10666"/>
                </a:cubicBezTo>
                <a:cubicBezTo>
                  <a:pt x="13303" y="10743"/>
                  <a:pt x="13320" y="10807"/>
                  <a:pt x="13320" y="10889"/>
                </a:cubicBezTo>
                <a:cubicBezTo>
                  <a:pt x="13320" y="11000"/>
                  <a:pt x="13286" y="11165"/>
                  <a:pt x="13345" y="11261"/>
                </a:cubicBezTo>
                <a:cubicBezTo>
                  <a:pt x="13353" y="11269"/>
                  <a:pt x="13362" y="11278"/>
                  <a:pt x="13370" y="11286"/>
                </a:cubicBezTo>
              </a:path>
              <a:path w="11486" h="2283">
                <a:moveTo>
                  <a:pt x="13667" y="10046"/>
                </a:moveTo>
                <a:cubicBezTo>
                  <a:pt x="13783" y="10046"/>
                  <a:pt x="13899" y="10046"/>
                  <a:pt x="14015" y="10046"/>
                </a:cubicBezTo>
              </a:path>
              <a:path w="11486" h="2283">
                <a:moveTo>
                  <a:pt x="14362" y="9872"/>
                </a:moveTo>
                <a:cubicBezTo>
                  <a:pt x="14398" y="9932"/>
                  <a:pt x="14368" y="9979"/>
                  <a:pt x="14387" y="10046"/>
                </a:cubicBezTo>
                <a:cubicBezTo>
                  <a:pt x="14407" y="10117"/>
                  <a:pt x="14391" y="10200"/>
                  <a:pt x="14412" y="10269"/>
                </a:cubicBezTo>
                <a:cubicBezTo>
                  <a:pt x="14420" y="10277"/>
                  <a:pt x="14428" y="10286"/>
                  <a:pt x="14436" y="10294"/>
                </a:cubicBezTo>
              </a:path>
              <a:path w="11486" h="2283">
                <a:moveTo>
                  <a:pt x="14635" y="9847"/>
                </a:moveTo>
                <a:cubicBezTo>
                  <a:pt x="14657" y="9928"/>
                  <a:pt x="14660" y="9987"/>
                  <a:pt x="14660" y="10071"/>
                </a:cubicBezTo>
                <a:cubicBezTo>
                  <a:pt x="14660" y="10140"/>
                  <a:pt x="14684" y="10197"/>
                  <a:pt x="14684" y="10269"/>
                </a:cubicBezTo>
                <a:cubicBezTo>
                  <a:pt x="14684" y="10314"/>
                  <a:pt x="14681" y="10327"/>
                  <a:pt x="14709" y="10344"/>
                </a:cubicBezTo>
              </a:path>
              <a:path w="11486" h="2283">
                <a:moveTo>
                  <a:pt x="14263" y="9872"/>
                </a:moveTo>
                <a:cubicBezTo>
                  <a:pt x="14300" y="9937"/>
                  <a:pt x="14327" y="9971"/>
                  <a:pt x="14412" y="9947"/>
                </a:cubicBezTo>
                <a:cubicBezTo>
                  <a:pt x="14469" y="9931"/>
                  <a:pt x="14538" y="9882"/>
                  <a:pt x="14585" y="9847"/>
                </a:cubicBezTo>
                <a:cubicBezTo>
                  <a:pt x="14641" y="9805"/>
                  <a:pt x="14680" y="9831"/>
                  <a:pt x="14734" y="9872"/>
                </a:cubicBezTo>
                <a:cubicBezTo>
                  <a:pt x="14785" y="9910"/>
                  <a:pt x="14765" y="9912"/>
                  <a:pt x="14833" y="9922"/>
                </a:cubicBezTo>
              </a:path>
              <a:path w="11486" h="2283">
                <a:moveTo>
                  <a:pt x="15180" y="9674"/>
                </a:moveTo>
                <a:cubicBezTo>
                  <a:pt x="15180" y="9769"/>
                  <a:pt x="15168" y="9866"/>
                  <a:pt x="15156" y="9947"/>
                </a:cubicBezTo>
                <a:cubicBezTo>
                  <a:pt x="15142" y="10041"/>
                  <a:pt x="15135" y="10128"/>
                  <a:pt x="15106" y="10220"/>
                </a:cubicBezTo>
                <a:cubicBezTo>
                  <a:pt x="15075" y="10320"/>
                  <a:pt x="15058" y="10419"/>
                  <a:pt x="15032" y="10517"/>
                </a:cubicBezTo>
                <a:cubicBezTo>
                  <a:pt x="15006" y="10616"/>
                  <a:pt x="14986" y="10717"/>
                  <a:pt x="14957" y="10815"/>
                </a:cubicBezTo>
                <a:cubicBezTo>
                  <a:pt x="14925" y="10922"/>
                  <a:pt x="14876" y="11027"/>
                  <a:pt x="14858" y="11137"/>
                </a:cubicBezTo>
                <a:cubicBezTo>
                  <a:pt x="14848" y="11198"/>
                  <a:pt x="14839" y="11249"/>
                  <a:pt x="14833" y="11311"/>
                </a:cubicBezTo>
              </a:path>
              <a:path w="11486" h="2283">
                <a:moveTo>
                  <a:pt x="15304" y="10691"/>
                </a:moveTo>
                <a:cubicBezTo>
                  <a:pt x="15360" y="10635"/>
                  <a:pt x="15399" y="10576"/>
                  <a:pt x="15478" y="10567"/>
                </a:cubicBezTo>
                <a:cubicBezTo>
                  <a:pt x="15522" y="10562"/>
                  <a:pt x="15612" y="10589"/>
                  <a:pt x="15627" y="10641"/>
                </a:cubicBezTo>
                <a:cubicBezTo>
                  <a:pt x="15645" y="10703"/>
                  <a:pt x="15626" y="10792"/>
                  <a:pt x="15602" y="10840"/>
                </a:cubicBezTo>
                <a:cubicBezTo>
                  <a:pt x="15567" y="10908"/>
                  <a:pt x="15569" y="10970"/>
                  <a:pt x="15528" y="11038"/>
                </a:cubicBezTo>
                <a:cubicBezTo>
                  <a:pt x="15484" y="11111"/>
                  <a:pt x="15390" y="11176"/>
                  <a:pt x="15329" y="11237"/>
                </a:cubicBezTo>
                <a:cubicBezTo>
                  <a:pt x="15408" y="11237"/>
                  <a:pt x="15476" y="11257"/>
                  <a:pt x="15553" y="11261"/>
                </a:cubicBezTo>
                <a:cubicBezTo>
                  <a:pt x="15626" y="11265"/>
                  <a:pt x="15683" y="11275"/>
                  <a:pt x="15751" y="11286"/>
                </a:cubicBezTo>
                <a:cubicBezTo>
                  <a:pt x="15815" y="11297"/>
                  <a:pt x="15883" y="11300"/>
                  <a:pt x="15850" y="11237"/>
                </a:cubicBezTo>
              </a:path>
              <a:path w="11486" h="2283">
                <a:moveTo>
                  <a:pt x="11237" y="10021"/>
                </a:moveTo>
                <a:cubicBezTo>
                  <a:pt x="11306" y="10021"/>
                  <a:pt x="11382" y="10003"/>
                  <a:pt x="11435" y="10046"/>
                </a:cubicBezTo>
                <a:cubicBezTo>
                  <a:pt x="11476" y="10079"/>
                  <a:pt x="11514" y="10121"/>
                  <a:pt x="11534" y="10170"/>
                </a:cubicBezTo>
                <a:cubicBezTo>
                  <a:pt x="11571" y="10259"/>
                  <a:pt x="11559" y="10349"/>
                  <a:pt x="11559" y="10443"/>
                </a:cubicBezTo>
                <a:cubicBezTo>
                  <a:pt x="11559" y="10535"/>
                  <a:pt x="11568" y="10613"/>
                  <a:pt x="11559" y="10691"/>
                </a:cubicBezTo>
                <a:cubicBezTo>
                  <a:pt x="11551" y="10761"/>
                  <a:pt x="11563" y="10816"/>
                  <a:pt x="11559" y="10889"/>
                </a:cubicBezTo>
                <a:cubicBezTo>
                  <a:pt x="11555" y="10965"/>
                  <a:pt x="11566" y="11018"/>
                  <a:pt x="11534" y="11088"/>
                </a:cubicBezTo>
                <a:cubicBezTo>
                  <a:pt x="11504" y="11155"/>
                  <a:pt x="11451" y="11240"/>
                  <a:pt x="11435" y="11311"/>
                </a:cubicBezTo>
                <a:cubicBezTo>
                  <a:pt x="11435" y="11363"/>
                  <a:pt x="11434" y="11381"/>
                  <a:pt x="11410" y="11410"/>
                </a:cubicBezTo>
                <a:cubicBezTo>
                  <a:pt x="11465" y="11443"/>
                  <a:pt x="11516" y="11435"/>
                  <a:pt x="11584" y="11435"/>
                </a:cubicBezTo>
                <a:cubicBezTo>
                  <a:pt x="11653" y="11435"/>
                  <a:pt x="11709" y="11460"/>
                  <a:pt x="11782" y="11460"/>
                </a:cubicBezTo>
                <a:cubicBezTo>
                  <a:pt x="11790" y="11460"/>
                  <a:pt x="11799" y="11460"/>
                  <a:pt x="11807" y="11460"/>
                </a:cubicBezTo>
              </a:path>
              <a:path w="11486" h="2283">
                <a:moveTo>
                  <a:pt x="13692" y="9525"/>
                </a:moveTo>
                <a:cubicBezTo>
                  <a:pt x="13634" y="9607"/>
                  <a:pt x="13568" y="9686"/>
                  <a:pt x="13519" y="9773"/>
                </a:cubicBezTo>
                <a:cubicBezTo>
                  <a:pt x="13462" y="9874"/>
                  <a:pt x="13444" y="9956"/>
                  <a:pt x="13444" y="10071"/>
                </a:cubicBezTo>
                <a:cubicBezTo>
                  <a:pt x="13444" y="10167"/>
                  <a:pt x="13460" y="10256"/>
                  <a:pt x="13469" y="10344"/>
                </a:cubicBezTo>
                <a:cubicBezTo>
                  <a:pt x="13480" y="10447"/>
                  <a:pt x="13508" y="10539"/>
                  <a:pt x="13519" y="10641"/>
                </a:cubicBezTo>
                <a:cubicBezTo>
                  <a:pt x="13531" y="10747"/>
                  <a:pt x="13558" y="10836"/>
                  <a:pt x="13593" y="10939"/>
                </a:cubicBezTo>
                <a:cubicBezTo>
                  <a:pt x="13627" y="11039"/>
                  <a:pt x="13658" y="11138"/>
                  <a:pt x="13692" y="11237"/>
                </a:cubicBezTo>
                <a:cubicBezTo>
                  <a:pt x="13727" y="11337"/>
                  <a:pt x="13767" y="11383"/>
                  <a:pt x="13791" y="11485"/>
                </a:cubicBezTo>
                <a:cubicBezTo>
                  <a:pt x="13806" y="11551"/>
                  <a:pt x="13835" y="11581"/>
                  <a:pt x="13866" y="11633"/>
                </a:cubicBezTo>
              </a:path>
              <a:path w="11486" h="2283">
                <a:moveTo>
                  <a:pt x="15974" y="9401"/>
                </a:moveTo>
                <a:cubicBezTo>
                  <a:pt x="16058" y="9447"/>
                  <a:pt x="16064" y="9471"/>
                  <a:pt x="16123" y="9525"/>
                </a:cubicBezTo>
                <a:cubicBezTo>
                  <a:pt x="16174" y="9572"/>
                  <a:pt x="16241" y="9631"/>
                  <a:pt x="16297" y="9674"/>
                </a:cubicBezTo>
                <a:cubicBezTo>
                  <a:pt x="16374" y="9733"/>
                  <a:pt x="16424" y="9809"/>
                  <a:pt x="16495" y="9872"/>
                </a:cubicBezTo>
                <a:cubicBezTo>
                  <a:pt x="16581" y="9948"/>
                  <a:pt x="16617" y="9987"/>
                  <a:pt x="16669" y="10096"/>
                </a:cubicBezTo>
                <a:cubicBezTo>
                  <a:pt x="16739" y="10244"/>
                  <a:pt x="16790" y="10352"/>
                  <a:pt x="16793" y="10517"/>
                </a:cubicBezTo>
                <a:cubicBezTo>
                  <a:pt x="16796" y="10687"/>
                  <a:pt x="16790" y="10825"/>
                  <a:pt x="16743" y="10988"/>
                </a:cubicBezTo>
                <a:cubicBezTo>
                  <a:pt x="16707" y="11111"/>
                  <a:pt x="16709" y="11236"/>
                  <a:pt x="16669" y="11361"/>
                </a:cubicBezTo>
                <a:cubicBezTo>
                  <a:pt x="16650" y="11421"/>
                  <a:pt x="16626" y="11506"/>
                  <a:pt x="16619" y="11559"/>
                </a:cubicBezTo>
                <a:cubicBezTo>
                  <a:pt x="16613" y="11604"/>
                  <a:pt x="16606" y="11640"/>
                  <a:pt x="16594" y="116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Write as a product: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sin x + sin 7x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0" name="Ink 5"/>
          <p:cNvSpPr/>
          <p:nvPr/>
        </p:nvSpPr>
        <p:spPr>
          <a:xfrm>
            <a:off x="2562120" y="2482920"/>
            <a:ext cx="3849840" cy="704880"/>
          </a:xfrm>
          <a:custGeom>
            <a:avLst/>
            <a:gdLst/>
            <a:ahLst/>
            <a:rect l="l" t="t" r="r" b="b"/>
            <a:pathLst>
              <a:path w="10692" h="1960">
                <a:moveTo>
                  <a:pt x="7193" y="7888"/>
                </a:moveTo>
                <a:cubicBezTo>
                  <a:pt x="7170" y="7828"/>
                  <a:pt x="7194" y="7812"/>
                  <a:pt x="7243" y="7764"/>
                </a:cubicBezTo>
                <a:cubicBezTo>
                  <a:pt x="7295" y="7712"/>
                  <a:pt x="7358" y="7732"/>
                  <a:pt x="7417" y="7739"/>
                </a:cubicBezTo>
                <a:cubicBezTo>
                  <a:pt x="7519" y="7750"/>
                  <a:pt x="7540" y="7767"/>
                  <a:pt x="7516" y="7863"/>
                </a:cubicBezTo>
                <a:cubicBezTo>
                  <a:pt x="7491" y="7961"/>
                  <a:pt x="7462" y="8046"/>
                  <a:pt x="7417" y="8136"/>
                </a:cubicBezTo>
                <a:cubicBezTo>
                  <a:pt x="7380" y="8211"/>
                  <a:pt x="7350" y="8273"/>
                  <a:pt x="7293" y="8334"/>
                </a:cubicBezTo>
                <a:cubicBezTo>
                  <a:pt x="7232" y="8399"/>
                  <a:pt x="7218" y="8435"/>
                  <a:pt x="7193" y="8508"/>
                </a:cubicBezTo>
                <a:cubicBezTo>
                  <a:pt x="7177" y="8556"/>
                  <a:pt x="7150" y="8594"/>
                  <a:pt x="7119" y="8632"/>
                </a:cubicBezTo>
                <a:cubicBezTo>
                  <a:pt x="7190" y="8703"/>
                  <a:pt x="7231" y="8682"/>
                  <a:pt x="7342" y="8682"/>
                </a:cubicBezTo>
                <a:cubicBezTo>
                  <a:pt x="7440" y="8682"/>
                  <a:pt x="7521" y="8661"/>
                  <a:pt x="7615" y="8657"/>
                </a:cubicBezTo>
                <a:cubicBezTo>
                  <a:pt x="7689" y="8654"/>
                  <a:pt x="7722" y="8663"/>
                  <a:pt x="7739" y="8731"/>
                </a:cubicBezTo>
              </a:path>
              <a:path w="10692" h="1960">
                <a:moveTo>
                  <a:pt x="8359" y="8111"/>
                </a:moveTo>
                <a:cubicBezTo>
                  <a:pt x="8345" y="8013"/>
                  <a:pt x="8305" y="8037"/>
                  <a:pt x="8210" y="8037"/>
                </a:cubicBezTo>
                <a:cubicBezTo>
                  <a:pt x="8159" y="8037"/>
                  <a:pt x="8083" y="8058"/>
                  <a:pt x="8037" y="8086"/>
                </a:cubicBezTo>
                <a:cubicBezTo>
                  <a:pt x="7990" y="8115"/>
                  <a:pt x="7994" y="8138"/>
                  <a:pt x="7987" y="8186"/>
                </a:cubicBezTo>
                <a:cubicBezTo>
                  <a:pt x="8059" y="8221"/>
                  <a:pt x="8130" y="8249"/>
                  <a:pt x="8210" y="8260"/>
                </a:cubicBezTo>
                <a:cubicBezTo>
                  <a:pt x="8313" y="8275"/>
                  <a:pt x="8325" y="8282"/>
                  <a:pt x="8384" y="8359"/>
                </a:cubicBezTo>
                <a:cubicBezTo>
                  <a:pt x="8421" y="8408"/>
                  <a:pt x="8487" y="8433"/>
                  <a:pt x="8483" y="8508"/>
                </a:cubicBezTo>
                <a:cubicBezTo>
                  <a:pt x="8481" y="8549"/>
                  <a:pt x="8409" y="8629"/>
                  <a:pt x="8384" y="8657"/>
                </a:cubicBezTo>
                <a:cubicBezTo>
                  <a:pt x="8334" y="8712"/>
                  <a:pt x="8302" y="8713"/>
                  <a:pt x="8235" y="8731"/>
                </a:cubicBezTo>
                <a:cubicBezTo>
                  <a:pt x="8138" y="8756"/>
                  <a:pt x="8100" y="8756"/>
                  <a:pt x="8086" y="8657"/>
                </a:cubicBezTo>
              </a:path>
              <a:path w="10692" h="1960">
                <a:moveTo>
                  <a:pt x="8607" y="8086"/>
                </a:moveTo>
                <a:cubicBezTo>
                  <a:pt x="8628" y="8169"/>
                  <a:pt x="8652" y="8251"/>
                  <a:pt x="8657" y="8334"/>
                </a:cubicBezTo>
                <a:cubicBezTo>
                  <a:pt x="8661" y="8406"/>
                  <a:pt x="8680" y="8464"/>
                  <a:pt x="8682" y="8533"/>
                </a:cubicBezTo>
                <a:cubicBezTo>
                  <a:pt x="8682" y="8542"/>
                  <a:pt x="8693" y="8733"/>
                  <a:pt x="8731" y="8657"/>
                </a:cubicBezTo>
              </a:path>
              <a:path w="10692" h="1960">
                <a:moveTo>
                  <a:pt x="8706" y="7789"/>
                </a:moveTo>
                <a:cubicBezTo>
                  <a:pt x="8729" y="7766"/>
                  <a:pt x="8737" y="7762"/>
                  <a:pt x="8731" y="7739"/>
                </a:cubicBezTo>
              </a:path>
              <a:path w="10692" h="1960">
                <a:moveTo>
                  <a:pt x="8855" y="8037"/>
                </a:moveTo>
                <a:cubicBezTo>
                  <a:pt x="8878" y="8120"/>
                  <a:pt x="8882" y="8206"/>
                  <a:pt x="8905" y="8285"/>
                </a:cubicBezTo>
                <a:cubicBezTo>
                  <a:pt x="8927" y="8362"/>
                  <a:pt x="8930" y="8424"/>
                  <a:pt x="8930" y="8508"/>
                </a:cubicBezTo>
                <a:cubicBezTo>
                  <a:pt x="8930" y="8558"/>
                  <a:pt x="8930" y="8574"/>
                  <a:pt x="8930" y="8607"/>
                </a:cubicBezTo>
                <a:cubicBezTo>
                  <a:pt x="8971" y="8628"/>
                  <a:pt x="8930" y="8552"/>
                  <a:pt x="8930" y="8483"/>
                </a:cubicBezTo>
                <a:cubicBezTo>
                  <a:pt x="8930" y="8342"/>
                  <a:pt x="8958" y="8297"/>
                  <a:pt x="9029" y="8210"/>
                </a:cubicBezTo>
                <a:cubicBezTo>
                  <a:pt x="9081" y="8146"/>
                  <a:pt x="9106" y="8080"/>
                  <a:pt x="9178" y="8037"/>
                </a:cubicBezTo>
                <a:cubicBezTo>
                  <a:pt x="9238" y="8001"/>
                  <a:pt x="9340" y="7882"/>
                  <a:pt x="9426" y="7938"/>
                </a:cubicBezTo>
                <a:cubicBezTo>
                  <a:pt x="9531" y="8007"/>
                  <a:pt x="9510" y="8116"/>
                  <a:pt x="9550" y="8210"/>
                </a:cubicBezTo>
                <a:cubicBezTo>
                  <a:pt x="9585" y="8292"/>
                  <a:pt x="9620" y="8369"/>
                  <a:pt x="9624" y="8458"/>
                </a:cubicBezTo>
                <a:cubicBezTo>
                  <a:pt x="9628" y="8560"/>
                  <a:pt x="9649" y="8651"/>
                  <a:pt x="9649" y="8756"/>
                </a:cubicBezTo>
                <a:cubicBezTo>
                  <a:pt x="9649" y="8819"/>
                  <a:pt x="9615" y="8917"/>
                  <a:pt x="9674" y="8781"/>
                </a:cubicBezTo>
              </a:path>
              <a:path w="10692" h="1960">
                <a:moveTo>
                  <a:pt x="10170" y="7342"/>
                </a:moveTo>
                <a:cubicBezTo>
                  <a:pt x="10126" y="7448"/>
                  <a:pt x="10109" y="7537"/>
                  <a:pt x="10071" y="7640"/>
                </a:cubicBezTo>
                <a:cubicBezTo>
                  <a:pt x="10023" y="7772"/>
                  <a:pt x="9987" y="7903"/>
                  <a:pt x="9947" y="8037"/>
                </a:cubicBezTo>
                <a:cubicBezTo>
                  <a:pt x="9922" y="8119"/>
                  <a:pt x="9904" y="8223"/>
                  <a:pt x="9922" y="8310"/>
                </a:cubicBezTo>
                <a:cubicBezTo>
                  <a:pt x="9942" y="8405"/>
                  <a:pt x="10006" y="8474"/>
                  <a:pt x="10046" y="8558"/>
                </a:cubicBezTo>
                <a:cubicBezTo>
                  <a:pt x="10084" y="8637"/>
                  <a:pt x="10179" y="8671"/>
                  <a:pt x="10244" y="8731"/>
                </a:cubicBezTo>
                <a:cubicBezTo>
                  <a:pt x="10299" y="8782"/>
                  <a:pt x="10269" y="8777"/>
                  <a:pt x="10344" y="8756"/>
                </a:cubicBezTo>
              </a:path>
              <a:path w="10692" h="1960">
                <a:moveTo>
                  <a:pt x="10641" y="7293"/>
                </a:moveTo>
                <a:cubicBezTo>
                  <a:pt x="10631" y="7372"/>
                  <a:pt x="10616" y="7432"/>
                  <a:pt x="10616" y="7516"/>
                </a:cubicBezTo>
                <a:cubicBezTo>
                  <a:pt x="10616" y="7597"/>
                  <a:pt x="10595" y="7659"/>
                  <a:pt x="10592" y="7739"/>
                </a:cubicBezTo>
                <a:cubicBezTo>
                  <a:pt x="10590" y="7802"/>
                  <a:pt x="10580" y="7838"/>
                  <a:pt x="10616" y="7863"/>
                </a:cubicBezTo>
              </a:path>
              <a:path w="10692" h="1960">
                <a:moveTo>
                  <a:pt x="11088" y="7293"/>
                </a:moveTo>
                <a:cubicBezTo>
                  <a:pt x="11088" y="7367"/>
                  <a:pt x="11075" y="7431"/>
                  <a:pt x="11063" y="7491"/>
                </a:cubicBezTo>
                <a:cubicBezTo>
                  <a:pt x="11047" y="7571"/>
                  <a:pt x="11049" y="7700"/>
                  <a:pt x="11088" y="7764"/>
                </a:cubicBezTo>
              </a:path>
              <a:path w="10692" h="1960">
                <a:moveTo>
                  <a:pt x="10939" y="7516"/>
                </a:moveTo>
                <a:cubicBezTo>
                  <a:pt x="11031" y="7516"/>
                  <a:pt x="11109" y="7514"/>
                  <a:pt x="11187" y="7491"/>
                </a:cubicBezTo>
                <a:cubicBezTo>
                  <a:pt x="11195" y="7491"/>
                  <a:pt x="11204" y="7491"/>
                  <a:pt x="11212" y="7491"/>
                </a:cubicBezTo>
              </a:path>
              <a:path w="10692" h="1960">
                <a:moveTo>
                  <a:pt x="11361" y="7293"/>
                </a:moveTo>
                <a:cubicBezTo>
                  <a:pt x="11439" y="7274"/>
                  <a:pt x="11539" y="7232"/>
                  <a:pt x="11609" y="7218"/>
                </a:cubicBezTo>
                <a:cubicBezTo>
                  <a:pt x="11678" y="7204"/>
                  <a:pt x="11739" y="7216"/>
                  <a:pt x="11757" y="7293"/>
                </a:cubicBezTo>
                <a:cubicBezTo>
                  <a:pt x="11775" y="7373"/>
                  <a:pt x="11742" y="7444"/>
                  <a:pt x="11733" y="7516"/>
                </a:cubicBezTo>
                <a:cubicBezTo>
                  <a:pt x="11724" y="7587"/>
                  <a:pt x="11733" y="7667"/>
                  <a:pt x="11733" y="7739"/>
                </a:cubicBezTo>
              </a:path>
              <a:path w="10692" h="1960">
                <a:moveTo>
                  <a:pt x="11584" y="7491"/>
                </a:moveTo>
                <a:cubicBezTo>
                  <a:pt x="11683" y="7458"/>
                  <a:pt x="11774" y="7466"/>
                  <a:pt x="11881" y="7466"/>
                </a:cubicBezTo>
                <a:cubicBezTo>
                  <a:pt x="11889" y="7466"/>
                  <a:pt x="11898" y="7466"/>
                  <a:pt x="11906" y="7466"/>
                </a:cubicBezTo>
              </a:path>
              <a:path w="10692" h="1960">
                <a:moveTo>
                  <a:pt x="10443" y="7987"/>
                </a:moveTo>
                <a:cubicBezTo>
                  <a:pt x="10531" y="7987"/>
                  <a:pt x="10605" y="7966"/>
                  <a:pt x="10691" y="7962"/>
                </a:cubicBezTo>
                <a:cubicBezTo>
                  <a:pt x="10836" y="7956"/>
                  <a:pt x="10971" y="7918"/>
                  <a:pt x="11112" y="7913"/>
                </a:cubicBezTo>
                <a:cubicBezTo>
                  <a:pt x="11222" y="7909"/>
                  <a:pt x="11322" y="7888"/>
                  <a:pt x="11435" y="7888"/>
                </a:cubicBezTo>
                <a:cubicBezTo>
                  <a:pt x="11540" y="7888"/>
                  <a:pt x="11626" y="7863"/>
                  <a:pt x="11733" y="7863"/>
                </a:cubicBezTo>
                <a:cubicBezTo>
                  <a:pt x="11847" y="7863"/>
                  <a:pt x="11946" y="7843"/>
                  <a:pt x="12055" y="7838"/>
                </a:cubicBezTo>
                <a:cubicBezTo>
                  <a:pt x="12072" y="7838"/>
                  <a:pt x="12088" y="7838"/>
                  <a:pt x="12105" y="7838"/>
                </a:cubicBezTo>
              </a:path>
              <a:path w="10692" h="1960">
                <a:moveTo>
                  <a:pt x="11013" y="8210"/>
                </a:moveTo>
                <a:cubicBezTo>
                  <a:pt x="11068" y="8178"/>
                  <a:pt x="11120" y="8186"/>
                  <a:pt x="11187" y="8186"/>
                </a:cubicBezTo>
                <a:cubicBezTo>
                  <a:pt x="11245" y="8186"/>
                  <a:pt x="11356" y="8205"/>
                  <a:pt x="11336" y="8285"/>
                </a:cubicBezTo>
                <a:cubicBezTo>
                  <a:pt x="11327" y="8321"/>
                  <a:pt x="11232" y="8381"/>
                  <a:pt x="11212" y="8409"/>
                </a:cubicBezTo>
                <a:cubicBezTo>
                  <a:pt x="11195" y="8433"/>
                  <a:pt x="11088" y="8543"/>
                  <a:pt x="11088" y="8558"/>
                </a:cubicBezTo>
                <a:cubicBezTo>
                  <a:pt x="11088" y="8642"/>
                  <a:pt x="11235" y="8607"/>
                  <a:pt x="11286" y="8607"/>
                </a:cubicBezTo>
                <a:cubicBezTo>
                  <a:pt x="11364" y="8607"/>
                  <a:pt x="11446" y="8621"/>
                  <a:pt x="11509" y="8632"/>
                </a:cubicBezTo>
                <a:cubicBezTo>
                  <a:pt x="11551" y="8632"/>
                  <a:pt x="11567" y="8640"/>
                  <a:pt x="11559" y="8607"/>
                </a:cubicBezTo>
              </a:path>
              <a:path w="10692" h="1960">
                <a:moveTo>
                  <a:pt x="12179" y="6970"/>
                </a:moveTo>
                <a:cubicBezTo>
                  <a:pt x="12233" y="7041"/>
                  <a:pt x="12301" y="7092"/>
                  <a:pt x="12353" y="7169"/>
                </a:cubicBezTo>
                <a:cubicBezTo>
                  <a:pt x="12406" y="7247"/>
                  <a:pt x="12464" y="7354"/>
                  <a:pt x="12502" y="7441"/>
                </a:cubicBezTo>
                <a:cubicBezTo>
                  <a:pt x="12564" y="7580"/>
                  <a:pt x="12551" y="7740"/>
                  <a:pt x="12551" y="7888"/>
                </a:cubicBezTo>
                <a:cubicBezTo>
                  <a:pt x="12551" y="8006"/>
                  <a:pt x="12567" y="8153"/>
                  <a:pt x="12502" y="8260"/>
                </a:cubicBezTo>
                <a:cubicBezTo>
                  <a:pt x="12448" y="8349"/>
                  <a:pt x="12362" y="8450"/>
                  <a:pt x="12303" y="8533"/>
                </a:cubicBezTo>
                <a:cubicBezTo>
                  <a:pt x="12237" y="8626"/>
                  <a:pt x="12175" y="8668"/>
                  <a:pt x="12129" y="8781"/>
                </a:cubicBezTo>
                <a:cubicBezTo>
                  <a:pt x="12121" y="8806"/>
                  <a:pt x="12113" y="8830"/>
                  <a:pt x="12105" y="8855"/>
                </a:cubicBezTo>
              </a:path>
              <a:path w="10692" h="1960">
                <a:moveTo>
                  <a:pt x="13097" y="7838"/>
                </a:moveTo>
                <a:cubicBezTo>
                  <a:pt x="12991" y="7823"/>
                  <a:pt x="12955" y="7812"/>
                  <a:pt x="12874" y="7888"/>
                </a:cubicBezTo>
                <a:cubicBezTo>
                  <a:pt x="12790" y="7967"/>
                  <a:pt x="12745" y="8018"/>
                  <a:pt x="12725" y="8136"/>
                </a:cubicBezTo>
                <a:cubicBezTo>
                  <a:pt x="12712" y="8216"/>
                  <a:pt x="12737" y="8228"/>
                  <a:pt x="12774" y="8285"/>
                </a:cubicBezTo>
                <a:cubicBezTo>
                  <a:pt x="12819" y="8355"/>
                  <a:pt x="12871" y="8390"/>
                  <a:pt x="12948" y="8409"/>
                </a:cubicBezTo>
                <a:cubicBezTo>
                  <a:pt x="13040" y="8432"/>
                  <a:pt x="13128" y="8454"/>
                  <a:pt x="13221" y="8458"/>
                </a:cubicBezTo>
                <a:cubicBezTo>
                  <a:pt x="13295" y="8461"/>
                  <a:pt x="13353" y="8436"/>
                  <a:pt x="13419" y="8409"/>
                </a:cubicBezTo>
              </a:path>
              <a:path w="10692" h="1960">
                <a:moveTo>
                  <a:pt x="13767" y="7838"/>
                </a:moveTo>
                <a:cubicBezTo>
                  <a:pt x="13689" y="7807"/>
                  <a:pt x="13660" y="7877"/>
                  <a:pt x="13643" y="7962"/>
                </a:cubicBezTo>
                <a:cubicBezTo>
                  <a:pt x="13629" y="8030"/>
                  <a:pt x="13631" y="8151"/>
                  <a:pt x="13667" y="8210"/>
                </a:cubicBezTo>
                <a:cubicBezTo>
                  <a:pt x="13701" y="8266"/>
                  <a:pt x="13768" y="8297"/>
                  <a:pt x="13816" y="8334"/>
                </a:cubicBezTo>
                <a:cubicBezTo>
                  <a:pt x="13878" y="8382"/>
                  <a:pt x="13958" y="8411"/>
                  <a:pt x="14039" y="8384"/>
                </a:cubicBezTo>
                <a:cubicBezTo>
                  <a:pt x="14073" y="8373"/>
                  <a:pt x="14132" y="8291"/>
                  <a:pt x="14139" y="8260"/>
                </a:cubicBezTo>
                <a:cubicBezTo>
                  <a:pt x="14157" y="8184"/>
                  <a:pt x="14123" y="8122"/>
                  <a:pt x="14089" y="8062"/>
                </a:cubicBezTo>
                <a:cubicBezTo>
                  <a:pt x="14022" y="7943"/>
                  <a:pt x="13983" y="7914"/>
                  <a:pt x="13866" y="7863"/>
                </a:cubicBezTo>
                <a:cubicBezTo>
                  <a:pt x="13792" y="7831"/>
                  <a:pt x="13723" y="7838"/>
                  <a:pt x="13643" y="7838"/>
                </a:cubicBezTo>
                <a:cubicBezTo>
                  <a:pt x="13585" y="7838"/>
                  <a:pt x="13564" y="7835"/>
                  <a:pt x="13519" y="7863"/>
                </a:cubicBezTo>
              </a:path>
              <a:path w="10692" h="1960">
                <a:moveTo>
                  <a:pt x="14610" y="7838"/>
                </a:moveTo>
                <a:cubicBezTo>
                  <a:pt x="14532" y="7791"/>
                  <a:pt x="14471" y="7832"/>
                  <a:pt x="14387" y="7863"/>
                </a:cubicBezTo>
                <a:cubicBezTo>
                  <a:pt x="14326" y="7883"/>
                  <a:pt x="14311" y="7881"/>
                  <a:pt x="14288" y="7913"/>
                </a:cubicBezTo>
                <a:cubicBezTo>
                  <a:pt x="14300" y="8002"/>
                  <a:pt x="14346" y="8011"/>
                  <a:pt x="14436" y="8037"/>
                </a:cubicBezTo>
                <a:cubicBezTo>
                  <a:pt x="14598" y="8084"/>
                  <a:pt x="14585" y="8104"/>
                  <a:pt x="14709" y="8210"/>
                </a:cubicBezTo>
                <a:cubicBezTo>
                  <a:pt x="14773" y="8265"/>
                  <a:pt x="14796" y="8246"/>
                  <a:pt x="14808" y="8334"/>
                </a:cubicBezTo>
                <a:cubicBezTo>
                  <a:pt x="14742" y="8359"/>
                  <a:pt x="14680" y="8379"/>
                  <a:pt x="14610" y="8384"/>
                </a:cubicBezTo>
                <a:cubicBezTo>
                  <a:pt x="14555" y="8388"/>
                  <a:pt x="14487" y="8421"/>
                  <a:pt x="14436" y="8409"/>
                </a:cubicBezTo>
                <a:cubicBezTo>
                  <a:pt x="14420" y="8401"/>
                  <a:pt x="14403" y="8392"/>
                  <a:pt x="14387" y="8384"/>
                </a:cubicBezTo>
              </a:path>
              <a:path w="10692" h="1960">
                <a:moveTo>
                  <a:pt x="15379" y="7218"/>
                </a:moveTo>
                <a:cubicBezTo>
                  <a:pt x="15370" y="7292"/>
                  <a:pt x="15346" y="7368"/>
                  <a:pt x="15329" y="7441"/>
                </a:cubicBezTo>
                <a:cubicBezTo>
                  <a:pt x="15294" y="7592"/>
                  <a:pt x="15219" y="7735"/>
                  <a:pt x="15205" y="7888"/>
                </a:cubicBezTo>
                <a:cubicBezTo>
                  <a:pt x="15191" y="8038"/>
                  <a:pt x="15187" y="8216"/>
                  <a:pt x="15230" y="8359"/>
                </a:cubicBezTo>
                <a:cubicBezTo>
                  <a:pt x="15251" y="8428"/>
                  <a:pt x="15302" y="8580"/>
                  <a:pt x="15354" y="8632"/>
                </a:cubicBezTo>
                <a:cubicBezTo>
                  <a:pt x="15419" y="8696"/>
                  <a:pt x="15517" y="8785"/>
                  <a:pt x="15602" y="8830"/>
                </a:cubicBezTo>
                <a:cubicBezTo>
                  <a:pt x="15664" y="8862"/>
                  <a:pt x="15673" y="8862"/>
                  <a:pt x="15726" y="8830"/>
                </a:cubicBezTo>
              </a:path>
              <a:path w="10692" h="1960">
                <a:moveTo>
                  <a:pt x="15949" y="7268"/>
                </a:moveTo>
                <a:cubicBezTo>
                  <a:pt x="15970" y="7331"/>
                  <a:pt x="15994" y="7421"/>
                  <a:pt x="15974" y="7491"/>
                </a:cubicBezTo>
                <a:cubicBezTo>
                  <a:pt x="15949" y="7581"/>
                  <a:pt x="15949" y="7668"/>
                  <a:pt x="15949" y="7764"/>
                </a:cubicBezTo>
              </a:path>
              <a:path w="10692" h="1960">
                <a:moveTo>
                  <a:pt x="16173" y="7441"/>
                </a:moveTo>
                <a:cubicBezTo>
                  <a:pt x="16280" y="7441"/>
                  <a:pt x="16388" y="7441"/>
                  <a:pt x="16495" y="7441"/>
                </a:cubicBezTo>
              </a:path>
              <a:path w="10692" h="1960">
                <a:moveTo>
                  <a:pt x="16694" y="7243"/>
                </a:moveTo>
                <a:cubicBezTo>
                  <a:pt x="16757" y="7211"/>
                  <a:pt x="16831" y="7180"/>
                  <a:pt x="16892" y="7169"/>
                </a:cubicBezTo>
                <a:cubicBezTo>
                  <a:pt x="16941" y="7160"/>
                  <a:pt x="17047" y="7152"/>
                  <a:pt x="17066" y="7218"/>
                </a:cubicBezTo>
                <a:cubicBezTo>
                  <a:pt x="17085" y="7284"/>
                  <a:pt x="17104" y="7383"/>
                  <a:pt x="17115" y="7441"/>
                </a:cubicBezTo>
                <a:cubicBezTo>
                  <a:pt x="17130" y="7520"/>
                  <a:pt x="17118" y="7595"/>
                  <a:pt x="17140" y="7665"/>
                </a:cubicBezTo>
                <a:cubicBezTo>
                  <a:pt x="17140" y="7673"/>
                  <a:pt x="17140" y="7681"/>
                  <a:pt x="17140" y="7689"/>
                </a:cubicBezTo>
              </a:path>
              <a:path w="10692" h="1960">
                <a:moveTo>
                  <a:pt x="16892" y="7392"/>
                </a:moveTo>
                <a:cubicBezTo>
                  <a:pt x="17012" y="7392"/>
                  <a:pt x="17134" y="7382"/>
                  <a:pt x="17239" y="7367"/>
                </a:cubicBezTo>
                <a:cubicBezTo>
                  <a:pt x="17307" y="7367"/>
                  <a:pt x="17326" y="7364"/>
                  <a:pt x="17363" y="7392"/>
                </a:cubicBezTo>
              </a:path>
              <a:path w="10692" h="1960">
                <a:moveTo>
                  <a:pt x="15900" y="7863"/>
                </a:moveTo>
                <a:cubicBezTo>
                  <a:pt x="15982" y="7863"/>
                  <a:pt x="16070" y="7854"/>
                  <a:pt x="16148" y="7838"/>
                </a:cubicBezTo>
                <a:cubicBezTo>
                  <a:pt x="16238" y="7819"/>
                  <a:pt x="16303" y="7813"/>
                  <a:pt x="16396" y="7813"/>
                </a:cubicBezTo>
                <a:cubicBezTo>
                  <a:pt x="16548" y="7813"/>
                  <a:pt x="16726" y="7782"/>
                  <a:pt x="16867" y="7789"/>
                </a:cubicBezTo>
                <a:cubicBezTo>
                  <a:pt x="16970" y="7794"/>
                  <a:pt x="17062" y="7813"/>
                  <a:pt x="17165" y="7813"/>
                </a:cubicBezTo>
                <a:cubicBezTo>
                  <a:pt x="17231" y="7813"/>
                  <a:pt x="17276" y="7825"/>
                  <a:pt x="17338" y="7838"/>
                </a:cubicBezTo>
              </a:path>
              <a:path w="10692" h="1960">
                <a:moveTo>
                  <a:pt x="16346" y="8235"/>
                </a:moveTo>
                <a:cubicBezTo>
                  <a:pt x="16413" y="8235"/>
                  <a:pt x="16466" y="8221"/>
                  <a:pt x="16520" y="8210"/>
                </a:cubicBezTo>
                <a:cubicBezTo>
                  <a:pt x="16598" y="8194"/>
                  <a:pt x="16673" y="8224"/>
                  <a:pt x="16743" y="8235"/>
                </a:cubicBezTo>
                <a:cubicBezTo>
                  <a:pt x="16836" y="8250"/>
                  <a:pt x="16827" y="8255"/>
                  <a:pt x="16818" y="8334"/>
                </a:cubicBezTo>
                <a:cubicBezTo>
                  <a:pt x="16808" y="8419"/>
                  <a:pt x="16777" y="8401"/>
                  <a:pt x="16718" y="8458"/>
                </a:cubicBezTo>
                <a:cubicBezTo>
                  <a:pt x="16648" y="8525"/>
                  <a:pt x="16588" y="8571"/>
                  <a:pt x="16520" y="8632"/>
                </a:cubicBezTo>
                <a:cubicBezTo>
                  <a:pt x="16492" y="8660"/>
                  <a:pt x="16483" y="8673"/>
                  <a:pt x="16495" y="8706"/>
                </a:cubicBezTo>
                <a:cubicBezTo>
                  <a:pt x="16580" y="8749"/>
                  <a:pt x="16658" y="8732"/>
                  <a:pt x="16743" y="8756"/>
                </a:cubicBezTo>
                <a:cubicBezTo>
                  <a:pt x="16820" y="8778"/>
                  <a:pt x="16884" y="8781"/>
                  <a:pt x="16966" y="8781"/>
                </a:cubicBezTo>
                <a:cubicBezTo>
                  <a:pt x="16974" y="8781"/>
                  <a:pt x="16983" y="8781"/>
                  <a:pt x="16991" y="8781"/>
                </a:cubicBezTo>
              </a:path>
              <a:path w="10692" h="1960">
                <a:moveTo>
                  <a:pt x="17264" y="6896"/>
                </a:moveTo>
                <a:cubicBezTo>
                  <a:pt x="17313" y="6939"/>
                  <a:pt x="17352" y="6968"/>
                  <a:pt x="17388" y="7020"/>
                </a:cubicBezTo>
                <a:cubicBezTo>
                  <a:pt x="17437" y="7091"/>
                  <a:pt x="17473" y="7164"/>
                  <a:pt x="17512" y="7243"/>
                </a:cubicBezTo>
                <a:cubicBezTo>
                  <a:pt x="17549" y="7317"/>
                  <a:pt x="17597" y="7358"/>
                  <a:pt x="17636" y="7441"/>
                </a:cubicBezTo>
                <a:cubicBezTo>
                  <a:pt x="17700" y="7575"/>
                  <a:pt x="17754" y="7677"/>
                  <a:pt x="17785" y="7813"/>
                </a:cubicBezTo>
                <a:cubicBezTo>
                  <a:pt x="17810" y="7923"/>
                  <a:pt x="17796" y="7982"/>
                  <a:pt x="17785" y="8086"/>
                </a:cubicBezTo>
                <a:cubicBezTo>
                  <a:pt x="17775" y="8185"/>
                  <a:pt x="17760" y="8267"/>
                  <a:pt x="17711" y="8359"/>
                </a:cubicBezTo>
                <a:cubicBezTo>
                  <a:pt x="17646" y="8481"/>
                  <a:pt x="17561" y="8592"/>
                  <a:pt x="17487" y="8706"/>
                </a:cubicBezTo>
                <a:cubicBezTo>
                  <a:pt x="17461" y="8747"/>
                  <a:pt x="17431" y="8802"/>
                  <a:pt x="17388" y="8830"/>
                </a:cubicBezTo>
                <a:cubicBezTo>
                  <a:pt x="17380" y="8830"/>
                  <a:pt x="17371" y="8830"/>
                  <a:pt x="17363" y="8830"/>
                </a:cubicBezTo>
              </a:path>
              <a:path w="10692" h="1960">
                <a:moveTo>
                  <a:pt x="10914" y="7615"/>
                </a:moveTo>
                <a:cubicBezTo>
                  <a:pt x="10958" y="7593"/>
                  <a:pt x="10969" y="7580"/>
                  <a:pt x="10988" y="7615"/>
                </a:cubicBezTo>
                <a:cubicBezTo>
                  <a:pt x="10947" y="7657"/>
                  <a:pt x="10910" y="7679"/>
                  <a:pt x="10864" y="7714"/>
                </a:cubicBezTo>
                <a:cubicBezTo>
                  <a:pt x="10804" y="7760"/>
                  <a:pt x="10817" y="7844"/>
                  <a:pt x="10740" y="7863"/>
                </a:cubicBezTo>
              </a:path>
              <a:path w="10692" h="1960">
                <a:moveTo>
                  <a:pt x="10740" y="7640"/>
                </a:moveTo>
                <a:cubicBezTo>
                  <a:pt x="10771" y="7683"/>
                  <a:pt x="10851" y="7837"/>
                  <a:pt x="10914" y="7863"/>
                </a:cubicBezTo>
                <a:cubicBezTo>
                  <a:pt x="10963" y="7883"/>
                  <a:pt x="10991" y="7875"/>
                  <a:pt x="11038" y="7913"/>
                </a:cubicBezTo>
              </a:path>
              <a:path w="10692" h="1960">
                <a:moveTo>
                  <a:pt x="12105" y="7417"/>
                </a:moveTo>
                <a:cubicBezTo>
                  <a:pt x="12062" y="7501"/>
                  <a:pt x="12006" y="7560"/>
                  <a:pt x="11956" y="7640"/>
                </a:cubicBezTo>
                <a:cubicBezTo>
                  <a:pt x="11948" y="7656"/>
                  <a:pt x="11939" y="7673"/>
                  <a:pt x="11931" y="7689"/>
                </a:cubicBezTo>
              </a:path>
              <a:path w="10692" h="1960">
                <a:moveTo>
                  <a:pt x="11906" y="7491"/>
                </a:moveTo>
                <a:cubicBezTo>
                  <a:pt x="11974" y="7575"/>
                  <a:pt x="12045" y="7687"/>
                  <a:pt x="12154" y="7714"/>
                </a:cubicBezTo>
                <a:cubicBezTo>
                  <a:pt x="12171" y="7714"/>
                  <a:pt x="12187" y="7714"/>
                  <a:pt x="12204" y="7714"/>
                </a:cubicBezTo>
              </a:path>
              <a:path w="10692" h="1960">
                <a:moveTo>
                  <a:pt x="16173" y="7590"/>
                </a:moveTo>
                <a:cubicBezTo>
                  <a:pt x="16120" y="7643"/>
                  <a:pt x="16055" y="7669"/>
                  <a:pt x="15999" y="7714"/>
                </a:cubicBezTo>
                <a:cubicBezTo>
                  <a:pt x="15982" y="7731"/>
                  <a:pt x="15966" y="7747"/>
                  <a:pt x="15949" y="7764"/>
                </a:cubicBezTo>
              </a:path>
              <a:path w="10692" h="1960">
                <a:moveTo>
                  <a:pt x="15974" y="7590"/>
                </a:moveTo>
                <a:cubicBezTo>
                  <a:pt x="16038" y="7627"/>
                  <a:pt x="16072" y="7673"/>
                  <a:pt x="16123" y="7714"/>
                </a:cubicBezTo>
                <a:cubicBezTo>
                  <a:pt x="16202" y="7777"/>
                  <a:pt x="16278" y="7777"/>
                  <a:pt x="16371" y="7789"/>
                </a:cubicBezTo>
              </a:path>
              <a:path w="10692" h="1960">
                <a:moveTo>
                  <a:pt x="17537" y="7392"/>
                </a:moveTo>
                <a:cubicBezTo>
                  <a:pt x="17492" y="7437"/>
                  <a:pt x="17459" y="7476"/>
                  <a:pt x="17413" y="7516"/>
                </a:cubicBezTo>
                <a:cubicBezTo>
                  <a:pt x="17355" y="7567"/>
                  <a:pt x="17297" y="7614"/>
                  <a:pt x="17239" y="7665"/>
                </a:cubicBezTo>
              </a:path>
              <a:path w="10692" h="1960">
                <a:moveTo>
                  <a:pt x="17289" y="7441"/>
                </a:moveTo>
                <a:cubicBezTo>
                  <a:pt x="17324" y="7468"/>
                  <a:pt x="17453" y="7622"/>
                  <a:pt x="17487" y="7640"/>
                </a:cubicBezTo>
                <a:cubicBezTo>
                  <a:pt x="17520" y="7648"/>
                  <a:pt x="17554" y="7657"/>
                  <a:pt x="17587" y="76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Ink 6"/>
          <p:cNvSpPr/>
          <p:nvPr/>
        </p:nvSpPr>
        <p:spPr>
          <a:xfrm>
            <a:off x="2759040" y="3751200"/>
            <a:ext cx="3340080" cy="803160"/>
          </a:xfrm>
          <a:custGeom>
            <a:avLst/>
            <a:gdLst/>
            <a:ahLst/>
            <a:rect l="l" t="t" r="r" b="b"/>
            <a:pathLst>
              <a:path w="9278" h="2233">
                <a:moveTo>
                  <a:pt x="7665" y="11212"/>
                </a:moveTo>
                <a:cubicBezTo>
                  <a:pt x="7674" y="11115"/>
                  <a:pt x="7678" y="11109"/>
                  <a:pt x="7764" y="11063"/>
                </a:cubicBezTo>
                <a:cubicBezTo>
                  <a:pt x="7841" y="11022"/>
                  <a:pt x="7902" y="11013"/>
                  <a:pt x="7987" y="11013"/>
                </a:cubicBezTo>
                <a:cubicBezTo>
                  <a:pt x="8079" y="11013"/>
                  <a:pt x="8137" y="11040"/>
                  <a:pt x="8161" y="11137"/>
                </a:cubicBezTo>
                <a:cubicBezTo>
                  <a:pt x="8175" y="11195"/>
                  <a:pt x="8130" y="11283"/>
                  <a:pt x="8111" y="11336"/>
                </a:cubicBezTo>
                <a:cubicBezTo>
                  <a:pt x="8080" y="11425"/>
                  <a:pt x="8025" y="11495"/>
                  <a:pt x="7987" y="11584"/>
                </a:cubicBezTo>
                <a:cubicBezTo>
                  <a:pt x="7957" y="11653"/>
                  <a:pt x="7895" y="11760"/>
                  <a:pt x="7838" y="11807"/>
                </a:cubicBezTo>
                <a:cubicBezTo>
                  <a:pt x="7773" y="11861"/>
                  <a:pt x="7786" y="11897"/>
                  <a:pt x="7739" y="11956"/>
                </a:cubicBezTo>
                <a:cubicBezTo>
                  <a:pt x="7731" y="11964"/>
                  <a:pt x="7722" y="11973"/>
                  <a:pt x="7714" y="11981"/>
                </a:cubicBezTo>
                <a:cubicBezTo>
                  <a:pt x="7767" y="12033"/>
                  <a:pt x="7787" y="12030"/>
                  <a:pt x="7863" y="12030"/>
                </a:cubicBezTo>
                <a:cubicBezTo>
                  <a:pt x="7944" y="12030"/>
                  <a:pt x="8012" y="12043"/>
                  <a:pt x="8086" y="12055"/>
                </a:cubicBezTo>
                <a:cubicBezTo>
                  <a:pt x="8148" y="12065"/>
                  <a:pt x="8222" y="12055"/>
                  <a:pt x="8285" y="12055"/>
                </a:cubicBezTo>
              </a:path>
              <a:path w="9278" h="2233">
                <a:moveTo>
                  <a:pt x="8930" y="11410"/>
                </a:moveTo>
                <a:cubicBezTo>
                  <a:pt x="8874" y="11313"/>
                  <a:pt x="8886" y="11325"/>
                  <a:pt x="8781" y="11336"/>
                </a:cubicBezTo>
                <a:cubicBezTo>
                  <a:pt x="8713" y="11343"/>
                  <a:pt x="8691" y="11375"/>
                  <a:pt x="8632" y="11410"/>
                </a:cubicBezTo>
                <a:cubicBezTo>
                  <a:pt x="8552" y="11458"/>
                  <a:pt x="8520" y="11497"/>
                  <a:pt x="8607" y="11584"/>
                </a:cubicBezTo>
                <a:cubicBezTo>
                  <a:pt x="8639" y="11616"/>
                  <a:pt x="8763" y="11642"/>
                  <a:pt x="8806" y="11658"/>
                </a:cubicBezTo>
                <a:cubicBezTo>
                  <a:pt x="8883" y="11686"/>
                  <a:pt x="8934" y="11721"/>
                  <a:pt x="9004" y="11757"/>
                </a:cubicBezTo>
                <a:cubicBezTo>
                  <a:pt x="9091" y="11803"/>
                  <a:pt x="9133" y="11824"/>
                  <a:pt x="9153" y="11931"/>
                </a:cubicBezTo>
                <a:cubicBezTo>
                  <a:pt x="9161" y="11974"/>
                  <a:pt x="9129" y="12066"/>
                  <a:pt x="9079" y="12080"/>
                </a:cubicBezTo>
                <a:cubicBezTo>
                  <a:pt x="9006" y="12101"/>
                  <a:pt x="8933" y="12125"/>
                  <a:pt x="8855" y="12129"/>
                </a:cubicBezTo>
                <a:cubicBezTo>
                  <a:pt x="8775" y="12133"/>
                  <a:pt x="8737" y="12136"/>
                  <a:pt x="8682" y="12080"/>
                </a:cubicBezTo>
              </a:path>
              <a:path w="9278" h="2233">
                <a:moveTo>
                  <a:pt x="9252" y="11237"/>
                </a:moveTo>
                <a:cubicBezTo>
                  <a:pt x="9272" y="11309"/>
                  <a:pt x="9290" y="11389"/>
                  <a:pt x="9302" y="11460"/>
                </a:cubicBezTo>
                <a:cubicBezTo>
                  <a:pt x="9342" y="11696"/>
                  <a:pt x="9302" y="12369"/>
                  <a:pt x="9302" y="12129"/>
                </a:cubicBezTo>
              </a:path>
              <a:path w="9278" h="2233">
                <a:moveTo>
                  <a:pt x="9277" y="11038"/>
                </a:moveTo>
                <a:cubicBezTo>
                  <a:pt x="9285" y="11021"/>
                  <a:pt x="9294" y="11005"/>
                  <a:pt x="9302" y="10988"/>
                </a:cubicBezTo>
              </a:path>
              <a:path w="9278" h="2233">
                <a:moveTo>
                  <a:pt x="9550" y="11311"/>
                </a:moveTo>
                <a:cubicBezTo>
                  <a:pt x="9575" y="11419"/>
                  <a:pt x="9609" y="11525"/>
                  <a:pt x="9624" y="11633"/>
                </a:cubicBezTo>
                <a:cubicBezTo>
                  <a:pt x="9639" y="11741"/>
                  <a:pt x="9649" y="11846"/>
                  <a:pt x="9649" y="11956"/>
                </a:cubicBezTo>
                <a:cubicBezTo>
                  <a:pt x="9649" y="12000"/>
                  <a:pt x="9652" y="12014"/>
                  <a:pt x="9624" y="12030"/>
                </a:cubicBezTo>
                <a:cubicBezTo>
                  <a:pt x="9610" y="11952"/>
                  <a:pt x="9606" y="11866"/>
                  <a:pt x="9624" y="11782"/>
                </a:cubicBezTo>
                <a:cubicBezTo>
                  <a:pt x="9639" y="11710"/>
                  <a:pt x="9670" y="11625"/>
                  <a:pt x="9699" y="11559"/>
                </a:cubicBezTo>
                <a:cubicBezTo>
                  <a:pt x="9725" y="11499"/>
                  <a:pt x="9751" y="11427"/>
                  <a:pt x="9823" y="11410"/>
                </a:cubicBezTo>
                <a:cubicBezTo>
                  <a:pt x="9873" y="11398"/>
                  <a:pt x="9921" y="11445"/>
                  <a:pt x="9947" y="11485"/>
                </a:cubicBezTo>
                <a:cubicBezTo>
                  <a:pt x="9985" y="11544"/>
                  <a:pt x="9971" y="11616"/>
                  <a:pt x="9971" y="11683"/>
                </a:cubicBezTo>
                <a:cubicBezTo>
                  <a:pt x="9971" y="11785"/>
                  <a:pt x="9951" y="11880"/>
                  <a:pt x="9947" y="11981"/>
                </a:cubicBezTo>
                <a:cubicBezTo>
                  <a:pt x="9944" y="12068"/>
                  <a:pt x="9931" y="12099"/>
                  <a:pt x="9947" y="12179"/>
                </a:cubicBezTo>
              </a:path>
              <a:path w="9278" h="2233">
                <a:moveTo>
                  <a:pt x="10269" y="10840"/>
                </a:moveTo>
                <a:cubicBezTo>
                  <a:pt x="10269" y="10970"/>
                  <a:pt x="10259" y="11090"/>
                  <a:pt x="10244" y="11212"/>
                </a:cubicBezTo>
                <a:cubicBezTo>
                  <a:pt x="10235" y="11287"/>
                  <a:pt x="10187" y="11414"/>
                  <a:pt x="10195" y="11485"/>
                </a:cubicBezTo>
                <a:cubicBezTo>
                  <a:pt x="10204" y="11564"/>
                  <a:pt x="10280" y="11563"/>
                  <a:pt x="10319" y="11559"/>
                </a:cubicBezTo>
                <a:cubicBezTo>
                  <a:pt x="10415" y="11549"/>
                  <a:pt x="10493" y="11514"/>
                  <a:pt x="10592" y="11509"/>
                </a:cubicBezTo>
                <a:cubicBezTo>
                  <a:pt x="10666" y="11506"/>
                  <a:pt x="10731" y="11547"/>
                  <a:pt x="10790" y="11559"/>
                </a:cubicBezTo>
                <a:cubicBezTo>
                  <a:pt x="10849" y="11559"/>
                  <a:pt x="10869" y="11550"/>
                  <a:pt x="10864" y="11485"/>
                </a:cubicBezTo>
              </a:path>
              <a:path w="9278" h="2233">
                <a:moveTo>
                  <a:pt x="10765" y="10840"/>
                </a:moveTo>
                <a:cubicBezTo>
                  <a:pt x="10776" y="10930"/>
                  <a:pt x="10807" y="11018"/>
                  <a:pt x="10815" y="11112"/>
                </a:cubicBezTo>
                <a:cubicBezTo>
                  <a:pt x="10837" y="11367"/>
                  <a:pt x="10816" y="11629"/>
                  <a:pt x="10840" y="11881"/>
                </a:cubicBezTo>
                <a:cubicBezTo>
                  <a:pt x="10849" y="11978"/>
                  <a:pt x="10840" y="12081"/>
                  <a:pt x="10840" y="12179"/>
                </a:cubicBezTo>
              </a:path>
              <a:path w="9278" h="2233">
                <a:moveTo>
                  <a:pt x="11485" y="11286"/>
                </a:moveTo>
                <a:cubicBezTo>
                  <a:pt x="11440" y="11413"/>
                  <a:pt x="11385" y="11533"/>
                  <a:pt x="11336" y="11658"/>
                </a:cubicBezTo>
                <a:cubicBezTo>
                  <a:pt x="11301" y="11748"/>
                  <a:pt x="11268" y="11840"/>
                  <a:pt x="11237" y="11931"/>
                </a:cubicBezTo>
                <a:cubicBezTo>
                  <a:pt x="11210" y="12010"/>
                  <a:pt x="11220" y="12107"/>
                  <a:pt x="11187" y="12179"/>
                </a:cubicBezTo>
                <a:cubicBezTo>
                  <a:pt x="11164" y="12202"/>
                  <a:pt x="11156" y="12213"/>
                  <a:pt x="11162" y="12179"/>
                </a:cubicBezTo>
              </a:path>
              <a:path w="9278" h="2233">
                <a:moveTo>
                  <a:pt x="11013" y="11410"/>
                </a:moveTo>
                <a:cubicBezTo>
                  <a:pt x="11044" y="11471"/>
                  <a:pt x="11060" y="11531"/>
                  <a:pt x="11088" y="11584"/>
                </a:cubicBezTo>
                <a:cubicBezTo>
                  <a:pt x="11122" y="11648"/>
                  <a:pt x="11152" y="11719"/>
                  <a:pt x="11187" y="11782"/>
                </a:cubicBezTo>
                <a:cubicBezTo>
                  <a:pt x="11244" y="11883"/>
                  <a:pt x="11330" y="12004"/>
                  <a:pt x="11410" y="12080"/>
                </a:cubicBezTo>
                <a:cubicBezTo>
                  <a:pt x="11454" y="12122"/>
                  <a:pt x="11534" y="12142"/>
                  <a:pt x="11584" y="12179"/>
                </a:cubicBezTo>
                <a:cubicBezTo>
                  <a:pt x="11618" y="12204"/>
                  <a:pt x="11619" y="12219"/>
                  <a:pt x="11658" y="12229"/>
                </a:cubicBezTo>
              </a:path>
              <a:path w="9278" h="2233">
                <a:moveTo>
                  <a:pt x="12378" y="11361"/>
                </a:moveTo>
                <a:cubicBezTo>
                  <a:pt x="12248" y="11380"/>
                  <a:pt x="12140" y="11382"/>
                  <a:pt x="12030" y="11460"/>
                </a:cubicBezTo>
                <a:cubicBezTo>
                  <a:pt x="11971" y="11502"/>
                  <a:pt x="11932" y="11592"/>
                  <a:pt x="11906" y="11658"/>
                </a:cubicBezTo>
                <a:cubicBezTo>
                  <a:pt x="11883" y="11717"/>
                  <a:pt x="11855" y="11844"/>
                  <a:pt x="11881" y="11906"/>
                </a:cubicBezTo>
                <a:cubicBezTo>
                  <a:pt x="11914" y="11986"/>
                  <a:pt x="11979" y="12089"/>
                  <a:pt x="12055" y="12129"/>
                </a:cubicBezTo>
                <a:cubicBezTo>
                  <a:pt x="12136" y="12171"/>
                  <a:pt x="12240" y="12192"/>
                  <a:pt x="12328" y="12204"/>
                </a:cubicBezTo>
                <a:cubicBezTo>
                  <a:pt x="12419" y="12217"/>
                  <a:pt x="12569" y="12183"/>
                  <a:pt x="12650" y="12129"/>
                </a:cubicBezTo>
                <a:cubicBezTo>
                  <a:pt x="12667" y="12113"/>
                  <a:pt x="12683" y="12096"/>
                  <a:pt x="12700" y="12080"/>
                </a:cubicBezTo>
              </a:path>
              <a:path w="9278" h="2233">
                <a:moveTo>
                  <a:pt x="12923" y="11435"/>
                </a:moveTo>
                <a:cubicBezTo>
                  <a:pt x="12871" y="11404"/>
                  <a:pt x="12818" y="11398"/>
                  <a:pt x="12774" y="11460"/>
                </a:cubicBezTo>
                <a:cubicBezTo>
                  <a:pt x="12740" y="11508"/>
                  <a:pt x="12727" y="11602"/>
                  <a:pt x="12725" y="11658"/>
                </a:cubicBezTo>
                <a:cubicBezTo>
                  <a:pt x="12721" y="11757"/>
                  <a:pt x="12736" y="11838"/>
                  <a:pt x="12774" y="11931"/>
                </a:cubicBezTo>
                <a:cubicBezTo>
                  <a:pt x="12807" y="12012"/>
                  <a:pt x="12918" y="12045"/>
                  <a:pt x="12998" y="12055"/>
                </a:cubicBezTo>
                <a:cubicBezTo>
                  <a:pt x="13078" y="12066"/>
                  <a:pt x="13203" y="12022"/>
                  <a:pt x="13271" y="11981"/>
                </a:cubicBezTo>
                <a:cubicBezTo>
                  <a:pt x="13324" y="11949"/>
                  <a:pt x="13342" y="11861"/>
                  <a:pt x="13345" y="11807"/>
                </a:cubicBezTo>
                <a:cubicBezTo>
                  <a:pt x="13352" y="11679"/>
                  <a:pt x="13318" y="11605"/>
                  <a:pt x="13221" y="11509"/>
                </a:cubicBezTo>
                <a:cubicBezTo>
                  <a:pt x="13166" y="11454"/>
                  <a:pt x="13073" y="11414"/>
                  <a:pt x="12998" y="11410"/>
                </a:cubicBezTo>
                <a:cubicBezTo>
                  <a:pt x="12957" y="11408"/>
                  <a:pt x="12915" y="11410"/>
                  <a:pt x="12874" y="11410"/>
                </a:cubicBezTo>
              </a:path>
              <a:path w="9278" h="2233">
                <a:moveTo>
                  <a:pt x="13717" y="11336"/>
                </a:moveTo>
                <a:cubicBezTo>
                  <a:pt x="13648" y="11359"/>
                  <a:pt x="13546" y="11368"/>
                  <a:pt x="13494" y="11410"/>
                </a:cubicBezTo>
                <a:cubicBezTo>
                  <a:pt x="13431" y="11461"/>
                  <a:pt x="13431" y="11509"/>
                  <a:pt x="13469" y="11584"/>
                </a:cubicBezTo>
                <a:cubicBezTo>
                  <a:pt x="13498" y="11641"/>
                  <a:pt x="13568" y="11635"/>
                  <a:pt x="13618" y="11658"/>
                </a:cubicBezTo>
                <a:cubicBezTo>
                  <a:pt x="13690" y="11690"/>
                  <a:pt x="13744" y="11746"/>
                  <a:pt x="13816" y="11782"/>
                </a:cubicBezTo>
                <a:cubicBezTo>
                  <a:pt x="13896" y="11822"/>
                  <a:pt x="13951" y="11841"/>
                  <a:pt x="14015" y="11906"/>
                </a:cubicBezTo>
                <a:cubicBezTo>
                  <a:pt x="14068" y="11960"/>
                  <a:pt x="14090" y="11992"/>
                  <a:pt x="14064" y="12055"/>
                </a:cubicBezTo>
                <a:cubicBezTo>
                  <a:pt x="14038" y="12117"/>
                  <a:pt x="13983" y="12164"/>
                  <a:pt x="13915" y="12179"/>
                </a:cubicBezTo>
                <a:cubicBezTo>
                  <a:pt x="13853" y="12193"/>
                  <a:pt x="13811" y="12204"/>
                  <a:pt x="13742" y="12204"/>
                </a:cubicBezTo>
                <a:cubicBezTo>
                  <a:pt x="13642" y="12204"/>
                  <a:pt x="13554" y="12203"/>
                  <a:pt x="13469" y="12229"/>
                </a:cubicBezTo>
                <a:cubicBezTo>
                  <a:pt x="13461" y="12229"/>
                  <a:pt x="13452" y="12229"/>
                  <a:pt x="13444" y="12229"/>
                </a:cubicBezTo>
              </a:path>
              <a:path w="9278" h="2233">
                <a:moveTo>
                  <a:pt x="14337" y="11559"/>
                </a:moveTo>
                <a:cubicBezTo>
                  <a:pt x="14449" y="11582"/>
                  <a:pt x="14546" y="11584"/>
                  <a:pt x="14660" y="11584"/>
                </a:cubicBezTo>
                <a:cubicBezTo>
                  <a:pt x="14754" y="11584"/>
                  <a:pt x="14837" y="11559"/>
                  <a:pt x="14932" y="11559"/>
                </a:cubicBezTo>
                <a:cubicBezTo>
                  <a:pt x="14949" y="11559"/>
                  <a:pt x="14965" y="11559"/>
                  <a:pt x="14982" y="11559"/>
                </a:cubicBezTo>
              </a:path>
              <a:path w="9278" h="2233">
                <a:moveTo>
                  <a:pt x="15156" y="11088"/>
                </a:moveTo>
                <a:cubicBezTo>
                  <a:pt x="15247" y="11107"/>
                  <a:pt x="15324" y="11113"/>
                  <a:pt x="15404" y="11162"/>
                </a:cubicBezTo>
                <a:cubicBezTo>
                  <a:pt x="15482" y="11210"/>
                  <a:pt x="15548" y="11194"/>
                  <a:pt x="15553" y="11286"/>
                </a:cubicBezTo>
                <a:cubicBezTo>
                  <a:pt x="15558" y="11369"/>
                  <a:pt x="15509" y="11367"/>
                  <a:pt x="15453" y="11410"/>
                </a:cubicBezTo>
                <a:cubicBezTo>
                  <a:pt x="15414" y="11440"/>
                  <a:pt x="15375" y="11456"/>
                  <a:pt x="15329" y="11485"/>
                </a:cubicBezTo>
                <a:cubicBezTo>
                  <a:pt x="15280" y="11509"/>
                  <a:pt x="15263" y="11517"/>
                  <a:pt x="15230" y="11534"/>
                </a:cubicBezTo>
                <a:cubicBezTo>
                  <a:pt x="15279" y="11559"/>
                  <a:pt x="15369" y="11576"/>
                  <a:pt x="15429" y="11584"/>
                </a:cubicBezTo>
                <a:cubicBezTo>
                  <a:pt x="15560" y="11601"/>
                  <a:pt x="15659" y="11630"/>
                  <a:pt x="15776" y="11708"/>
                </a:cubicBezTo>
                <a:cubicBezTo>
                  <a:pt x="15841" y="11751"/>
                  <a:pt x="15949" y="11876"/>
                  <a:pt x="15949" y="11956"/>
                </a:cubicBezTo>
                <a:cubicBezTo>
                  <a:pt x="15949" y="12023"/>
                  <a:pt x="15822" y="12050"/>
                  <a:pt x="15776" y="12055"/>
                </a:cubicBezTo>
                <a:cubicBezTo>
                  <a:pt x="15681" y="12065"/>
                  <a:pt x="15598" y="12030"/>
                  <a:pt x="15503" y="12030"/>
                </a:cubicBezTo>
                <a:cubicBezTo>
                  <a:pt x="15445" y="12030"/>
                  <a:pt x="15425" y="12033"/>
                  <a:pt x="15379" y="12005"/>
                </a:cubicBezTo>
              </a:path>
              <a:path w="9278" h="2233">
                <a:moveTo>
                  <a:pt x="16371" y="11311"/>
                </a:moveTo>
                <a:cubicBezTo>
                  <a:pt x="16398" y="11382"/>
                  <a:pt x="16397" y="11461"/>
                  <a:pt x="16371" y="11534"/>
                </a:cubicBezTo>
                <a:cubicBezTo>
                  <a:pt x="16331" y="11645"/>
                  <a:pt x="16241" y="11725"/>
                  <a:pt x="16197" y="11832"/>
                </a:cubicBezTo>
                <a:cubicBezTo>
                  <a:pt x="16166" y="11906"/>
                  <a:pt x="16174" y="11988"/>
                  <a:pt x="16148" y="12055"/>
                </a:cubicBezTo>
                <a:cubicBezTo>
                  <a:pt x="16120" y="12083"/>
                  <a:pt x="16111" y="12096"/>
                  <a:pt x="16123" y="12129"/>
                </a:cubicBezTo>
              </a:path>
              <a:path w="9278" h="2233">
                <a:moveTo>
                  <a:pt x="15974" y="11286"/>
                </a:moveTo>
                <a:cubicBezTo>
                  <a:pt x="16030" y="11375"/>
                  <a:pt x="16105" y="11411"/>
                  <a:pt x="16173" y="11485"/>
                </a:cubicBezTo>
                <a:cubicBezTo>
                  <a:pt x="16293" y="11616"/>
                  <a:pt x="16403" y="11733"/>
                  <a:pt x="16545" y="11857"/>
                </a:cubicBezTo>
                <a:cubicBezTo>
                  <a:pt x="16672" y="11968"/>
                  <a:pt x="16765" y="12098"/>
                  <a:pt x="16892" y="12204"/>
                </a:cubicBezTo>
              </a:path>
              <a:path w="9278" h="2233">
                <a:moveTo>
                  <a:pt x="10096" y="10567"/>
                </a:moveTo>
                <a:cubicBezTo>
                  <a:pt x="10096" y="10793"/>
                  <a:pt x="10091" y="11016"/>
                  <a:pt x="10071" y="11237"/>
                </a:cubicBezTo>
                <a:cubicBezTo>
                  <a:pt x="10058" y="11375"/>
                  <a:pt x="10026" y="11497"/>
                  <a:pt x="9996" y="11633"/>
                </a:cubicBezTo>
                <a:cubicBezTo>
                  <a:pt x="9965" y="11772"/>
                  <a:pt x="9952" y="11918"/>
                  <a:pt x="9996" y="12055"/>
                </a:cubicBezTo>
                <a:cubicBezTo>
                  <a:pt x="10049" y="12219"/>
                  <a:pt x="10156" y="12401"/>
                  <a:pt x="10294" y="12502"/>
                </a:cubicBezTo>
                <a:cubicBezTo>
                  <a:pt x="10327" y="12518"/>
                  <a:pt x="10360" y="12535"/>
                  <a:pt x="10393" y="12551"/>
                </a:cubicBezTo>
              </a:path>
              <a:path w="9278" h="2233">
                <a:moveTo>
                  <a:pt x="11112" y="10567"/>
                </a:moveTo>
                <a:cubicBezTo>
                  <a:pt x="11196" y="10577"/>
                  <a:pt x="11277" y="10626"/>
                  <a:pt x="11336" y="10691"/>
                </a:cubicBezTo>
                <a:cubicBezTo>
                  <a:pt x="11432" y="10796"/>
                  <a:pt x="11564" y="11029"/>
                  <a:pt x="11609" y="11162"/>
                </a:cubicBezTo>
                <a:cubicBezTo>
                  <a:pt x="11676" y="11359"/>
                  <a:pt x="11763" y="11570"/>
                  <a:pt x="11782" y="11782"/>
                </a:cubicBezTo>
                <a:cubicBezTo>
                  <a:pt x="11795" y="11927"/>
                  <a:pt x="11821" y="12063"/>
                  <a:pt x="11782" y="12204"/>
                </a:cubicBezTo>
                <a:cubicBezTo>
                  <a:pt x="11755" y="12302"/>
                  <a:pt x="11738" y="12370"/>
                  <a:pt x="11658" y="12427"/>
                </a:cubicBezTo>
              </a:path>
              <a:path w="9278" h="2233">
                <a:moveTo>
                  <a:pt x="14064" y="10765"/>
                </a:moveTo>
                <a:cubicBezTo>
                  <a:pt x="14018" y="10857"/>
                  <a:pt x="13956" y="10959"/>
                  <a:pt x="13940" y="11063"/>
                </a:cubicBezTo>
                <a:cubicBezTo>
                  <a:pt x="13925" y="11166"/>
                  <a:pt x="13928" y="11312"/>
                  <a:pt x="13965" y="11410"/>
                </a:cubicBezTo>
                <a:cubicBezTo>
                  <a:pt x="14014" y="11540"/>
                  <a:pt x="14039" y="11692"/>
                  <a:pt x="14114" y="11807"/>
                </a:cubicBezTo>
                <a:cubicBezTo>
                  <a:pt x="14241" y="12003"/>
                  <a:pt x="14362" y="12184"/>
                  <a:pt x="14560" y="12303"/>
                </a:cubicBezTo>
              </a:path>
              <a:path w="9278" h="2233">
                <a:moveTo>
                  <a:pt x="16545" y="10468"/>
                </a:moveTo>
                <a:cubicBezTo>
                  <a:pt x="16597" y="10416"/>
                  <a:pt x="16637" y="10473"/>
                  <a:pt x="16669" y="10567"/>
                </a:cubicBezTo>
                <a:cubicBezTo>
                  <a:pt x="16735" y="10765"/>
                  <a:pt x="16797" y="10965"/>
                  <a:pt x="16867" y="11162"/>
                </a:cubicBezTo>
                <a:cubicBezTo>
                  <a:pt x="16939" y="11366"/>
                  <a:pt x="16942" y="11544"/>
                  <a:pt x="16942" y="11757"/>
                </a:cubicBezTo>
                <a:cubicBezTo>
                  <a:pt x="16942" y="11953"/>
                  <a:pt x="16967" y="12162"/>
                  <a:pt x="16917" y="12353"/>
                </a:cubicBezTo>
                <a:cubicBezTo>
                  <a:pt x="16887" y="12467"/>
                  <a:pt x="16819" y="12542"/>
                  <a:pt x="16743" y="12626"/>
                </a:cubicBezTo>
                <a:cubicBezTo>
                  <a:pt x="16735" y="12634"/>
                  <a:pt x="16726" y="12642"/>
                  <a:pt x="16718" y="126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9:43:48Z</dcterms:created>
  <dc:creator>jnewman</dc:creator>
  <dc:description/>
  <dc:language>en-US</dc:language>
  <cp:lastModifiedBy>abeason</cp:lastModifiedBy>
  <dcterms:modified xsi:type="dcterms:W3CDTF">2009-12-15T14:45:58Z</dcterms:modified>
  <cp:revision>14</cp:revision>
  <dc:subject/>
  <dc:title>Lesson 5.5 part three</dc:title>
</cp:coreProperties>
</file>